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1287-7F0A-4C52-AAE8-392AF5838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67DB-AE31-4027-8ACB-2A9FA64E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3A3F-5C90-4DBC-84F8-D0C5355B4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37A-28DC-4047-B181-CF3A4784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63FA-D290-4288-81C3-1D99A7AF0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94DD-1419-4BA6-A693-2BC9FF29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B13E-7BB4-437C-951C-E70A6893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911C-1A95-43FE-9453-C5B5E291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56F8-2B00-4ECD-920E-BF91CE9B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B097E-62E8-4865-95B5-AEC9BCF85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7136-36C6-4E37-B16D-C6BC4EAF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20D-42C8-4ADE-90A2-1C4CFE39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4C06-EC7B-46F5-9D99-0CEB1592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A4EC-0BE9-4963-9D78-C7945F09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4A14-E04B-4AC3-9A79-C284201C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0B1C-DFB4-4151-A213-D93C4825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6C1A-6B4D-4600-ADED-D78A3810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E106-28A4-4956-A70D-6A8C6F5A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369F-0250-4155-9002-68770D24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2A4-D2E2-4C8A-926E-A732AFA1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708-AA25-4AEE-B50A-92BBC0AE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2C7-ABF3-46AC-BD2A-9929C68D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91E-1C67-4520-BED2-F0B196E1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F55-32B9-46CC-BF28-88B41FAF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CA06-A898-42CD-9496-B5C39A47EA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JCT-VC, Geneva, November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6BD7-9FCF-4077-84A7-A5FA1C088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DA05-918D-4413-AAE0-FBB61AAFE2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590920" y="6356520"/>
            <a:ext cx="3962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JCT-VC, Geneva, Nov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12E5-CF0C-4B35-92A2-80F4D0C33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42524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CE2: Harmonization of HE residual coding and NSQ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45716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. Sole, X. Wang, M. Karczewicz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co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ubtitle 2"/>
          <p:cNvSpPr/>
          <p:nvPr/>
        </p:nvSpPr>
        <p:spPr>
          <a:xfrm>
            <a:off x="4952880" y="4572000"/>
            <a:ext cx="381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. Kim, B. Je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tle 1"/>
          <p:cNvSpPr/>
          <p:nvPr/>
        </p:nvSpPr>
        <p:spPr>
          <a:xfrm>
            <a:off x="76320" y="30481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CTVC-G7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SQ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s non-square transfo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ck sizes: 32×8, 8×32, 16×4, 4×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su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ropy coder only handles square blo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SQT introduces mappings between non-square transforms and ‘square-based’ entropy co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ra computational complex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ighborhood relation between coefficients is ‘broke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armonizatio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odify entropy coding in HE to handle similarly square and non-square blocks (without intermediate mapping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xts for significanc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ans for NSQT bl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st coefficient co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2590920" y="6356520"/>
            <a:ext cx="396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JCT-VC, Geneva, Nov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7619-83D4-4200-AA74-34E236536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SQT harmonization with CABA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ificance map co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xt derivation for the non-square blocks similar to square bl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cks with same sizes share (transposed) contex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cks 16×4 and 4×16 use contexts based on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cks 32×8 and 8×32 use the method for blocks 16×16 and 32×3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increase in the number of ocntex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st significant position co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ext depends on the length of the side of the bl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2590920" y="6356520"/>
            <a:ext cx="396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JCT-VC, Geneva, Nov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A6A8-8D82-460A-946D-935198772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95280" y="3657600"/>
          <a:ext cx="4267440" cy="876240"/>
        </p:xfrm>
        <a:graphic>
          <a:graphicData uri="http://schemas.openxmlformats.org/drawingml/2006/table">
            <a:tbl>
              <a:tblPr/>
              <a:tblGrid>
                <a:gridCol w="266760"/>
                <a:gridCol w="266760"/>
                <a:gridCol w="266760"/>
                <a:gridCol w="266760"/>
                <a:gridCol w="266760"/>
                <a:gridCol w="266400"/>
                <a:gridCol w="266760"/>
                <a:gridCol w="266760"/>
                <a:gridCol w="266760"/>
                <a:gridCol w="266760"/>
                <a:gridCol w="266760"/>
                <a:gridCol w="266400"/>
                <a:gridCol w="266760"/>
                <a:gridCol w="266760"/>
                <a:gridCol w="266760"/>
                <a:gridCol w="266760"/>
              </a:tblGrid>
              <a:tr h="2192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Box 12"/>
          <p:cNvSpPr/>
          <p:nvPr/>
        </p:nvSpPr>
        <p:spPr>
          <a:xfrm>
            <a:off x="1295280" y="4648320"/>
            <a:ext cx="15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6×4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391520" y="3124080"/>
          <a:ext cx="1066680" cy="3505320"/>
        </p:xfrm>
        <a:graphic>
          <a:graphicData uri="http://schemas.openxmlformats.org/drawingml/2006/table">
            <a:tbl>
              <a:tblPr/>
              <a:tblGrid>
                <a:gridCol w="266760"/>
                <a:gridCol w="266400"/>
                <a:gridCol w="266760"/>
                <a:gridCol w="266760"/>
              </a:tblGrid>
              <a:tr h="2192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Box 14"/>
          <p:cNvSpPr/>
          <p:nvPr/>
        </p:nvSpPr>
        <p:spPr>
          <a:xfrm>
            <a:off x="6245280" y="4648320"/>
            <a:ext cx="15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4×16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SQT harmonization with CABA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n harm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al of the mapping between non-square and  square bl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onal scan starting from left-bottom side for non-square blo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e extension of the square block c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2590920" y="6356520"/>
            <a:ext cx="396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JCT-VC, Geneva, Nov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1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BE53-DA92-4749-860B-29B7784B6B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90720" y="2971800"/>
          <a:ext cx="4267080" cy="876240"/>
        </p:xfrm>
        <a:graphic>
          <a:graphicData uri="http://schemas.openxmlformats.org/drawingml/2006/table">
            <a:tbl>
              <a:tblPr/>
              <a:tblGrid>
                <a:gridCol w="266760"/>
                <a:gridCol w="266400"/>
                <a:gridCol w="266760"/>
                <a:gridCol w="266760"/>
                <a:gridCol w="266760"/>
                <a:gridCol w="266760"/>
                <a:gridCol w="266760"/>
                <a:gridCol w="266400"/>
                <a:gridCol w="266760"/>
                <a:gridCol w="266760"/>
                <a:gridCol w="266760"/>
                <a:gridCol w="266760"/>
                <a:gridCol w="266760"/>
                <a:gridCol w="266400"/>
                <a:gridCol w="266760"/>
                <a:gridCol w="266760"/>
              </a:tblGrid>
              <a:tr h="2192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03" name="직선 화살표 연결선 8"/>
          <p:cNvCxnSpPr/>
          <p:nvPr/>
        </p:nvCxnSpPr>
        <p:spPr>
          <a:xfrm flipV="1">
            <a:off x="1134720" y="3105360"/>
            <a:ext cx="255240" cy="25380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104" name="직선 화살표 연결선 9"/>
          <p:cNvCxnSpPr/>
          <p:nvPr/>
        </p:nvCxnSpPr>
        <p:spPr>
          <a:xfrm flipV="1">
            <a:off x="1134000" y="3096360"/>
            <a:ext cx="510840" cy="5097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105" name="직선 화살표 연결선 10"/>
          <p:cNvCxnSpPr/>
          <p:nvPr/>
        </p:nvCxnSpPr>
        <p:spPr>
          <a:xfrm flipV="1">
            <a:off x="1191960" y="3101400"/>
            <a:ext cx="735120" cy="7196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106" name="직선 화살표 연결선 15"/>
          <p:cNvCxnSpPr/>
          <p:nvPr/>
        </p:nvCxnSpPr>
        <p:spPr>
          <a:xfrm flipV="1">
            <a:off x="1422360" y="3101760"/>
            <a:ext cx="721440" cy="6926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107" name="TextBox 18"/>
          <p:cNvSpPr/>
          <p:nvPr/>
        </p:nvSpPr>
        <p:spPr>
          <a:xfrm>
            <a:off x="2368440" y="3916440"/>
            <a:ext cx="15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6×4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553080" y="2911320"/>
          <a:ext cx="1067040" cy="3353040"/>
        </p:xfrm>
        <a:graphic>
          <a:graphicData uri="http://schemas.openxmlformats.org/drawingml/2006/table">
            <a:tbl>
              <a:tblPr/>
              <a:tblGrid>
                <a:gridCol w="266760"/>
                <a:gridCol w="266760"/>
                <a:gridCol w="266760"/>
                <a:gridCol w="266760"/>
              </a:tblGrid>
              <a:tr h="20988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88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Malgun Gothic"/>
                          <a:ea typeface="Malgun Gothic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109" name="직선 화살표 연결선 16"/>
          <p:cNvCxnSpPr/>
          <p:nvPr/>
        </p:nvCxnSpPr>
        <p:spPr>
          <a:xfrm flipV="1">
            <a:off x="6729120" y="2987280"/>
            <a:ext cx="255960" cy="25524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110" name="직선 화살표 연결선 17"/>
          <p:cNvCxnSpPr/>
          <p:nvPr/>
        </p:nvCxnSpPr>
        <p:spPr>
          <a:xfrm flipV="1">
            <a:off x="6729480" y="2979720"/>
            <a:ext cx="509400" cy="50868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111" name="직선 화살표 연결선 19"/>
          <p:cNvCxnSpPr/>
          <p:nvPr/>
        </p:nvCxnSpPr>
        <p:spPr>
          <a:xfrm flipV="1">
            <a:off x="6729480" y="3198240"/>
            <a:ext cx="792720" cy="70380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arrow" w="med"/>
          </a:ln>
        </p:spPr>
      </p:cxnSp>
      <p:cxnSp>
        <p:nvCxnSpPr>
          <p:cNvPr id="112" name="직선 화살표 연결선 22"/>
          <p:cNvCxnSpPr/>
          <p:nvPr/>
        </p:nvCxnSpPr>
        <p:spPr>
          <a:xfrm flipV="1">
            <a:off x="6679800" y="3014280"/>
            <a:ext cx="793080" cy="704160"/>
          </a:xfrm>
          <a:prstGeom prst="straightConnector1">
            <a:avLst/>
          </a:prstGeom>
          <a:ln w="19080">
            <a:solidFill>
              <a:srgbClr val="1f497d"/>
            </a:solidFill>
            <a:miter/>
            <a:tailEnd len="med" type="arrow" w="med"/>
          </a:ln>
        </p:spPr>
      </p:cxnSp>
      <p:sp>
        <p:nvSpPr>
          <p:cNvPr id="113" name="TextBox 24"/>
          <p:cNvSpPr/>
          <p:nvPr/>
        </p:nvSpPr>
        <p:spPr>
          <a:xfrm>
            <a:off x="5334120" y="5273640"/>
            <a:ext cx="15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4×16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 conditions, HE configu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-check: KAIST (JCTVC-G59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2590920" y="6356520"/>
            <a:ext cx="396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JCT-VC, Geneva, Nov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5CBA-3B02-4BE6-8750-16A465447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14400" y="1752480"/>
          <a:ext cx="5383080" cy="3409920"/>
        </p:xfrm>
        <a:graphic>
          <a:graphicData uri="http://schemas.openxmlformats.org/drawingml/2006/table">
            <a:tbl>
              <a:tblPr/>
              <a:tblGrid>
                <a:gridCol w="915840"/>
                <a:gridCol w="744840"/>
                <a:gridCol w="744480"/>
                <a:gridCol w="744480"/>
                <a:gridCol w="744480"/>
                <a:gridCol w="744480"/>
                <a:gridCol w="744480"/>
              </a:tblGrid>
              <a:tr h="3510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D-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[%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ightforward extension of HE entropy coding to non-square blo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onal scans and similar contexts for significanc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me number of contex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xity re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al of the intermediate mapping between block sha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ightly better BD-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2590920" y="6356520"/>
            <a:ext cx="396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JCT-VC, Geneva, Nov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358E-29A1-414A-8CC9-8C355F000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66680" y="4038480"/>
          <a:ext cx="5145120" cy="1096920"/>
        </p:xfrm>
        <a:graphic>
          <a:graphicData uri="http://schemas.openxmlformats.org/drawingml/2006/table">
            <a:tbl>
              <a:tblPr/>
              <a:tblGrid>
                <a:gridCol w="1285920"/>
                <a:gridCol w="1287360"/>
                <a:gridCol w="1285920"/>
                <a:gridCol w="1285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UV av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– 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B – 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P – 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th class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lass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8436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2590920" y="6356520"/>
            <a:ext cx="396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JCT-VC, Geneva, Nov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C551-2EA5-4BC4-BB81-22F9697CB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D-rate (with class F and low delay 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0666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 conditions, HE configu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2590920" y="6356520"/>
            <a:ext cx="396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JCT-VC, Geneva, Nov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FC1D-4B1E-484C-ABE8-BF62F8B18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07960" y="1860480"/>
          <a:ext cx="8350200" cy="3262320"/>
        </p:xfrm>
        <a:graphic>
          <a:graphicData uri="http://schemas.openxmlformats.org/drawingml/2006/table">
            <a:tbl>
              <a:tblPr/>
              <a:tblGrid>
                <a:gridCol w="893880"/>
                <a:gridCol w="620640"/>
                <a:gridCol w="622440"/>
                <a:gridCol w="620640"/>
                <a:gridCol w="622080"/>
                <a:gridCol w="621000"/>
                <a:gridCol w="620640"/>
                <a:gridCol w="622080"/>
                <a:gridCol w="621000"/>
                <a:gridCol w="622080"/>
                <a:gridCol w="620640"/>
                <a:gridCol w="621000"/>
                <a:gridCol w="622080"/>
              </a:tblGrid>
              <a:tr h="320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P 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20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3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9:08:38Z</dcterms:created>
  <dc:creator>Rajan Joshi</dc:creator>
  <dc:description/>
  <dc:language>en-US</dc:language>
  <cp:lastModifiedBy>Qualcomm User</cp:lastModifiedBy>
  <dcterms:modified xsi:type="dcterms:W3CDTF">2011-11-21T16:10:42Z</dcterms:modified>
  <cp:revision>180</cp:revision>
  <dc:subject/>
  <dc:title>Simplified Transforms for Extended Block Sizes</dc:title>
</cp:coreProperties>
</file>