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Click to move the slide</a:t>
            </a: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C46F-AA8F-4239-ADD5-7BC37354E0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7C28-6ED5-49BA-AFFB-5A699B57164D}" type="slidenum">
              <a:rPr b="0" lang="en-US" sz="1300" spc="-1" strike="noStrike">
                <a:solidFill>
                  <a:srgbClr val="1e1e1e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9BD42364-233D-4949-A6E9-044F36EA081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733400" y="601560"/>
            <a:ext cx="3494160" cy="2619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236160" y="3349800"/>
            <a:ext cx="6567480" cy="52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Click to edit the title text format</a:t>
            </a: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2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3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5" name="Text Box 14"/>
          <p:cNvSpPr/>
          <p:nvPr/>
        </p:nvSpPr>
        <p:spPr>
          <a:xfrm>
            <a:off x="8553600" y="648252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379C-A7AF-4C64-AF8C-EA37823490C0}" type="slidenum">
              <a:rPr b="1" lang="en-US" sz="900" spc="-1" strike="noStrike">
                <a:solidFill>
                  <a:srgbClr val="e31b2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8096400" y="6445080"/>
            <a:ext cx="419040" cy="1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31b23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TextBox 1"/>
          <p:cNvSpPr/>
          <p:nvPr/>
        </p:nvSpPr>
        <p:spPr>
          <a:xfrm>
            <a:off x="678600" y="6359040"/>
            <a:ext cx="204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Arial"/>
              </a:rPr>
              <a:t>© 2011 Motorola Mobility, Inc.</a:t>
            </a:r>
            <a:endParaRPr b="0" lang="en-US" sz="11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127080" y="4102200"/>
            <a:ext cx="8888400" cy="2562120"/>
          </a:xfrm>
          <a:prstGeom prst="rect">
            <a:avLst/>
          </a:prstGeom>
          <a:solidFill>
            <a:srgbClr val="b512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45" name="Group 12"/>
          <p:cNvGrpSpPr/>
          <p:nvPr/>
        </p:nvGrpSpPr>
        <p:grpSpPr>
          <a:xfrm>
            <a:off x="8244000" y="4403880"/>
            <a:ext cx="518760" cy="521640"/>
            <a:chOff x="8244000" y="4403880"/>
            <a:chExt cx="518760" cy="521640"/>
          </a:xfrm>
        </p:grpSpPr>
        <p:sp>
          <p:nvSpPr>
            <p:cNvPr id="46" name="Oval 13"/>
            <p:cNvSpPr/>
            <p:nvPr/>
          </p:nvSpPr>
          <p:spPr>
            <a:xfrm>
              <a:off x="8268840" y="4434480"/>
              <a:ext cx="479520" cy="46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47" name="Freeform 22"/>
            <p:cNvSpPr/>
            <p:nvPr/>
          </p:nvSpPr>
          <p:spPr>
            <a:xfrm>
              <a:off x="8244000" y="4403880"/>
              <a:ext cx="518760" cy="52164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48" name="Rectangle 20"/>
          <p:cNvSpPr/>
          <p:nvPr/>
        </p:nvSpPr>
        <p:spPr>
          <a:xfrm>
            <a:off x="378000" y="6323040"/>
            <a:ext cx="5371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OTOROLA and the Stylized M Logo are trademarks or registered trademarks of Motorola Trademark Holdings, LLC. All other trademarks are the property of their respective owners.  © 2011 Motorola Mobility, Inc.  All rights reserved.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Click to edit the title text format</a:t>
            </a: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78876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Klavika Motorola Bold SC"/>
              </a:rPr>
              <a:t>Simplification of Significant Map Coding for CABAC (JCTVC-G725)</a:t>
            </a:r>
            <a:br>
              <a:rPr sz="2800"/>
            </a:b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72600" y="4300560"/>
            <a:ext cx="7745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lavika Motorola Bold SC"/>
              </a:rPr>
              <a:t>Vivian Kung, Krit Panusopon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Klavika Motorola Bold SC"/>
              </a:rPr>
              <a:t>Motorola Mobility, Inc.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9840" y="466560"/>
            <a:ext cx="838692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HM-4.0 Coding of Significant Map</a:t>
            </a: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7360" y="1768320"/>
            <a:ext cx="8346960" cy="39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190080" indent="-190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  <a:p>
            <a:pPr marL="190080" indent="-190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  <a:p>
            <a:pPr marL="190080" indent="-190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  <a:p>
            <a:pPr marL="190080" indent="-190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  <a:p>
            <a:pPr marL="190080" indent="-190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  <a:p>
            <a:pPr marL="190080" indent="-190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NSQT TU is mapped into square block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lvl="1" marL="535680" indent="-248400">
              <a:lnSpc>
                <a:spcPct val="80000"/>
              </a:lnSpc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32x8 mapped to 16x16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535680" indent="-248400">
              <a:lnSpc>
                <a:spcPct val="80000"/>
              </a:lnSpc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16x4 mapped to 8x8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535680" indent="-248400">
              <a:lnSpc>
                <a:spcPct val="80000"/>
              </a:lnSpc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e1e1e"/>
              </a:solidFill>
              <a:latin typeface="Arial"/>
            </a:endParaRPr>
          </a:p>
          <a:p>
            <a:pPr marL="190080" indent="-190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16x16 and 32x32 blocks determine context model based on either its position or its neighbors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lvl="1" marL="535680" indent="-248400">
              <a:lnSpc>
                <a:spcPct val="80000"/>
              </a:lnSpc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Zone 1: Context 31 for (0,0), 32 for (1,0) and 33 for (0,1)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535680" indent="-248400">
              <a:lnSpc>
                <a:spcPct val="80000"/>
              </a:lnSpc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Zone 2: Context 34-38 depends on 5 neighbors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535680" indent="-248400">
              <a:lnSpc>
                <a:spcPct val="80000"/>
              </a:lnSpc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Zone 3: Context 39-43 depends on 5 neighbors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98" name="Group 39"/>
          <p:cNvGrpSpPr/>
          <p:nvPr/>
        </p:nvGrpSpPr>
        <p:grpSpPr>
          <a:xfrm>
            <a:off x="2997360" y="1046160"/>
            <a:ext cx="5502240" cy="2649600"/>
            <a:chOff x="2997360" y="1046160"/>
            <a:chExt cx="5502240" cy="2649600"/>
          </a:xfrm>
        </p:grpSpPr>
        <p:sp>
          <p:nvSpPr>
            <p:cNvPr id="99" name="AutoShape 40"/>
            <p:cNvSpPr/>
            <p:nvPr/>
          </p:nvSpPr>
          <p:spPr>
            <a:xfrm>
              <a:off x="2997360" y="1046160"/>
              <a:ext cx="5502240" cy="26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00" name="Rectangle 42"/>
            <p:cNvSpPr/>
            <p:nvPr/>
          </p:nvSpPr>
          <p:spPr>
            <a:xfrm>
              <a:off x="3057480" y="1122120"/>
              <a:ext cx="2286000" cy="221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e1e1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e1e1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e1e1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e1e1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e1e1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e1e1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01" name="Rectangle 43"/>
            <p:cNvSpPr/>
            <p:nvPr/>
          </p:nvSpPr>
          <p:spPr>
            <a:xfrm>
              <a:off x="3057480" y="112212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02" name="Rectangle 44"/>
            <p:cNvSpPr/>
            <p:nvPr/>
          </p:nvSpPr>
          <p:spPr>
            <a:xfrm>
              <a:off x="3286080" y="1122120"/>
              <a:ext cx="229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03" name="Rectangle 45"/>
            <p:cNvSpPr/>
            <p:nvPr/>
          </p:nvSpPr>
          <p:spPr>
            <a:xfrm>
              <a:off x="3057480" y="135108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04" name="Rectangle 46"/>
            <p:cNvSpPr/>
            <p:nvPr/>
          </p:nvSpPr>
          <p:spPr>
            <a:xfrm>
              <a:off x="3286080" y="135108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05" name="Rectangle 47"/>
            <p:cNvSpPr/>
            <p:nvPr/>
          </p:nvSpPr>
          <p:spPr>
            <a:xfrm>
              <a:off x="3515040" y="1122120"/>
              <a:ext cx="2286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06" name="Rectangle 48"/>
            <p:cNvSpPr/>
            <p:nvPr/>
          </p:nvSpPr>
          <p:spPr>
            <a:xfrm>
              <a:off x="3057480" y="1580040"/>
              <a:ext cx="2286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07" name="Rectangle 49"/>
            <p:cNvSpPr/>
            <p:nvPr/>
          </p:nvSpPr>
          <p:spPr>
            <a:xfrm>
              <a:off x="3743640" y="1122120"/>
              <a:ext cx="2286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08" name="Rectangle 50"/>
            <p:cNvSpPr/>
            <p:nvPr/>
          </p:nvSpPr>
          <p:spPr>
            <a:xfrm>
              <a:off x="3972240" y="1122120"/>
              <a:ext cx="2286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09" name="Rectangle 51"/>
            <p:cNvSpPr/>
            <p:nvPr/>
          </p:nvSpPr>
          <p:spPr>
            <a:xfrm>
              <a:off x="3057480" y="1807920"/>
              <a:ext cx="228600" cy="2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10" name="Rectangle 52"/>
            <p:cNvSpPr/>
            <p:nvPr/>
          </p:nvSpPr>
          <p:spPr>
            <a:xfrm>
              <a:off x="3286080" y="1580040"/>
              <a:ext cx="2286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11" name="Rectangle 53"/>
            <p:cNvSpPr/>
            <p:nvPr/>
          </p:nvSpPr>
          <p:spPr>
            <a:xfrm>
              <a:off x="3515040" y="1351080"/>
              <a:ext cx="2286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12" name="Rectangle 54"/>
            <p:cNvSpPr/>
            <p:nvPr/>
          </p:nvSpPr>
          <p:spPr>
            <a:xfrm>
              <a:off x="3743640" y="1351080"/>
              <a:ext cx="2286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13" name="Rectangle 55"/>
            <p:cNvSpPr/>
            <p:nvPr/>
          </p:nvSpPr>
          <p:spPr>
            <a:xfrm>
              <a:off x="3057480" y="2036520"/>
              <a:ext cx="2286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14" name="Rectangle 56"/>
            <p:cNvSpPr/>
            <p:nvPr/>
          </p:nvSpPr>
          <p:spPr>
            <a:xfrm>
              <a:off x="3286080" y="1807920"/>
              <a:ext cx="228600" cy="2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15" name="Rectangle 57"/>
            <p:cNvSpPr/>
            <p:nvPr/>
          </p:nvSpPr>
          <p:spPr>
            <a:xfrm>
              <a:off x="3515040" y="1580040"/>
              <a:ext cx="2286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16" name="Text Box 72"/>
            <p:cNvSpPr/>
            <p:nvPr/>
          </p:nvSpPr>
          <p:spPr>
            <a:xfrm>
              <a:off x="7097400" y="3407760"/>
              <a:ext cx="393840" cy="28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Proposed Coding of Significant Map</a:t>
            </a: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7360" y="1768320"/>
            <a:ext cx="8346960" cy="39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199080" indent="-199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  <a:p>
            <a:pPr marL="199080" indent="-199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  <a:p>
            <a:pPr marL="199080" indent="-199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  <a:p>
            <a:pPr marL="199080" indent="-199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  <a:p>
            <a:pPr marL="199080" indent="-199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  <a:p>
            <a:pPr marL="199080" indent="-199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NSQT TU is mapped into square block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lvl="1" marL="560880" indent="-259920">
              <a:lnSpc>
                <a:spcPct val="80000"/>
              </a:lnSpc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32x8 mapped to 16x16, applied the proposed method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560880" indent="-259920">
              <a:lnSpc>
                <a:spcPct val="80000"/>
              </a:lnSpc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16x4 mapped to 8x8, no change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560880" indent="-259920">
              <a:lnSpc>
                <a:spcPct val="80000"/>
              </a:lnSpc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199080" indent="-199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16x16 and 32x32 blocks determine context model based on only on its neighbors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lvl="1" marL="560880" indent="-259920">
              <a:lnSpc>
                <a:spcPct val="80000"/>
              </a:lnSpc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Zone 2: Context 34-38 depends on 5 neighbors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560880" indent="-259920">
              <a:lnSpc>
                <a:spcPct val="80000"/>
              </a:lnSpc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Zone 3: Context 39-43 depends on 5 neighbors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560880" indent="-259920">
              <a:lnSpc>
                <a:spcPct val="80000"/>
              </a:lnSpc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119" name="Group 39"/>
          <p:cNvGrpSpPr/>
          <p:nvPr/>
        </p:nvGrpSpPr>
        <p:grpSpPr>
          <a:xfrm>
            <a:off x="171360" y="1046160"/>
            <a:ext cx="5502240" cy="2649600"/>
            <a:chOff x="171360" y="1046160"/>
            <a:chExt cx="5502240" cy="2649600"/>
          </a:xfrm>
        </p:grpSpPr>
        <p:sp>
          <p:nvSpPr>
            <p:cNvPr id="120" name="AutoShape 40"/>
            <p:cNvSpPr/>
            <p:nvPr/>
          </p:nvSpPr>
          <p:spPr>
            <a:xfrm>
              <a:off x="171360" y="1046160"/>
              <a:ext cx="5502240" cy="26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21" name="Rectangle 41"/>
            <p:cNvSpPr/>
            <p:nvPr/>
          </p:nvSpPr>
          <p:spPr>
            <a:xfrm>
              <a:off x="3281400" y="1122120"/>
              <a:ext cx="2285280" cy="221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e1e1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e1e1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e1e1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e1e1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e1e1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e1e1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22" name="Rectangle 58"/>
            <p:cNvSpPr/>
            <p:nvPr/>
          </p:nvSpPr>
          <p:spPr>
            <a:xfrm>
              <a:off x="3281400" y="1122120"/>
              <a:ext cx="22680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23" name="Rectangle 59"/>
            <p:cNvSpPr/>
            <p:nvPr/>
          </p:nvSpPr>
          <p:spPr>
            <a:xfrm>
              <a:off x="3508560" y="1122120"/>
              <a:ext cx="23004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24" name="Rectangle 60"/>
            <p:cNvSpPr/>
            <p:nvPr/>
          </p:nvSpPr>
          <p:spPr>
            <a:xfrm>
              <a:off x="3281400" y="1351080"/>
              <a:ext cx="22680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25" name="Rectangle 61"/>
            <p:cNvSpPr/>
            <p:nvPr/>
          </p:nvSpPr>
          <p:spPr>
            <a:xfrm>
              <a:off x="3508560" y="1351080"/>
              <a:ext cx="229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26" name="Rectangle 62"/>
            <p:cNvSpPr/>
            <p:nvPr/>
          </p:nvSpPr>
          <p:spPr>
            <a:xfrm>
              <a:off x="3738240" y="1122120"/>
              <a:ext cx="2286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27" name="Rectangle 63"/>
            <p:cNvSpPr/>
            <p:nvPr/>
          </p:nvSpPr>
          <p:spPr>
            <a:xfrm>
              <a:off x="3281400" y="1580040"/>
              <a:ext cx="2268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28" name="Rectangle 64"/>
            <p:cNvSpPr/>
            <p:nvPr/>
          </p:nvSpPr>
          <p:spPr>
            <a:xfrm>
              <a:off x="3966840" y="1122120"/>
              <a:ext cx="2286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29" name="Rectangle 65"/>
            <p:cNvSpPr/>
            <p:nvPr/>
          </p:nvSpPr>
          <p:spPr>
            <a:xfrm>
              <a:off x="4195800" y="1122120"/>
              <a:ext cx="2286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30" name="Rectangle 66"/>
            <p:cNvSpPr/>
            <p:nvPr/>
          </p:nvSpPr>
          <p:spPr>
            <a:xfrm>
              <a:off x="3281400" y="1808640"/>
              <a:ext cx="2268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31" name="Rectangle 67"/>
            <p:cNvSpPr/>
            <p:nvPr/>
          </p:nvSpPr>
          <p:spPr>
            <a:xfrm>
              <a:off x="3508560" y="1580040"/>
              <a:ext cx="22932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32" name="Rectangle 68"/>
            <p:cNvSpPr/>
            <p:nvPr/>
          </p:nvSpPr>
          <p:spPr>
            <a:xfrm>
              <a:off x="3738240" y="135108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33" name="Rectangle 69"/>
            <p:cNvSpPr/>
            <p:nvPr/>
          </p:nvSpPr>
          <p:spPr>
            <a:xfrm>
              <a:off x="3966840" y="135108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34" name="Rectangle 70"/>
            <p:cNvSpPr/>
            <p:nvPr/>
          </p:nvSpPr>
          <p:spPr>
            <a:xfrm>
              <a:off x="3281400" y="2036520"/>
              <a:ext cx="2268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35" name="Rectangle 71"/>
            <p:cNvSpPr/>
            <p:nvPr/>
          </p:nvSpPr>
          <p:spPr>
            <a:xfrm>
              <a:off x="3508560" y="1808640"/>
              <a:ext cx="22932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36" name="Text Box 72"/>
            <p:cNvSpPr/>
            <p:nvPr/>
          </p:nvSpPr>
          <p:spPr>
            <a:xfrm>
              <a:off x="4271400" y="3407760"/>
              <a:ext cx="393840" cy="28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37" name="Rectangle 73"/>
            <p:cNvSpPr/>
            <p:nvPr/>
          </p:nvSpPr>
          <p:spPr>
            <a:xfrm>
              <a:off x="3738240" y="1580040"/>
              <a:ext cx="22860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e1e1e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98520" y="1523880"/>
          <a:ext cx="8405640" cy="4498920"/>
        </p:xfrm>
        <a:graphic>
          <a:graphicData uri="http://schemas.openxmlformats.org/drawingml/2006/table">
            <a:tbl>
              <a:tblPr/>
              <a:tblGrid>
                <a:gridCol w="2467080"/>
                <a:gridCol w="1901520"/>
                <a:gridCol w="2017800"/>
                <a:gridCol w="2019240"/>
              </a:tblGrid>
              <a:tr h="510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U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V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3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1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11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3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6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6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2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6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4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3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5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3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10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12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02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lass F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0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08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4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Overall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3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0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5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SimSun"/>
                        </a:rPr>
                        <a:t>0.03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SimSun"/>
                        </a:rPr>
                        <a:t>-0.01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SimSun"/>
                        </a:rPr>
                        <a:t>0.03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4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70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Simulation Results - AIHE</a:t>
            </a: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387360" y="1447920"/>
          <a:ext cx="8393040" cy="4703760"/>
        </p:xfrm>
        <a:graphic>
          <a:graphicData uri="http://schemas.openxmlformats.org/drawingml/2006/table">
            <a:tbl>
              <a:tblPr/>
              <a:tblGrid>
                <a:gridCol w="2462040"/>
                <a:gridCol w="1976760"/>
                <a:gridCol w="1977840"/>
                <a:gridCol w="1976400"/>
              </a:tblGrid>
              <a:tr h="55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U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V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4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29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19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2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8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3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5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11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3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6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4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17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lass F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04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8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27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Overall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3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04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11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SimSun"/>
                        </a:rPr>
                        <a:t>0.03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SimSun"/>
                        </a:rPr>
                        <a:t>-0.04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SimSun"/>
                        </a:rPr>
                        <a:t>-0.08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2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3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Simulation Results - RAHE</a:t>
            </a: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374760" y="1562040"/>
          <a:ext cx="8429400" cy="4521240"/>
        </p:xfrm>
        <a:graphic>
          <a:graphicData uri="http://schemas.openxmlformats.org/drawingml/2006/table">
            <a:tbl>
              <a:tblPr/>
              <a:tblGrid>
                <a:gridCol w="2471760"/>
                <a:gridCol w="1985760"/>
                <a:gridCol w="1986120"/>
                <a:gridCol w="1985760"/>
              </a:tblGrid>
              <a:tr h="53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U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V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3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34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46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11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16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32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3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64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25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8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1.01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24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lass F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14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53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5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Overall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2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25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15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SimSun"/>
                        </a:rPr>
                        <a:t>0.02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SimSun"/>
                        </a:rPr>
                        <a:t>-0.27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SimSun"/>
                        </a:rPr>
                        <a:t>-0.16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4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4%</a:t>
                      </a:r>
                      <a:endParaRPr b="0" lang="en-US" sz="2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Simulation Results - LBHE</a:t>
            </a: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b23"/>
                </a:solidFill>
                <a:latin typeface="Klavika Motorola Bold SC"/>
              </a:rPr>
              <a:t>Conclusions</a:t>
            </a:r>
            <a:endParaRPr b="1" lang="en-US" sz="3200" spc="-1" strike="noStrike">
              <a:solidFill>
                <a:srgbClr val="e31b23"/>
              </a:solidFill>
              <a:latin typeface="Klavika Motorola Bold S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Save 3 contexts for coding of significant map for large TU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One context determination method for all coefficients in large block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Less than 0.03% performance loss in all cases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Further improvement expected with different zone 2 and zone 3 division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Recommend further study in a CE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0" y="1992240"/>
            <a:ext cx="9144000" cy="28735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385000" y="1434960"/>
            <a:ext cx="4326120" cy="1008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445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e1e1e"/>
                </a:solidFill>
                <a:latin typeface="Arial"/>
              </a:rPr>
              <a:t>Thank You!</a:t>
            </a:r>
            <a:endParaRPr b="0" lang="en-US" sz="6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22:14:02Z</dcterms:created>
  <dc:creator>Amanda Cohen</dc:creator>
  <dc:description/>
  <dc:language>en-US</dc:language>
  <cp:lastModifiedBy>MGI1538</cp:lastModifiedBy>
  <cp:lastPrinted>2011-01-13T16:35:06Z</cp:lastPrinted>
  <dcterms:modified xsi:type="dcterms:W3CDTF">2011-11-26T09:05:41Z</dcterms:modified>
  <cp:revision>793</cp:revision>
  <dc:subject/>
  <dc:title>BUSINESS UNIT NAME</dc:title>
</cp:coreProperties>
</file>