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80AD7-68F1-4B03-9717-2201AEAF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805D-B1ED-4BCF-967E-637AA3D213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99A3-E8A0-4B41-B166-1B02F433B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B7B9-22B4-4C83-9494-03F7E48B4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89F9-01D1-4933-AD3D-9B231BEA0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293C-212B-4A91-AFAE-8EE98DBCC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DCBF5-F5EC-4413-9679-F3B9E182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70CE0-8A14-4F04-B2AC-4B3A540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0F41-FB31-4D9F-B2F9-BAB43D25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F3AC1-6A4A-4694-A90E-8CAC054A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B317D-F79C-488A-AB79-06B2007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61287-5745-456A-BD8A-E41CF17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30262-C03D-49F0-9585-5E2A54F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141B-3B67-4369-A259-B7F059186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4C4AD-9680-4BF2-8660-FCA3157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C156-4A2F-4C4F-949F-2A83F2F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10F3-DBB2-4DAD-8199-74A2A4B8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03F9F-F90A-4FB9-8018-563E6190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5F13E-6400-4A73-8CD6-9CF7FB0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5E26-5845-454C-A2FD-62AB8BC3A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BDD1-0713-4E02-9A0B-EB0D0EE54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4820-96FA-4591-AC24-F4017EC7D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57E9-99D0-4F52-BD1D-7B74AABA9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00C5-01FA-4600-AE75-52BEFCB3C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5899-24D1-408D-807A-DF612A3A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E167-E829-4F98-93AD-2C3B7A32B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1D66FEE-434C-4702-A5A9-25F56D4AC9D5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E626CB1-E832-46EB-AD75-29EC2EB1BEEE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rmonization of Entry Points for Tiles and Wavefront Processing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G722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iran Misra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 the previous meeting, WPP and Tiles were adopted into H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oth approaches include a system for signaling entry points to the decod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quired for WPP decod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ables parallel process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for low latency decoding of T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propose to harmonize the solutions and use a single method for signaling the entry poin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blem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5027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PP entry points are the locations of the substreams in the bit-str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le entry points are the locations of the tiles in the bit-str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48600" y="1949400"/>
            <a:ext cx="6000840" cy="455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83440" y="1268280"/>
            <a:ext cx="5027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7.3.3 Slice header syntax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Chang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posed Chang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rge substream and tile signaling into single syna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llow for signaling WPP locations at bit resolution and Tile locations at byte loc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0002" t="19386" r="29323" b="10883"/>
          <a:stretch/>
        </p:blipFill>
        <p:spPr>
          <a:xfrm>
            <a:off x="7972560" y="1316160"/>
            <a:ext cx="6083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harmonized method for signaling WPP and Tile entry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adoption of this technique to 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JCTVC-F275</cp:lastModifiedBy>
  <dcterms:modified xsi:type="dcterms:W3CDTF">2011-11-24T09:37:21Z</dcterms:modified>
  <cp:revision>678</cp:revision>
  <dc:subject/>
  <dc:title>PowerPoint Presentation</dc:title>
</cp:coreProperties>
</file>