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B9C155-A04D-44CE-A473-0B8FCA588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32A1D5-7A21-495C-9EB1-6E06B43D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729-0C62-4D45-BE9D-72760C25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3B8-6847-43E5-AB4B-9A56504A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067-3FFF-4C37-A8C8-6D3D78AC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B23-898D-49FC-8246-D943A8BD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FBF-1557-4B22-B1C1-49DC89C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FD2-E7F8-44ED-978F-C3F2EDD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2CF-D901-4608-8E1B-75C8438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AF5-A22B-4E9E-B8A5-84FEFDA2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7FF-FC8E-4A89-BC70-4A3B18F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AFC-AED9-4D95-A9F7-82077D6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FBC-B3CC-472D-B370-BE24F44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6F5-E85F-4C97-B125-41D8B9BB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09C8-24C0-43A9-98EF-B7C5686284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G720: Dequantization with symmetric reconstruction poi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is Kerofsky, Kiran Misra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71DA-B46B-4CDA-B904-933D287703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TVC-E243: Dequantization is based on integer multiplication, offset, and right shif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Q =  ((level*IQ &lt;&lt; (QP/6)) + offset)&gt;&gt;(M-1+DB),  offset = 1&lt;&lt;(M-2+D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ion points are not always symmetrically distributed i.e. DQ(-level)!=-DQ(level) for some situations but nearly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st case Dquant calculation uses 17 signed bits for signed level value implying multiplication in Dequant can’t use 16-bit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quant offset proposals i.e. JCTVC-G728, JCTVC-G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|level| during dequantization in motivation i.e. JVT-N01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d to E243, larger offset values used in dequantization increasing lack of symmetry of reconstructio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 level and right shift implementation differs from theory and introduces bias in reconstruction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D83-3118-4F1F-BE68-9F3CC3F4B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quantization process described using absolute value of level and sign of level separat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effQ  =  Sgn(level)((|level|*IQ &lt;&lt; (QP/6)) + offset)&gt;&gt;(M-1+DB),  offset = 1&lt;&lt;(M-2+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 this definition of Sgn(x) differs from the definition of Sign(x) used in WD text in that Sgn(0)=0 but Sign(0)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E52-12EF-4137-87D4-C213386AFD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916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struction points clearly symmetric about zero i.e. DQ(-|level|) = -DQ(|level|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use  of 16-bit unsigned multiplier for dequantization in all cases avoiding the need for 17-bit signed multiply for low QP, 32x32 block, and 10-bi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d handling of dequantization offset modifications if ado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Proposed dequantization formula  is identical to existing HM4.0 design on common conditions QP=22, 27, 32, 37 since the right shift is by at most 4 bits and the term IQ&lt;&lt;(QP/6) is divisible by 2^4 for this range of Q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 Computation of |level| unneeded in implementation since sign and magnitude signaled individ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E6C4-FC25-4C63-995A-F511C6EF3B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d a produce reconstruction points symmetrically located about zero even when an offset is used in dequantization.  Dequantization can be achieved with 16-bit unsigned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: Adoption of technique into HE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B378-E809-42E5-8EDE-1D573A77C2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3:09:02Z</dcterms:created>
  <dc:creator>lkerofsky</dc:creator>
  <dc:description/>
  <dc:language>en-US</dc:language>
  <cp:lastModifiedBy>Kerofsky, Louis</cp:lastModifiedBy>
  <dcterms:modified xsi:type="dcterms:W3CDTF">2011-11-18T01:04:06Z</dcterms:modified>
  <cp:revision>938</cp:revision>
  <dc:subject/>
  <dc:title>Slide 1</dc:title>
</cp:coreProperties>
</file>