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4630400" cy="82296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457200" y="718920"/>
            <a:ext cx="64008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7A4FB-EECF-4C6F-880B-349CE0A83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BA021-348B-48F7-81C2-9D93574438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57200" y="719280"/>
            <a:ext cx="64008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EB94-916A-4B37-81A7-B70351D6E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26F2D-B74C-48FB-BB63-5A975DB84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A780A-31D7-47F6-B09D-24E85382D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87A1-9F05-4BF6-B18F-9960DD9E8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3AB69-C4D9-4D27-A5B3-61CEA585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03271-6EB2-4CF1-94E9-3AF529F2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84EA1-492E-481E-943B-2E3483E4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8E63F-D042-4F2D-A13C-0FA47F7C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1C96A-CD07-4F1B-AB7C-3AFEBD42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37D2E-96D9-4BB9-8368-7FC8CABE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6010E-CAC5-4F6F-8A29-7BA887C8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A8263-DAB0-4E23-9B76-62905348E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97815-9CE1-43F7-9CF7-70E51915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88389-2316-4BA8-8F4A-3B49F3A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AD914-487A-4D81-B1C3-325E2B6F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815D0-7DFB-41E9-8BEB-5EE17695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17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506520" y="182880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969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3017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9506520" y="4407480"/>
            <a:ext cx="40042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5A169-4E90-44AC-BE71-0D0240DC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63B1D-8A7A-4B24-A818-1FF4B17E8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C9A4B-EA88-42FC-8ECD-276361DCB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0984-1B63-4DDD-96BB-7D0A91535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56000" y="92160"/>
            <a:ext cx="10274400" cy="25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1B96-749C-48BD-9F16-70DFABEC8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E2C4-F65C-40DE-B634-BE2C5BBFB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69640" y="440748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368C-1A14-4F3F-839D-3F46E89C2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56000" y="46440"/>
            <a:ext cx="10274400" cy="6030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1828800"/>
            <a:ext cx="606888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4407480"/>
            <a:ext cx="12436560" cy="23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6013-D540-44E0-AA72-9A8A7946FB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16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7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" name="Picture 18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9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20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21"/>
          <p:cNvSpPr/>
          <p:nvPr/>
        </p:nvSpPr>
        <p:spPr>
          <a:xfrm>
            <a:off x="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5364000" y="7864560"/>
            <a:ext cx="46339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1011888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F8230A49-ADFD-4A8B-BDE3-247F95E2A19C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7"/>
          <p:cNvSpPr/>
          <p:nvPr/>
        </p:nvSpPr>
        <p:spPr>
          <a:xfrm>
            <a:off x="4287960" y="0"/>
            <a:ext cx="10362960" cy="82224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20520" y="822240"/>
            <a:ext cx="4267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19" descr="sharplogo"/>
          <p:cNvPicPr/>
          <p:nvPr/>
        </p:nvPicPr>
        <p:blipFill>
          <a:blip r:embed="rId2"/>
          <a:stretch/>
        </p:blipFill>
        <p:spPr>
          <a:xfrm>
            <a:off x="873000" y="200160"/>
            <a:ext cx="2683080" cy="315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0"/>
          <p:cNvSpPr/>
          <p:nvPr/>
        </p:nvSpPr>
        <p:spPr>
          <a:xfrm>
            <a:off x="4287960" y="822240"/>
            <a:ext cx="10362960" cy="1843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21" descr="besharp"/>
          <p:cNvPicPr/>
          <p:nvPr/>
        </p:nvPicPr>
        <p:blipFill>
          <a:blip r:embed="rId3"/>
          <a:stretch/>
        </p:blipFill>
        <p:spPr>
          <a:xfrm>
            <a:off x="12455640" y="7908840"/>
            <a:ext cx="2043000" cy="32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2"/>
          <p:cNvSpPr/>
          <p:nvPr/>
        </p:nvSpPr>
        <p:spPr>
          <a:xfrm>
            <a:off x="0" y="7864560"/>
            <a:ext cx="12192120" cy="36504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79360" y="458640"/>
            <a:ext cx="3535560" cy="2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1400" rIns="131400" tIns="65880" bIns="658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 A B O R A T O R I E S  O F   A M E R I C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0520" y="1006560"/>
            <a:ext cx="146304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633680" indent="-3272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2286000" indent="-326880">
              <a:spcBef>
                <a:spcPts val="85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938320" indent="-32544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24408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4"/>
          </p:nvPr>
        </p:nvSpPr>
        <p:spPr>
          <a:xfrm>
            <a:off x="5486400" y="7864560"/>
            <a:ext cx="463248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5"/>
          </p:nvPr>
        </p:nvSpPr>
        <p:spPr>
          <a:xfrm>
            <a:off x="10363320" y="786456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E73D49C6-6EF8-4CEA-8119-3C04C683D96C}" type="slidenum"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4"/>
          <p:cNvSpPr/>
          <p:nvPr/>
        </p:nvSpPr>
        <p:spPr>
          <a:xfrm>
            <a:off x="244440" y="7864560"/>
            <a:ext cx="30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b">
            <a:no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3174840"/>
            <a:ext cx="13279320" cy="3291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 CABAC_init_idc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JCTVC-G716</a:t>
            </a:r>
            <a:br>
              <a:rPr sz="3100"/>
            </a:br>
            <a:r>
              <a:rPr b="1" i="1" lang="en-US" sz="31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iran Misra and Andrew Segall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e propose to clarify the meaning of cabac_init_idc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ur benefi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Reduced number of tables compared to AVC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rovements in coding efficienc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larification of the HEVC desig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6141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8000"/>
          </a:bodyPr>
          <a:p>
            <a:pPr marL="480600" indent="-480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abac_init_id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40760" indent="-40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 AVC, cabac_init_idc is signaled to control the initialization of CABAC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40760" indent="-40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or P and B slices, cabac_init_idc allows selection between three initialization tabl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40760" indent="-40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otal number of tables: 7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1-Intra, 3-P, 3-B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480600" indent="-480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EVC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040760" indent="-40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abac_init_idc syntax in the slice head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40760" indent="-40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mantics indicate support for 7 table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40760" indent="-40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 normative behavior for cabac_init_idc equal to 1 or 2 in WD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1040760" indent="-40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Not present in softwar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86720" y="2274840"/>
            <a:ext cx="6513480" cy="1542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743960" y="4317840"/>
            <a:ext cx="6448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abac_init_idc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ecifies the index for determining the initialisation table used in the initialisation process for context variables. The value of cabac_init_idc shall be in the range of 0 to 2, inclusiv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3598640" y="559260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VC WD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Further Motivation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28800"/>
            <a:ext cx="124365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85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ur finding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e have not found evidence that multiple tables for P and B slices are beneficial for HEVC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spcBef>
                <a:spcPts val="726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e observe that using the P slice table for B slices (and B slice tables for P slices) does provide coding benefit.  This appears largely associated with the use of forward predicted B slices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Problem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1210140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647640" indent="-647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aintain the number of tables for CABAC initialization to three.  (As compared to the 7 anticipated with the WD semantics.)  This is consistent with the HM softwa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fine cabac_init_idc to be a one-bit flag to allow for P slice types to be initialized with either the “P slice type” table or “B slice type” table.  Similarly, to allow for B slice types to be initialized with either the “P slice type” table or “B slice type” table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gnal the presence of cabac_init_idc in the PPS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(or SPS if single entropy coder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55000"/>
              <a:buFont typeface="Tahoma"/>
              <a:buAutoNum type="arabicPeriod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Define the P slice table to be the default table for forward predicted B slic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ptionally, rename the syntax element to cabac_init_flag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560" y="1848960"/>
            <a:ext cx="6141960" cy="49374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-49068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ynatax and semantic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743960" y="6261120"/>
            <a:ext cx="6448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abac_init_idc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ecifies the index for determining the initialisation table used in the initialisation process for context variables. </a:t>
            </a: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When cabac_init_idc is not present, it shall be inferred to be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3598640" y="75358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VC WD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3280" y="3038400"/>
            <a:ext cx="7027920" cy="2133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48480" y="3033720"/>
            <a:ext cx="6818400" cy="1809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5120" y="6256440"/>
            <a:ext cx="6448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abac_init_idc_enabled_flag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 equal to 0 specifies that cabac_init_idc is not present in the slice header.  When cabac_init_idc_enabled_flag is not present, it shall be inferred to be 0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sult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5457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Common test conditio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Average Impact on BD rat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: 0.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D-B: -0.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Benefit related to the number of initializations per coded bits…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440" y="1843200"/>
            <a:ext cx="455616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Result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96560" y="1828800"/>
            <a:ext cx="5457960" cy="4937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906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iles test condition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Average Impact on BD rat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: -0.1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2000" indent="-409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D-B: -0.3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37600" y="1700280"/>
            <a:ext cx="47322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56000" y="92160"/>
            <a:ext cx="10274400" cy="5572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56960" y="1250640"/>
            <a:ext cx="13052520" cy="54608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649440" indent="-649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opose clarification of the cabac_init_idc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ABAC initialization tables defined to be 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ac_init_idc is defined as a binary flag that allows selection of either the “P” or “B” table for all inter-predicted slic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table for a forward predicted B slice be the P slic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rification of the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number of number of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-552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efficiency impr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77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04920" indent="-55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e to adopt to W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6:56:50Z</dcterms:created>
  <dc:creator>Jack Van Oosterhout</dc:creator>
  <dc:description/>
  <dc:language>en-US</dc:language>
  <cp:lastModifiedBy>JCTVC-F275</cp:lastModifiedBy>
  <dcterms:modified xsi:type="dcterms:W3CDTF">2011-11-24T12:05:40Z</dcterms:modified>
  <cp:revision>677</cp:revision>
  <dc:subject/>
  <dc:title>PowerPoint Presentation</dc:title>
</cp:coreProperties>
</file>