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FD2EAB-0F26-446B-94ED-BFFB9B87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77294F-DAA9-4BB0-B098-865E8C4ED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519E00-6486-4FD5-90BA-ADEBE737E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9DC-2716-47AA-B41B-BDF0BD42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5A9-EA4F-4B1E-9962-D1235F27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72A-5A41-4189-AC73-B4B3E542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881-EEBE-4253-8586-25DFA9AC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0D1-9F6C-4DC4-BD0C-EFE41736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3C0-22FD-4A89-AB84-83AFF62C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FF9-2F68-4061-B44D-BC621789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7FA-FBBC-4F62-975B-DB5DC953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F6F-7E02-40AC-85C2-B3FDD105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FF6-918D-4461-B546-36B94EED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C45-1B1D-4FDE-AC1C-C6847F86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FAB-2017-44FD-A97C-6CACA86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23D9-A258-4276-B71F-F256EE9CC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tp://ftp.hhi.de/ahg21/JCTVC-F803_d5_RPS_r2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G714: On Picture Referenc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Sachin Deshpande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68C1-0168-4446-9747-F2B956E1A6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F493 Proposed absolute signaling of reference pictures which supports error robust management of reference pictures using Reference Picture Sets (R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G21 was formed at the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CT-VC meeting. AHG21 has produced a candidate working draft specification for signaling reference pic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rawbacks being 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-F493 and the latest AHG21 WD* currently do not support long term pictures effici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, signaling RPS in PPS is an efficient signaling scheme, if the “desired RPS” differs from that defined in PPS a more expensive “explicit signaling” scheme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2BA0-9A28-40C9-B3C8-696F7AB7C9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5946840" y="6296040"/>
            <a:ext cx="3193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 ftp://ftp.hhi.de/ahg21/JCTVC-F803_d5_RPS_r2.doc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thod to replace, delete or append entries to a RPS defined in the P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thod to signal long term pictures using absolute 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thod to define in PPS a RPS containing long term pi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EEE0-0413-434B-812F-75B9F8409B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ication of RPS in P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44C7-1634-472C-9732-7F9537E2CF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295280" y="1981080"/>
            <a:ext cx="61722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12952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traight Connector 9"/>
          <p:cNvSpPr/>
          <p:nvPr/>
        </p:nvSpPr>
        <p:spPr>
          <a:xfrm>
            <a:off x="74674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2" name="Straight Arrow Connector 11"/>
          <p:cNvCxnSpPr/>
          <p:nvPr/>
        </p:nvCxnSpPr>
        <p:spPr>
          <a:xfrm>
            <a:off x="3276360" y="1599840"/>
            <a:ext cx="205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12"/>
          <p:cNvSpPr/>
          <p:nvPr/>
        </p:nvSpPr>
        <p:spPr>
          <a:xfrm>
            <a:off x="3123000" y="126216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roved bit effici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7162920" y="2362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int to RPS in P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04640" y="2362320"/>
            <a:ext cx="18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icit signaling in slice-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3008160"/>
            <a:ext cx="861048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pose syntax for achieving intermediate bit efficiency points by allowing following operations on RPS defined in P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fficient way of signaling delete and appen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pictures no longer providing R-D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pictures prior to CRA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dding long term reference 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"/>
          <p:cNvPicPr/>
          <p:nvPr/>
        </p:nvPicPr>
        <p:blipFill>
          <a:blip r:embed="rId1"/>
          <a:srcRect l="7513" t="0" r="7513" b="0"/>
          <a:stretch/>
        </p:blipFill>
        <p:spPr>
          <a:xfrm>
            <a:off x="2457360" y="914400"/>
            <a:ext cx="3409920" cy="5788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Syntax: RPS Mod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1"/>
          <p:cNvGrpSpPr/>
          <p:nvPr/>
        </p:nvGrpSpPr>
        <p:grpSpPr>
          <a:xfrm>
            <a:off x="2209680" y="3657600"/>
            <a:ext cx="5078160" cy="2743200"/>
            <a:chOff x="2209680" y="3657600"/>
            <a:chExt cx="5078160" cy="2743200"/>
          </a:xfrm>
        </p:grpSpPr>
        <p:sp>
          <p:nvSpPr>
            <p:cNvPr id="80" name="Oval 3"/>
            <p:cNvSpPr/>
            <p:nvPr/>
          </p:nvSpPr>
          <p:spPr>
            <a:xfrm>
              <a:off x="2209680" y="3657600"/>
              <a:ext cx="358164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TextBox 4"/>
            <p:cNvSpPr/>
            <p:nvPr/>
          </p:nvSpPr>
          <p:spPr>
            <a:xfrm>
              <a:off x="5990040" y="396216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plac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Oval 5"/>
            <p:cNvSpPr/>
            <p:nvPr/>
          </p:nvSpPr>
          <p:spPr>
            <a:xfrm>
              <a:off x="2209680" y="4800600"/>
              <a:ext cx="3581640" cy="685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Oval 6"/>
            <p:cNvSpPr/>
            <p:nvPr/>
          </p:nvSpPr>
          <p:spPr>
            <a:xfrm>
              <a:off x="2209680" y="5486400"/>
              <a:ext cx="3581640" cy="9144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5991840" y="48769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elet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TextBox 9"/>
            <p:cNvSpPr/>
            <p:nvPr/>
          </p:nvSpPr>
          <p:spPr>
            <a:xfrm>
              <a:off x="5977080" y="57150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Appen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nal long term pictures using absolute P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12D6-2DCD-428C-A31D-4D9FD7488C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8" name="Straight Arrow Connector 6"/>
          <p:cNvCxnSpPr/>
          <p:nvPr/>
        </p:nvCxnSpPr>
        <p:spPr>
          <a:xfrm flipH="1">
            <a:off x="7162200" y="4876560"/>
            <a:ext cx="5338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9" name="TextBox 7"/>
          <p:cNvSpPr/>
          <p:nvPr/>
        </p:nvSpPr>
        <p:spPr>
          <a:xfrm>
            <a:off x="7791480" y="4707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MSB (POC) + LSB (POC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387360" y="1371600"/>
            <a:ext cx="70423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PS (defined in PPS) containing long term pic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A4AE-F807-4411-8A36-176A9C57DF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80880" y="8618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enable long term pictures combining with locally varying deltaPOC referenc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58720" y="2666880"/>
            <a:ext cx="8024760" cy="3299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465120" y="1981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Change 1, 2: Absolute POC, LTR in R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4495680" y="990720"/>
            <a:ext cx="441972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m_longterm_p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pecifies the number of long term pictures specified in R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ngterm_pics_only_fla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quals to 1 identifies that the reference picture set contains long term pictures only. longterm_pics_only_flag equals to 0 identifies that the reference picture set contains both short term and long term pictu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ngterm_poc [ i 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pecifies the picture order count of the i-th long term picture being referenced. The longterm_poc [ i ] is the sum of POC MSB and POC LSB for the long term picture being referenc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d_by_curr_pic_lt_flag[ i 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qual to 1 (0) specifies that the i-th long term picture is used (not used) for reference by the current pictur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rcRect l="18038" t="0" r="18038" b="0"/>
          <a:stretch/>
        </p:blipFill>
        <p:spPr>
          <a:xfrm>
            <a:off x="380880" y="914400"/>
            <a:ext cx="3889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po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thod to replace, delete or append entries to a reference picture set defined in the picture parameter s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thod to signal long-term pictures using absolute PO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thod to define in PPS a RPS containing long term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: Adoption of our proposed methods into HE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953-5985-4B6E-A375-4057186C83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3:09:02Z</dcterms:created>
  <dc:creator>lkerofsky</dc:creator>
  <dc:description/>
  <dc:language>en-US</dc:language>
  <cp:lastModifiedBy>Kiran Misra</cp:lastModifiedBy>
  <dcterms:modified xsi:type="dcterms:W3CDTF">2011-11-19T01:05:26Z</dcterms:modified>
  <cp:revision>936</cp:revision>
  <dc:subject/>
  <dc:title>Slide 1</dc:title>
</cp:coreProperties>
</file>