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60A48D-8F58-4F76-BB9E-67007FF6A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52EB26-D8F7-4FB8-BAD2-D4A01BB09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D1BD82-C974-4D75-826E-F69A6B21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C3E3-0032-41C0-B71D-B9F4F582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4F5-C6B3-4F13-90E5-B075A4C7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E55-BB09-4BA0-BD6A-2D94E956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A87-5E26-4473-87E6-A3A60798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1A7-E96B-4BCB-9CEA-EA1EB3B0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416-8154-43C4-B2D8-2102FF8C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4ED-2A75-41E2-BD50-A9938942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B00-9BF3-4D6B-869D-134CBCBA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2F9-59AD-46F5-9D41-69C42B6F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39B-A894-481D-B33B-1735926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307-F490-4EB7-89E1-8726C7AF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DC3-AD0B-41F3-83EB-00597845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C0E5-E8E2-496A-9F76-D92FDC7537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tp://ftp.hhi.de/ahg21/JCTVC-F803_d5_RPS_r2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G713: Long term picture referencing using wrapped PO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an Misra, Sachin Deshpande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0B09-97FA-4AF2-B709-27FC49B650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ckgrou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CTVC-F493 originally proposed “wrapped POC” with POC numbering in [0,…,MaxPOC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dvant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numbering of a picture is independent of other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rawbac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ists a problem with POC number re-use after POC wrap-around. For example, a long term reference pictures may have a POC in-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Solution 1: “stepping over” POC which are in-use. However, this results in shrinking of POC numbering 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solution 2: increase the “number of bits” for POC numbering. However, this reduces overall compression effici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test AHG 21 WD* includes MSB (POC) / LSB (POC) picture numbering mechanism which introduces dependency on past pictures for determining current pictures P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AFDE-589D-4649-86F5-EE1F049762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5946840" y="6296040"/>
            <a:ext cx="3193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 ftp://ftp.hhi.de/ahg21/JCTVC-F803_d5_RPS_r2.do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scheme salient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pose a signaling scheme for long term reference pictures which has the following salient fea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use of the available POC numbering space with the ability to uniquely identify a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n wrapped POC, the proposed referencing scheme is contained within the picture being decoded, resulting in better error resiliency compared to schemes which have dependency on other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D7BD-050E-4C2B-801A-A18FB8E217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: Us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c_cy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along with wrapped POC for uniquely identifying long term reference pictu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illust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FED-B6A0-4410-B619-787F928A58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638280" y="2666880"/>
            <a:ext cx="7866000" cy="2530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957840" y="5791320"/>
            <a:ext cx="50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q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f picture with same P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3" name="Straight Arrow Connector 15"/>
          <p:cNvCxnSpPr/>
          <p:nvPr/>
        </p:nvCxnSpPr>
        <p:spPr>
          <a:xfrm flipV="1">
            <a:off x="3428640" y="4342680"/>
            <a:ext cx="1080" cy="1067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74" name="Straight Connector 22"/>
          <p:cNvSpPr/>
          <p:nvPr/>
        </p:nvSpPr>
        <p:spPr>
          <a:xfrm flipH="1">
            <a:off x="759960" y="5410080"/>
            <a:ext cx="2668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5" name="Straight Arrow Connector 23"/>
          <p:cNvCxnSpPr/>
          <p:nvPr/>
        </p:nvCxnSpPr>
        <p:spPr>
          <a:xfrm flipV="1">
            <a:off x="759960" y="4342680"/>
            <a:ext cx="1080" cy="1067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76" name="Straight Connector 13"/>
          <p:cNvSpPr/>
          <p:nvPr/>
        </p:nvSpPr>
        <p:spPr>
          <a:xfrm flipH="1">
            <a:off x="3429000" y="5410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Straight Connector 25"/>
          <p:cNvSpPr/>
          <p:nvPr/>
        </p:nvSpPr>
        <p:spPr>
          <a:xfrm>
            <a:off x="6553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8" name="Straight Arrow Connector 27"/>
          <p:cNvCxnSpPr/>
          <p:nvPr/>
        </p:nvCxnSpPr>
        <p:spPr>
          <a:xfrm flipV="1">
            <a:off x="6095520" y="4342680"/>
            <a:ext cx="1080" cy="1067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taPOC vs Proposed approach for long term pic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C5D2-37D0-452E-BDCC-EFACE83678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6002280" cy="3608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3049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ng-term pictures bits consumed for deltaPOC signaling can potentially become very lar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Synta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5638680" y="990720"/>
            <a:ext cx="327672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m_longterm_p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pecifies the number of long term pictures specified in R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ngterm_poc [ i 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pecifies the picture order count of the i-th long term picture being referenc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ngterm_poc_cycle[ i 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pecifies the cycle parameter for the picture order count of the i-th long term picture being referenc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d_by_curr_pic_lt_flag[ i 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qual to 1 (0) specifies that the i-th long term picture is used (not used) for reference by the current pictur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7519" t="0" r="7519" b="0"/>
          <a:stretch/>
        </p:blipFill>
        <p:spPr>
          <a:xfrm>
            <a:off x="304920" y="1219320"/>
            <a:ext cx="51688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pose the use of wrapped POC for numbering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thod using a poc_cycle field to signal long term pictures efficiently when using wrapped POC is propos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signaling is independent of other pictures, and maintains the simplicity of wrapped POC sign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comes issues of POC space shrinkage by avoiding step-over of P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: Adoption into HEVC WD of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apped POC numb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c_cycle for long term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2E0C-E4A2-44BE-98E9-B747B20D93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up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5AB0-C96F-4755-BB3B-01614CB78A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ef description of poc_cycle determ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c_cycle field is determined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c_cycle for the current picture being decoded is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ctures other than that being decoded determine their poc_cycle with respect to the picture being decod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c_cycle of a long term reference picture in DPB is updated based on the direction of transition for the picture being decoded at the POC wraparound bound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3115-1533-4FA7-86BE-FEB6EEEF8B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1:46:25Z</dcterms:created>
  <dc:creator>lkerofsky</dc:creator>
  <dc:description/>
  <dc:language>en-US</dc:language>
  <cp:lastModifiedBy>Kiran Misra</cp:lastModifiedBy>
  <dcterms:modified xsi:type="dcterms:W3CDTF">2011-11-19T01:10:14Z</dcterms:modified>
  <cp:revision>899</cp:revision>
  <dc:subject/>
  <dc:title>Slide 1</dc:title>
</cp:coreProperties>
</file>