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7BA711-C35D-43F9-A1AD-24835A47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61DFA4-63B1-47CF-A08A-916CA1FD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1B84FC-864B-4803-85C2-B93C2B4A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BD9-A44A-42DC-B028-99FA141B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3A7-3B3B-4FF2-8A93-4E450F3D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68D-6AD3-4792-BC8F-E592273F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CFA-BFB7-46E5-8F18-ECF7B7EC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A2A-00CF-4F1E-AACB-CA5E309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72B-54E2-4DCD-82EC-3E9FE30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549-7A83-4101-BECC-A35FB39A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063-1A3F-4AE9-B0A9-CC78BC24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7E1-1AAB-45E7-AE2D-B2E87F79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BF0-295E-49E6-96D3-1B57E335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B7D-0A44-40DF-B2F9-A6674F8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C59-E589-4AD8-8663-6A0C1EC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19AA-B343-4BA2-8F72-0EF00FC3EE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G707: Using CABAC bypass mode for coding intra prediction mo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244-6CD3-4E7E-8DDD-97E65CCDC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 CABAC mode for intra coding mode syntax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m_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_intra_luma_pred_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act on coding efficiency for HM-4.0 commo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0.0% U:0.0% V:0.0%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:0.0% U:0.0% V:0.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0.0% U:0.0% V:-0.5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:0.0% U:-0.2% V:-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dentical to those proposed in JCTVC-G7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5AE-3751-4C63-B88F-D3B80B5A58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CABAC bin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ketballDrill, all intra, QP=22 (21% increase in bypass b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ketballDrill, all intra, QP=37 (81% increase in bypass b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DFA-A6BA-4128-B82D-9B2936AD9A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Chart 5" descr=""/>
          <p:cNvPicPr/>
          <p:nvPr/>
        </p:nvPicPr>
        <p:blipFill>
          <a:blip r:embed="rId1"/>
          <a:stretch/>
        </p:blipFill>
        <p:spPr>
          <a:xfrm>
            <a:off x="1549440" y="1320840"/>
            <a:ext cx="5054400" cy="2311200"/>
          </a:xfrm>
          <a:prstGeom prst="rect">
            <a:avLst/>
          </a:prstGeom>
          <a:ln w="0">
            <a:noFill/>
          </a:ln>
        </p:spPr>
      </p:pic>
      <p:pic>
        <p:nvPicPr>
          <p:cNvPr id="67" name="Chart 6" descr=""/>
          <p:cNvPicPr/>
          <p:nvPr/>
        </p:nvPicPr>
        <p:blipFill>
          <a:blip r:embed="rId2"/>
          <a:stretch/>
        </p:blipFill>
        <p:spPr>
          <a:xfrm>
            <a:off x="1549440" y="3911760"/>
            <a:ext cx="505440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R-D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E1AD-A065-4D20-A8B1-6B5E57317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44480" y="1424160"/>
          <a:ext cx="5931000" cy="4466880"/>
        </p:xfrm>
        <a:graphic>
          <a:graphicData uri="http://schemas.openxmlformats.org/drawingml/2006/table">
            <a:tbl>
              <a:tblPr/>
              <a:tblGrid>
                <a:gridCol w="735120"/>
                <a:gridCol w="676440"/>
                <a:gridCol w="674640"/>
                <a:gridCol w="674640"/>
                <a:gridCol w="609480"/>
                <a:gridCol w="735120"/>
                <a:gridCol w="608040"/>
                <a:gridCol w="609480"/>
                <a:gridCol w="60804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pass CABAC mode for intra coding mode syntax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m_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_intra_luma_pred_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recommend that this change be adopted in WD and 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BCFF-A2DD-4609-9623-62D97A7C4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3:09:02Z</dcterms:created>
  <dc:creator>lkerofsky</dc:creator>
  <dc:description/>
  <dc:language>en-US</dc:language>
  <cp:lastModifiedBy>Kiran Misra</cp:lastModifiedBy>
  <dcterms:modified xsi:type="dcterms:W3CDTF">2011-11-17T23:51:39Z</dcterms:modified>
  <cp:revision>920</cp:revision>
  <dc:subject/>
  <dc:title>Slide 1</dc:title>
</cp:coreProperties>
</file>