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DC70EF-17A1-42D6-A60B-94E6D75C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4E13FB-8EB7-4A73-886A-604ABF62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49F0D-15A0-43A5-A7F7-DDADDF8D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298-B8F4-4640-8C21-AAB81DB4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040-FAD7-48F3-AFBE-12EA128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C29-02B1-4825-B101-3522B21F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E3-588B-49A7-B8AF-E757C639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721-5A20-45DF-B0FA-5796122D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F9F-0089-4A3B-97F3-DA48B697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FC5-0C3A-4BF3-8EF8-85C90E19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F64-6FA9-406C-9358-81F254D0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3A1-1709-47F8-8CA2-C11F8CB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4EA-87E3-49B5-9098-6539236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481-55DF-40C1-A15E-FAEF2E2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CBE-FB30-4B18-901D-8993AA4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3883-0B96-4C9D-8D60-4EC22CD2D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G705: CABAC simplification for explicit signaling mode of AMV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4E0-3F68-4E61-BAC0-99E9985E21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 CABAC mode for motion vector predictor index syntax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p_idx_lX i.e. mvp_idx_l0, mvp_idx_l1, mvp_idx_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BD bitrate for HM-4.0 commo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:0.0% U:0.0% V:0.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0.0% U:0.1% V: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_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:0.0% U:0.2% V:-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183-3636-4074-A72F-CA45CB40C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R-D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8C5E-2594-4083-8FE0-7B3B2317E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44480" y="1424160"/>
          <a:ext cx="5931000" cy="4466880"/>
        </p:xfrm>
        <a:graphic>
          <a:graphicData uri="http://schemas.openxmlformats.org/drawingml/2006/table">
            <a:tbl>
              <a:tblPr/>
              <a:tblGrid>
                <a:gridCol w="735120"/>
                <a:gridCol w="676440"/>
                <a:gridCol w="674640"/>
                <a:gridCol w="674640"/>
                <a:gridCol w="609480"/>
                <a:gridCol w="735120"/>
                <a:gridCol w="608040"/>
                <a:gridCol w="609480"/>
                <a:gridCol w="60804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Working Draft Mod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B0A-84BE-47FA-B390-62974AD97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Table 7" descr=""/>
          <p:cNvPicPr/>
          <p:nvPr/>
        </p:nvPicPr>
        <p:blipFill>
          <a:blip r:embed="rId1"/>
          <a:stretch/>
        </p:blipFill>
        <p:spPr>
          <a:xfrm>
            <a:off x="1139760" y="2840040"/>
            <a:ext cx="6321600" cy="2408400"/>
          </a:xfrm>
          <a:prstGeom prst="rect">
            <a:avLst/>
          </a:prstGeom>
          <a:ln w="0">
            <a:noFill/>
          </a:ln>
        </p:spPr>
      </p:pic>
      <p:pic>
        <p:nvPicPr>
          <p:cNvPr id="69" name="Table 8" descr=""/>
          <p:cNvPicPr/>
          <p:nvPr/>
        </p:nvPicPr>
        <p:blipFill>
          <a:blip r:embed="rId2"/>
          <a:stretch/>
        </p:blipFill>
        <p:spPr>
          <a:xfrm>
            <a:off x="3200400" y="5529240"/>
            <a:ext cx="2041560" cy="90792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1" descr=""/>
          <p:cNvPicPr/>
          <p:nvPr/>
        </p:nvPicPr>
        <p:blipFill>
          <a:blip r:embed="rId3"/>
          <a:stretch/>
        </p:blipFill>
        <p:spPr>
          <a:xfrm>
            <a:off x="1908000" y="5310360"/>
            <a:ext cx="5102280" cy="27288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11" descr=""/>
          <p:cNvPicPr/>
          <p:nvPr/>
        </p:nvPicPr>
        <p:blipFill>
          <a:blip r:embed="rId4"/>
          <a:stretch/>
        </p:blipFill>
        <p:spPr>
          <a:xfrm>
            <a:off x="500040" y="974880"/>
            <a:ext cx="3078360" cy="426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1066680" y="1366920"/>
            <a:ext cx="632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Table 9‑20 – Association of ctxIdx and syntax elements for each slice type in the initialisation proce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Table 14" descr=""/>
          <p:cNvPicPr/>
          <p:nvPr/>
        </p:nvPicPr>
        <p:blipFill>
          <a:blip r:embed="rId5"/>
          <a:stretch/>
        </p:blipFill>
        <p:spPr>
          <a:xfrm>
            <a:off x="914400" y="1620720"/>
            <a:ext cx="74073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pass CABAC mode for intra coding mode syntax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p_idx_l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recommend that this change be adopted in WD and 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CF3-173A-4E49-A840-D71C30E64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3:09:02Z</dcterms:created>
  <dc:creator>lkerofsky</dc:creator>
  <dc:description/>
  <dc:language>en-US</dc:language>
  <cp:lastModifiedBy>Kiran Misra</cp:lastModifiedBy>
  <dcterms:modified xsi:type="dcterms:W3CDTF">2011-11-19T02:01:21Z</dcterms:modified>
  <cp:revision>929</cp:revision>
  <dc:subject/>
  <dc:title>Slide 1</dc:title>
</cp:coreProperties>
</file>