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1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 type="sldNum" idx="1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7C72-1E75-4E80-AD8B-44056B645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4A47-499A-4022-9F74-68FBFF02CEAE}" type="slidenum">
              <a:rPr b="0" lang="en-US" sz="1200" spc="-1" strike="noStrike">
                <a:solidFill>
                  <a:srgbClr val="1e1e1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9303-23E3-4113-9A52-3418D9264A89}" type="slidenum">
              <a:rPr b="0" lang="en-US" sz="1200" spc="-1" strike="noStrike">
                <a:solidFill>
                  <a:srgbClr val="1e1e1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C13E65-A2C4-4A6B-A600-5C755A56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146D9D-3FED-4964-AB1E-B72A1497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9F134B-7DA4-4B1C-85C1-B2664964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1F5380-36BD-447A-B71A-AE8F503E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A5067D-CA51-436E-8A54-88AE6AB6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C0520C-3282-46B3-A487-9EB524DA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194A9F-88A9-495A-8474-C33E01E9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5B3817-1DD8-4F1A-BAFD-BE6FC512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6A1D59-B2A3-476B-B746-6EAAFFF8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28073E-8FE6-4763-9B5E-4283D280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F242BC-89DE-49C5-9986-F735DD4D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156A65-5D8D-423A-BD12-F6B20CB6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n coeff_abs_level_minus3 coding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4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5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7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F6C1-3BBD-45EB-9410-69C37DE3A896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9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10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821160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21D9-8B49-495B-A750-E39D31F23937}" type="datetime"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1 Motorola Mobility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127080" y="4102200"/>
            <a:ext cx="8888400" cy="2562120"/>
          </a:xfrm>
          <a:prstGeom prst="rect">
            <a:avLst/>
          </a:prstGeom>
          <a:solidFill>
            <a:srgbClr val="b512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51" name="Group 12"/>
          <p:cNvGrpSpPr/>
          <p:nvPr/>
        </p:nvGrpSpPr>
        <p:grpSpPr>
          <a:xfrm>
            <a:off x="8244000" y="4403880"/>
            <a:ext cx="518760" cy="521640"/>
            <a:chOff x="8244000" y="4403880"/>
            <a:chExt cx="518760" cy="521640"/>
          </a:xfrm>
        </p:grpSpPr>
        <p:sp>
          <p:nvSpPr>
            <p:cNvPr id="52" name="Oval 13"/>
            <p:cNvSpPr/>
            <p:nvPr/>
          </p:nvSpPr>
          <p:spPr>
            <a:xfrm>
              <a:off x="8268840" y="4434480"/>
              <a:ext cx="479520" cy="46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8244000" y="4403880"/>
              <a:ext cx="518760" cy="52164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54" name="Rectangle 20"/>
          <p:cNvSpPr/>
          <p:nvPr/>
        </p:nvSpPr>
        <p:spPr>
          <a:xfrm>
            <a:off x="378000" y="6323040"/>
            <a:ext cx="5371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OTOROLA and the Stylized M Logo are trademarks or registered trademarks of Motorola Trademark Holdings, LLC. All other trademarks are the property of their respective owners.  © 2011 Motorola Mobility, Inc.  All rights reserved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n coeff_abs_level_minus3 coding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95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96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98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BDB4-8BF0-4202-90F8-6AF58ADBE98F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00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101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3"/>
          </p:nvPr>
        </p:nvSpPr>
        <p:spPr>
          <a:xfrm>
            <a:off x="8220240" y="6359400"/>
            <a:ext cx="6076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5A23-63E3-428F-BB8F-55978D3709D7}" type="datetime"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4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1 Motorola Mobility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n coeff_abs_level_minus3 coding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146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48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6024-D079-4C57-A0B2-D18FA268E2C4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151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52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5"/>
          </p:nvPr>
        </p:nvSpPr>
        <p:spPr>
          <a:xfrm>
            <a:off x="8220240" y="6359400"/>
            <a:ext cx="6076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ADC1-492C-4F98-B2BE-13FA97FB670D}" type="datetime"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6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1 Motorola Mobility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n coeff_abs_level_minus3 coding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196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97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98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3320-4102-49F4-8ECF-4ADCF8C3D398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200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201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02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7"/>
          </p:nvPr>
        </p:nvSpPr>
        <p:spPr>
          <a:xfrm>
            <a:off x="8220240" y="6359400"/>
            <a:ext cx="6076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F9BB-21A5-40F8-A15D-EC6EFA4E5CC3}" type="datetime"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8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1 Motorola Mobility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On coeff_abs_level_minus3 coding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245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246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47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248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38FA-5A6E-405B-ABE4-6876CDC48856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250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251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252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7035-7DFF-408D-900C-2581ECD82215}" type="datetime">
              <a:rPr b="0" lang="zh-CN" sz="800" spc="-1" strike="noStrike">
                <a:solidFill>
                  <a:srgbClr val="7f7f7f"/>
                </a:solidFill>
                <a:latin typeface="Times New Roman"/>
              </a:rPr>
              <a:t>26/7/28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1e1e1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A883-9014-4D86-AFEF-C564E23C28BA}" type="slidenum">
              <a:rPr b="0" lang="zh-CN" sz="2400" spc="-1" strike="noStrike">
                <a:solidFill>
                  <a:srgbClr val="1e1e1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420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5121b"/>
                </a:solidFill>
                <a:latin typeface="Arial"/>
              </a:rPr>
              <a:t>JCTVC-G700 On coeff_abs_level_minus3 coding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289080" y="4300560"/>
            <a:ext cx="78292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ian Lou, Limin Wang, and Shuy Fang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orola Mobility                 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Detailed performance of removing cRiceParam resetting with new updating table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41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44B3-5AD2-4A31-932A-85E647738B9E}" type="datetime">
              <a:rPr b="0" lang="en-US" sz="800" spc="-1" strike="noStrike">
                <a:solidFill>
                  <a:srgbClr val="7f7f7f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42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1 Motorola Mobility, Inc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41120" y="1368360"/>
          <a:ext cx="3932280" cy="2595600"/>
        </p:xfrm>
        <a:graphic>
          <a:graphicData uri="http://schemas.openxmlformats.org/drawingml/2006/table">
            <a:tbl>
              <a:tblPr/>
              <a:tblGrid>
                <a:gridCol w="1140120"/>
                <a:gridCol w="930240"/>
                <a:gridCol w="931680"/>
                <a:gridCol w="930240"/>
              </a:tblGrid>
              <a:tr h="282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9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5049720" y="1319040"/>
          <a:ext cx="3814920" cy="2606760"/>
        </p:xfrm>
        <a:graphic>
          <a:graphicData uri="http://schemas.openxmlformats.org/drawingml/2006/table">
            <a:tbl>
              <a:tblPr/>
              <a:tblGrid>
                <a:gridCol w="1106640"/>
                <a:gridCol w="903240"/>
                <a:gridCol w="901800"/>
                <a:gridCol w="903240"/>
              </a:tblGrid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362320" y="4125960"/>
          <a:ext cx="3794040" cy="2225520"/>
        </p:xfrm>
        <a:graphic>
          <a:graphicData uri="http://schemas.openxmlformats.org/drawingml/2006/table">
            <a:tbl>
              <a:tblPr/>
              <a:tblGrid>
                <a:gridCol w="1100160"/>
                <a:gridCol w="898560"/>
                <a:gridCol w="896760"/>
                <a:gridCol w="898560"/>
              </a:tblGrid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uncated Rice Codes for symbols greater than 39 with cRiceParam equal to 2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In HM 4.0, codeword redundancies caused by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g_auiGoRicePrefixLen[4] = { 8, 10, 11, 8};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To remove codeword redundancies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g_auiGoRicePrefixLen[4] = { 8, 10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, 8};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973760" y="1736640"/>
          <a:ext cx="4008240" cy="4313160"/>
        </p:xfrm>
        <a:graphic>
          <a:graphicData uri="http://schemas.openxmlformats.org/drawingml/2006/table">
            <a:tbl>
              <a:tblPr/>
              <a:tblGrid>
                <a:gridCol w="600120"/>
                <a:gridCol w="1301760"/>
                <a:gridCol w="433080"/>
                <a:gridCol w="1239840"/>
                <a:gridCol w="433440"/>
              </a:tblGrid>
              <a:tr h="33516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Symbo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l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HM4.0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Fixe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Codewor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Codewor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9442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9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39539"/>
                          </a:solidFill>
                          <a:latin typeface="Times New Roman"/>
                          <a:ea typeface="Times New Roman"/>
                        </a:rPr>
                        <a:t>111111111011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39539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39539"/>
                          </a:solidFill>
                          <a:latin typeface="Times New Roman"/>
                          <a:ea typeface="Times New Roman"/>
                        </a:rPr>
                        <a:t>111111111011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39539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111111111000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11100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1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111111111001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11101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2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111111111010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11110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3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111111111011,EG0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11111,EG0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3</a:t>
                      </a:r>
                      <a:endParaRPr b="0" lang="en-US" sz="14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Fixing the problem of HM4.0 TR code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Specification of cTRMax depending on cRiceParam changed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Working draft modified with minimum changes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AIHE (Y/U/V): 0.0%/0.0%/0.0%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RAHE (Y/U/V): 0.0%/0.0%/0.0%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LBHE (Y/U/V): 0.0%/-0.1%/0.0%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6477120" y="1676520"/>
          <a:ext cx="2517480" cy="225396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cRiceParam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宋体"/>
                        </a:rPr>
                        <a:t>cTRMax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(7)</a:t>
                      </a:r>
                      <a:r>
                        <a:rPr b="1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 8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319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2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0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Detailed performance of fixing the problem of HM4.0 TR code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53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DC04-9E24-457F-BAB4-DA75E3EDD85F}" type="datetime">
              <a:rPr b="0" lang="zh-CN" sz="800" spc="-1" strike="noStrike">
                <a:solidFill>
                  <a:srgbClr val="7f7f7f"/>
                </a:solidFill>
                <a:latin typeface="Arial"/>
              </a:rPr>
              <a:t>26/7/28</a:t>
            </a:fld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5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247680" y="1474920"/>
          <a:ext cx="4102200" cy="2205000"/>
        </p:xfrm>
        <a:graphic>
          <a:graphicData uri="http://schemas.openxmlformats.org/drawingml/2006/table">
            <a:tbl>
              <a:tblPr/>
              <a:tblGrid>
                <a:gridCol w="1189080"/>
                <a:gridCol w="971640"/>
                <a:gridCol w="969840"/>
                <a:gridCol w="971640"/>
              </a:tblGrid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5114880" y="1405080"/>
          <a:ext cx="3697200" cy="2257200"/>
        </p:xfrm>
        <a:graphic>
          <a:graphicData uri="http://schemas.openxmlformats.org/drawingml/2006/table">
            <a:tbl>
              <a:tblPr/>
              <a:tblGrid>
                <a:gridCol w="1071720"/>
                <a:gridCol w="876240"/>
                <a:gridCol w="874800"/>
                <a:gridCol w="874440"/>
              </a:tblGrid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2468520" y="3967200"/>
          <a:ext cx="3952800" cy="2209680"/>
        </p:xfrm>
        <a:graphic>
          <a:graphicData uri="http://schemas.openxmlformats.org/drawingml/2006/table">
            <a:tbl>
              <a:tblPr/>
              <a:tblGrid>
                <a:gridCol w="1146240"/>
                <a:gridCol w="934920"/>
                <a:gridCol w="936720"/>
                <a:gridCol w="934920"/>
              </a:tblGrid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7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Recommend adopt the Truncated Rice code fix 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1"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Recommend adopt remove resetting cRiceParam (TR parameter) value and updating rule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1"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lvl="1"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e1e1e"/>
                </a:solidFill>
                <a:latin typeface="Arial"/>
              </a:rPr>
              <a:t>        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Thank You !</a:t>
            </a:r>
            <a:endParaRPr b="0" lang="en-US" sz="6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60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0C07-6CEA-4FA0-B601-D5E57A6EC143}" type="datetime">
              <a:rPr b="0" lang="zh-CN" sz="800" spc="-1" strike="noStrike">
                <a:solidFill>
                  <a:srgbClr val="7f7f7f"/>
                </a:solidFill>
                <a:latin typeface="Arial"/>
              </a:rPr>
              <a:t>26/7/28</a:t>
            </a:fld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6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Proposal consisting of two parts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Truncated Rice (TR) code parameter updating and TR code generation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Part 1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Remove resetting cRiceParam (TR parameter) value for each subset and a new updating table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Part 2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Fix the problem of the TR code generation and WD description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oeff_abs_level_minu3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Absolute value of a quantized transform coefficient level minus 3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Binarized with TR code with parameter cRiceParam and cTRMax (or with EG0 code)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cRiceParam controls the flatness of the codeword distribution (small value is preferred for small symbols)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cTRMax controls the truncation point for the rice code 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RiceParam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Initialized as 0 for each subset (resetting)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Updated after each coeff_ab_level_minu3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  <p:pic>
        <p:nvPicPr>
          <p:cNvPr id="309" name="Object 2" descr=""/>
          <p:cNvPicPr/>
          <p:nvPr/>
        </p:nvPicPr>
        <p:blipFill>
          <a:blip r:embed="rId1"/>
          <a:srcRect l="0" t="-3855" r="-1481" b="-438"/>
          <a:stretch/>
        </p:blipFill>
        <p:spPr>
          <a:xfrm>
            <a:off x="838080" y="274320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5"/>
          <p:cNvSpPr/>
          <p:nvPr/>
        </p:nvSpPr>
        <p:spPr>
          <a:xfrm>
            <a:off x="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11" name="Object 2"/>
          <p:cNvGraphicFramePr/>
          <p:nvPr/>
        </p:nvGraphicFramePr>
        <p:xfrm>
          <a:off x="4495680" y="2819520"/>
          <a:ext cx="3505320" cy="32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2819520"/>
                    <a:ext cx="350532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Text Box 7"/>
          <p:cNvSpPr/>
          <p:nvPr/>
        </p:nvSpPr>
        <p:spPr>
          <a:xfrm>
            <a:off x="914400" y="6095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Arial"/>
              </a:rPr>
              <a:t>HM2.0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4572000" y="6095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Arial"/>
              </a:rPr>
              <a:t>HM4.0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Remove cRiceParam resetting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Not needed assuming coeff_ab_level_minu3 getting larger statistically along the HM40 inverse scan 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e1e"/>
                </a:solidFill>
                <a:latin typeface="Arial"/>
              </a:rPr>
              <a:t>Save operations and hardware complexity, improve worst case performance (cRiceParam stay 3)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AIHE (Y/U/V): 0.0%/0.0%/0.0%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RAHE (Y/U/V): 0.0%/0.0%/0.0%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LBHE (Y/U/V): 0.0%/0.0%/0.1%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Detailed performance of removing cRiceParam resetting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18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AC2D-08E3-4FF5-9CC0-361F82C3C445}" type="datetime">
              <a:rPr b="0" lang="en-US" sz="800" spc="-1" strike="noStrike">
                <a:solidFill>
                  <a:srgbClr val="7f7f7f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1 Motorola Mobility, Inc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41120" y="1495440"/>
          <a:ext cx="3622680" cy="2347920"/>
        </p:xfrm>
        <a:graphic>
          <a:graphicData uri="http://schemas.openxmlformats.org/drawingml/2006/table">
            <a:tbl>
              <a:tblPr/>
              <a:tblGrid>
                <a:gridCol w="1049400"/>
                <a:gridCol w="858960"/>
                <a:gridCol w="857160"/>
                <a:gridCol w="857160"/>
              </a:tblGrid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5253120" y="1425600"/>
          <a:ext cx="3644640" cy="2417760"/>
        </p:xfrm>
        <a:graphic>
          <a:graphicData uri="http://schemas.openxmlformats.org/drawingml/2006/table">
            <a:tbl>
              <a:tblPr/>
              <a:tblGrid>
                <a:gridCol w="1057320"/>
                <a:gridCol w="861840"/>
                <a:gridCol w="862200"/>
                <a:gridCol w="863280"/>
              </a:tblGrid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5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2436840" y="3935520"/>
          <a:ext cx="3984480" cy="2446200"/>
        </p:xfrm>
        <a:graphic>
          <a:graphicData uri="http://schemas.openxmlformats.org/drawingml/2006/table">
            <a:tbl>
              <a:tblPr/>
              <a:tblGrid>
                <a:gridCol w="1155600"/>
                <a:gridCol w="943200"/>
                <a:gridCol w="942840"/>
                <a:gridCol w="942840"/>
              </a:tblGrid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%</a:t>
                      </a:r>
                      <a:endParaRPr b="0" lang="en-US" sz="16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urrent cRiceParam updating table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77640" y="1405080"/>
            <a:ext cx="329076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rained from HM2.0 stats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Not changed since HM2.0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Irregular if jumping to cRiceParam = 3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5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56FE-5146-469C-84C6-76EB62EFF7D0}" type="datetime">
              <a:rPr b="0" lang="en-US" sz="800" spc="-1" strike="noStrike">
                <a:solidFill>
                  <a:srgbClr val="7f7f7f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1 Motorola Mobility, Inc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821040" y="1395360"/>
          <a:ext cx="5157720" cy="4795920"/>
        </p:xfrm>
        <a:graphic>
          <a:graphicData uri="http://schemas.openxmlformats.org/drawingml/2006/table">
            <a:tbl>
              <a:tblPr/>
              <a:tblGrid>
                <a:gridCol w="739800"/>
                <a:gridCol w="881280"/>
                <a:gridCol w="384120"/>
                <a:gridCol w="666720"/>
                <a:gridCol w="384120"/>
                <a:gridCol w="666720"/>
                <a:gridCol w="384120"/>
                <a:gridCol w="666720"/>
                <a:gridCol w="384120"/>
              </a:tblGrid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RiceParam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Symbol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eword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eword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eword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eword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1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1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1,EG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1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1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1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00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Arial"/>
                          <a:ea typeface="宋体"/>
                        </a:rPr>
                        <a:t>13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01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3978360" y="6373800"/>
          <a:ext cx="1150920" cy="214200"/>
        </p:xfrm>
        <a:graphic>
          <a:graphicData uri="http://schemas.openxmlformats.org/drawingml/2006/table">
            <a:tbl>
              <a:tblPr/>
              <a:tblGrid>
                <a:gridCol w="801720"/>
                <a:gridCol w="3492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329" name="Content Placeholder 2"/>
          <p:cNvSpPr/>
          <p:nvPr/>
        </p:nvSpPr>
        <p:spPr>
          <a:xfrm>
            <a:off x="5408640" y="6335640"/>
            <a:ext cx="2593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HM4.0 table updating point</a:t>
            </a:r>
            <a:endParaRPr b="0" lang="en-US" sz="16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New updating table without cRiceParam resetting 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45680" y="4044600"/>
            <a:ext cx="3189240" cy="22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1400" indent="-2214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AIHE (Y/U/V):   </a:t>
            </a:r>
            <a:endParaRPr b="0" lang="en-US" sz="1600" spc="-1" strike="noStrike">
              <a:solidFill>
                <a:srgbClr val="1e1e1e"/>
              </a:solidFill>
              <a:latin typeface="Arial"/>
            </a:endParaRPr>
          </a:p>
          <a:p>
            <a:pPr marL="221400" indent="-2214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0.0%/0.0%/0.0%</a:t>
            </a:r>
            <a:endParaRPr b="0" lang="en-US" sz="1600" spc="-1" strike="noStrike">
              <a:solidFill>
                <a:srgbClr val="1e1e1e"/>
              </a:solidFill>
              <a:latin typeface="Arial"/>
            </a:endParaRPr>
          </a:p>
          <a:p>
            <a:pPr marL="221400" indent="-2214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RAHE (Y/U/V): </a:t>
            </a:r>
            <a:endParaRPr b="0" lang="en-US" sz="1600" spc="-1" strike="noStrike">
              <a:solidFill>
                <a:srgbClr val="1e1e1e"/>
              </a:solidFill>
              <a:latin typeface="Arial"/>
            </a:endParaRPr>
          </a:p>
          <a:p>
            <a:pPr marL="221400" indent="-2214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0.0%/0.1%/0.0%</a:t>
            </a:r>
            <a:endParaRPr b="0" lang="en-US" sz="1600" spc="-1" strike="noStrike">
              <a:solidFill>
                <a:srgbClr val="1e1e1e"/>
              </a:solidFill>
              <a:latin typeface="Arial"/>
            </a:endParaRPr>
          </a:p>
          <a:p>
            <a:pPr marL="221400" indent="-2214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LBHE (Y/U/V): </a:t>
            </a:r>
            <a:endParaRPr b="0" lang="en-US" sz="1600" spc="-1" strike="noStrike">
              <a:solidFill>
                <a:srgbClr val="1e1e1e"/>
              </a:solidFill>
              <a:latin typeface="Arial"/>
            </a:endParaRPr>
          </a:p>
          <a:p>
            <a:pPr marL="221400" indent="-2214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0.0%/-0.2%/-0.2%</a:t>
            </a:r>
            <a:endParaRPr b="0" lang="en-US" sz="16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443400" y="1382760"/>
          <a:ext cx="5337000" cy="4960800"/>
        </p:xfrm>
        <a:graphic>
          <a:graphicData uri="http://schemas.openxmlformats.org/drawingml/2006/table">
            <a:tbl>
              <a:tblPr/>
              <a:tblGrid>
                <a:gridCol w="780840"/>
                <a:gridCol w="766800"/>
                <a:gridCol w="379440"/>
                <a:gridCol w="795240"/>
                <a:gridCol w="405000"/>
                <a:gridCol w="690480"/>
                <a:gridCol w="392040"/>
                <a:gridCol w="703440"/>
                <a:gridCol w="423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RiceParam</a:t>
                      </a:r>
                      <a:endParaRPr b="0" lang="en-US" sz="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Symbol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word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word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word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Codeword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Bits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01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011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11,EG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9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1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0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01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011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11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110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10100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e1e1e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Rectangle 3"/>
          <p:cNvSpPr/>
          <p:nvPr/>
        </p:nvSpPr>
        <p:spPr>
          <a:xfrm>
            <a:off x="353880" y="1401840"/>
            <a:ext cx="303372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No loss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regular updating rule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1e1e"/>
                </a:solidFill>
                <a:latin typeface="Arial"/>
              </a:rPr>
              <a:t>No updating table with simplified logics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475160" y="6478560"/>
          <a:ext cx="1150920" cy="214200"/>
        </p:xfrm>
        <a:graphic>
          <a:graphicData uri="http://schemas.openxmlformats.org/drawingml/2006/table">
            <a:tbl>
              <a:tblPr/>
              <a:tblGrid>
                <a:gridCol w="801720"/>
                <a:gridCol w="3492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e1e1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335" name="Content Placeholder 2"/>
          <p:cNvSpPr/>
          <p:nvPr/>
        </p:nvSpPr>
        <p:spPr>
          <a:xfrm>
            <a:off x="6045120" y="6478560"/>
            <a:ext cx="2594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e1e1e"/>
                </a:solidFill>
                <a:latin typeface="Arial"/>
              </a:rPr>
              <a:t>New table updating point</a:t>
            </a:r>
            <a:endParaRPr b="0" lang="en-US" sz="16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ombination logic representation</a:t>
            </a:r>
            <a:endParaRPr b="1" lang="en-US" sz="3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78000" y="1782360"/>
            <a:ext cx="838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100000"/>
              </a:lnSpc>
              <a:spcBef>
                <a:spcPts val="675"/>
              </a:spcBef>
              <a:buClr>
                <a:srgbClr val="1e1e1e"/>
              </a:buClr>
              <a:buFont typeface="Times New Roman"/>
              <a:buChar char="•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1) Old Table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spcBef>
                <a:spcPts val="675"/>
              </a:spcBef>
              <a:buClr>
                <a:srgbClr val="1e1e1e"/>
              </a:buClr>
              <a:buFont typeface="Times New Roman"/>
              <a:buChar char="•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cRiceParam = cRiceParam 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spcBef>
                <a:spcPts val="675"/>
              </a:spcBef>
              <a:buClr>
                <a:srgbClr val="1e1e1e"/>
              </a:buClr>
              <a:buFont typeface="Times New Roman"/>
              <a:buChar char="•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+ (coeff_abs_level_minus3[n-1] &gt;= 2   &amp;&amp;  cRiceParam == 0)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spcBef>
                <a:spcPts val="675"/>
              </a:spcBef>
              <a:buClr>
                <a:srgbClr val="1e1e1e"/>
              </a:buClr>
              <a:buFont typeface="Times New Roman"/>
              <a:buChar char="•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+ (coeff_abs_level_minus3[n-1] &gt;= 5   &amp;&amp;  cRiceParam &lt;= 1)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spcBef>
                <a:spcPts val="675"/>
              </a:spcBef>
              <a:buClr>
                <a:srgbClr val="1e1e1e"/>
              </a:buClr>
              <a:buFont typeface="Times New Roman"/>
              <a:buChar char="•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+ (coeff_abs_level_minus3[n-1] &gt;= 13  &amp;&amp;  cRiceParam == 0)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spcBef>
                <a:spcPts val="675"/>
              </a:spcBef>
              <a:buClr>
                <a:srgbClr val="1e1e1e"/>
              </a:buClr>
              <a:buFont typeface="Times New Roman"/>
              <a:buChar char="•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+ (coeff_abs_level_minus3[n-1] &gt;= 11  &amp;&amp;  cRiceParam == 1)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spcBef>
                <a:spcPts val="675"/>
              </a:spcBef>
              <a:buClr>
                <a:srgbClr val="1e1e1e"/>
              </a:buClr>
              <a:buFont typeface="Times New Roman"/>
              <a:buChar char="•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+ (coeff_abs_level_minus3[n-1] &gt;= 10  &amp;&amp;  cRiceParam == 2));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spcBef>
                <a:spcPts val="675"/>
              </a:spcBef>
              <a:buClr>
                <a:srgbClr val="1e1e1e"/>
              </a:buClr>
              <a:buFont typeface="Times New Roman"/>
              <a:buChar char="•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2) Proposed table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spcBef>
                <a:spcPts val="675"/>
              </a:spcBef>
              <a:buClr>
                <a:srgbClr val="1e1e1e"/>
              </a:buClr>
              <a:buFont typeface="Times New Roman"/>
              <a:buChar char="•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cRiceParam = cRiceParam 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spcBef>
                <a:spcPts val="675"/>
              </a:spcBef>
              <a:buClr>
                <a:srgbClr val="1e1e1e"/>
              </a:buClr>
              <a:buFont typeface="Times New Roman"/>
              <a:buChar char="•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+ (coeff_abs_level_minus3[n-1] &gt;= 2   &amp;&amp;  cRiceParam == 0)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spcBef>
                <a:spcPts val="675"/>
              </a:spcBef>
              <a:buClr>
                <a:srgbClr val="1e1e1e"/>
              </a:buClr>
              <a:buFont typeface="Times New Roman"/>
              <a:buChar char="•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+ (coeff_abs_level_minus3[n-1] &gt;= 5   &amp;&amp;  cRiceParam &lt;= 1)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spcBef>
                <a:spcPts val="675"/>
              </a:spcBef>
              <a:buClr>
                <a:srgbClr val="1e1e1e"/>
              </a:buClr>
              <a:buFont typeface="Times New Roman"/>
              <a:buChar char="•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	</a:t>
            </a:r>
            <a:r>
              <a:rPr b="0" lang="en-US" sz="1800" spc="-1" strike="noStrike">
                <a:solidFill>
                  <a:srgbClr val="1e1e1e"/>
                </a:solidFill>
                <a:latin typeface="Times New Roman"/>
                <a:ea typeface="宋体"/>
              </a:rPr>
              <a:t>+ (coeff_abs_level_minus3[n-1] &gt;= 11  &amp;&amp;  cRiceParam &lt;= 2);</a:t>
            </a: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  <a:p>
            <a:pPr marL="222120" indent="-222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 New Roman"/>
              <a:buChar char="•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62F3-07CF-42B3-A412-FD06EF797ABF}" type="datetime">
              <a:rPr b="0" lang="en-US" sz="800" spc="-1" strike="noStrike">
                <a:solidFill>
                  <a:srgbClr val="7f7f7f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1 Motorola Mobility, Inc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22:14:02Z</dcterms:created>
  <dc:creator>Amanda Cohen</dc:creator>
  <dc:description/>
  <dc:language>en-US</dc:language>
  <cp:lastModifiedBy>WRJ436</cp:lastModifiedBy>
  <dcterms:modified xsi:type="dcterms:W3CDTF">2011-11-29T07:48:42Z</dcterms:modified>
  <cp:revision>685</cp:revision>
  <dc:subject/>
  <dc:title>BUSINESS UNIT NAME</dc:title>
</cp:coreProperties>
</file>