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FE3C-7A0B-43E4-85B6-310565F23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6EA0-97CF-4290-B453-851B87CD5678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BC4A-730E-4728-B865-3B9F416D072A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C4671-52D3-4F68-97CB-B6B8E2A5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0F8B5-F668-4723-B785-B746ABC5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D3671-2B2E-4B1D-9F89-F3CB4EE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DD691-6D7C-4EE7-A8AF-9C4DAC5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0766F-4846-4F96-9794-E5E6FC9A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7BB32C-DDD5-4164-9D25-6E684867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DB9FB-5CE6-4B8F-9AFC-5E042A1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7F3F4-36F5-4034-AA41-2F0C8BC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35B22-1DC3-401E-9DF5-3711786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FB6F7-B6A4-488A-B750-3E2A82F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F5930-1C50-492A-8BB6-061C610A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1BBFA-D927-4BE6-8ABD-2E942CC5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2C2-0B81-46AB-949B-7153AEE15DB8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4AC-1EE5-450E-B664-A89CD10B622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DBE3-6EB2-4566-8FCB-13604B2E8FA1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1FC9-85EC-4693-AAF0-6EF2B5D3C0B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D488-7F70-482E-A0FE-7E09128ECF57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5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1676-59E9-497A-B8EB-82DEA88242D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CB5-B048-4800-9091-1EF62DD4CD47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7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F632-F1C7-4DDF-9A9B-7D73E3068260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2311-4E02-4B9F-8A41-A821FC281D1E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B64E-55B6-4019-8C5F-0AA4C27784E9}" type="datetime">
              <a:rPr b="0" lang="zh-CN" sz="8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e1e1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EC2B-0707-4413-8184-A9AB445185E4}" type="slidenum"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420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121b"/>
                </a:solidFill>
                <a:latin typeface="Arial"/>
              </a:rPr>
              <a:t>JCTVC-G699 On coeff_abs_level_minus3 cod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ian Lou and Limin Wang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orola Mobilit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uncated Rice Codes for symbols greater than 39 with cRiceParam equal to 2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 HM 4.0, codeword redundancies caused by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11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To remove codeword redundanci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73760" y="1736640"/>
          <a:ext cx="4008240" cy="4313160"/>
        </p:xfrm>
        <a:graphic>
          <a:graphicData uri="http://schemas.openxmlformats.org/drawingml/2006/table">
            <a:tbl>
              <a:tblPr/>
              <a:tblGrid>
                <a:gridCol w="600120"/>
                <a:gridCol w="1301760"/>
                <a:gridCol w="433080"/>
                <a:gridCol w="1239840"/>
                <a:gridCol w="43344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Symbo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HM4.0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9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ixing the problem of HM4.0 TR cod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pecification of cTRMax depending on cRiceParam changed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Working draft modified with minimum chang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LBHE (Y/U/V): 0.0%/-0.1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477120" y="1676520"/>
          <a:ext cx="2517480" cy="225396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TRMax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(7)</a:t>
                      </a:r>
                      <a:r>
                        <a:rPr b="1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 8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1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fixing the problem of HM4.0 TR co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E91-4173-4028-868E-44F9B0E5B543}" type="datetime">
              <a:rPr b="0" lang="zh-CN" sz="8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47680" y="1474920"/>
          <a:ext cx="4102200" cy="2201760"/>
        </p:xfrm>
        <a:graphic>
          <a:graphicData uri="http://schemas.openxmlformats.org/drawingml/2006/table">
            <a:tbl>
              <a:tblPr/>
              <a:tblGrid>
                <a:gridCol w="1189080"/>
                <a:gridCol w="971640"/>
                <a:gridCol w="969840"/>
                <a:gridCol w="97164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114880" y="1405080"/>
          <a:ext cx="3697200" cy="2257200"/>
        </p:xfrm>
        <a:graphic>
          <a:graphicData uri="http://schemas.openxmlformats.org/drawingml/2006/table">
            <a:tbl>
              <a:tblPr/>
              <a:tblGrid>
                <a:gridCol w="1071720"/>
                <a:gridCol w="876240"/>
                <a:gridCol w="874800"/>
                <a:gridCol w="874440"/>
              </a:tblGrid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468520" y="3967200"/>
          <a:ext cx="3952800" cy="2205000"/>
        </p:xfrm>
        <a:graphic>
          <a:graphicData uri="http://schemas.openxmlformats.org/drawingml/2006/table">
            <a:tbl>
              <a:tblPr/>
              <a:tblGrid>
                <a:gridCol w="1146240"/>
                <a:gridCol w="934920"/>
                <a:gridCol w="936720"/>
                <a:gridCol w="93492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roposal consisting of two part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Truncated Rice (TR) code parameter updating and TR code genera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move resetting cRiceParam (TR parameter) value for each subset and a new updating tab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ix a problem of the TR code generation and WD descrip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eff_ab_level_minu3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bsolute value of a quantized transform coefficient level minus 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Binarized with TR code with parameter cRiceParam and cTRMax (or with EG0 code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RiceParam controls the flatness of the codeword distribution (small value is preferred for small symbols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TRMax controls the truncation point for the rice code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RiceParam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itialized as 0 for each subset (resetting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Updated after each coeff_ab_level_minu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pic>
        <p:nvPicPr>
          <p:cNvPr id="309" name="Object 2" descr=""/>
          <p:cNvPicPr/>
          <p:nvPr/>
        </p:nvPicPr>
        <p:blipFill>
          <a:blip r:embed="rId1"/>
          <a:srcRect l="0" t="-3855" r="-1481" b="-438"/>
          <a:stretch/>
        </p:blipFill>
        <p:spPr>
          <a:xfrm>
            <a:off x="838080" y="274320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4495680" y="2819520"/>
          <a:ext cx="350532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819520"/>
                    <a:ext cx="35053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7"/>
          <p:cNvSpPr/>
          <p:nvPr/>
        </p:nvSpPr>
        <p:spPr>
          <a:xfrm>
            <a:off x="9144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2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5720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4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move cRiceParam resett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Not needed assuming coeff_ab_level_minu3 getting larger statistically along the HM40 inverse scan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ave operations and hardware complexity</a:t>
            </a:r>
            <a:br>
              <a:rPr sz="2800"/>
            </a:b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LBHE (Y/U/V): 0.0%/0.0%/0.1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A0AF-1FFD-47CA-9ACC-CB8604C9B21C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1120" y="1495440"/>
          <a:ext cx="3622680" cy="2347920"/>
        </p:xfrm>
        <a:graphic>
          <a:graphicData uri="http://schemas.openxmlformats.org/drawingml/2006/table">
            <a:tbl>
              <a:tblPr/>
              <a:tblGrid>
                <a:gridCol w="1049400"/>
                <a:gridCol w="858960"/>
                <a:gridCol w="857160"/>
                <a:gridCol w="85716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253120" y="1425600"/>
          <a:ext cx="3644640" cy="2417760"/>
        </p:xfrm>
        <a:graphic>
          <a:graphicData uri="http://schemas.openxmlformats.org/drawingml/2006/table">
            <a:tbl>
              <a:tblPr/>
              <a:tblGrid>
                <a:gridCol w="1057320"/>
                <a:gridCol w="861840"/>
                <a:gridCol w="862200"/>
                <a:gridCol w="863280"/>
              </a:tblGrid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436840" y="3935520"/>
          <a:ext cx="3984480" cy="2446200"/>
        </p:xfrm>
        <a:graphic>
          <a:graphicData uri="http://schemas.openxmlformats.org/drawingml/2006/table">
            <a:tbl>
              <a:tblPr/>
              <a:tblGrid>
                <a:gridCol w="1155600"/>
                <a:gridCol w="943200"/>
                <a:gridCol w="942840"/>
                <a:gridCol w="942840"/>
              </a:tblGrid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urrent cRiceParam updating tabl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640" y="1474920"/>
            <a:ext cx="329076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rained from HM2.0 stat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Not changed since HM2.0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Irregular if jumping to cRiceParam = 3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6EB1-7902-4B05-88E3-9F874AE7EC53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821040" y="1395360"/>
          <a:ext cx="5157720" cy="4788000"/>
        </p:xfrm>
        <a:graphic>
          <a:graphicData uri="http://schemas.openxmlformats.org/drawingml/2006/table">
            <a:tbl>
              <a:tblPr/>
              <a:tblGrid>
                <a:gridCol w="741600"/>
                <a:gridCol w="880920"/>
                <a:gridCol w="384120"/>
                <a:gridCol w="665280"/>
                <a:gridCol w="384120"/>
                <a:gridCol w="666720"/>
                <a:gridCol w="384120"/>
                <a:gridCol w="666720"/>
                <a:gridCol w="38412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978360" y="637380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29" name="Content Placeholder 2"/>
          <p:cNvSpPr/>
          <p:nvPr/>
        </p:nvSpPr>
        <p:spPr>
          <a:xfrm>
            <a:off x="5408640" y="6335640"/>
            <a:ext cx="259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HM4.0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ew updating table without cRiceParam resetting 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45680" y="3595680"/>
            <a:ext cx="3189240" cy="28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AIHE (Y/U/V):   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0.0%/0.0%/0.0%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RAHE (Y/U/V): 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0.0%/0.1%/0.0%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LBHE (Y/U/V): 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0.0%/-0.2%/-0.2%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443400" y="1382760"/>
          <a:ext cx="5337000" cy="4967280"/>
        </p:xfrm>
        <a:graphic>
          <a:graphicData uri="http://schemas.openxmlformats.org/drawingml/2006/table">
            <a:tbl>
              <a:tblPr/>
              <a:tblGrid>
                <a:gridCol w="780840"/>
                <a:gridCol w="766800"/>
                <a:gridCol w="381240"/>
                <a:gridCol w="795240"/>
                <a:gridCol w="403200"/>
                <a:gridCol w="690480"/>
                <a:gridCol w="392040"/>
                <a:gridCol w="703440"/>
                <a:gridCol w="42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3"/>
          <p:cNvSpPr/>
          <p:nvPr/>
        </p:nvSpPr>
        <p:spPr>
          <a:xfrm>
            <a:off x="353880" y="1401840"/>
            <a:ext cx="337356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n-trained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Better performanc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gular and possible smaller tab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475160" y="647856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335" name="Content Placeholder 2"/>
          <p:cNvSpPr/>
          <p:nvPr/>
        </p:nvSpPr>
        <p:spPr>
          <a:xfrm>
            <a:off x="6045120" y="6478560"/>
            <a:ext cx="2594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New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 with new updating tabl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A6E2-BDF3-403E-B2B5-5266FCE22387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41120" y="1368360"/>
          <a:ext cx="3932280" cy="2595600"/>
        </p:xfrm>
        <a:graphic>
          <a:graphicData uri="http://schemas.openxmlformats.org/drawingml/2006/table">
            <a:tbl>
              <a:tblPr/>
              <a:tblGrid>
                <a:gridCol w="1140120"/>
                <a:gridCol w="930240"/>
                <a:gridCol w="931680"/>
                <a:gridCol w="930240"/>
              </a:tblGrid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5049720" y="1319040"/>
          <a:ext cx="3814920" cy="2606760"/>
        </p:xfrm>
        <a:graphic>
          <a:graphicData uri="http://schemas.openxmlformats.org/drawingml/2006/table">
            <a:tbl>
              <a:tblPr/>
              <a:tblGrid>
                <a:gridCol w="1106640"/>
                <a:gridCol w="903240"/>
                <a:gridCol w="901800"/>
                <a:gridCol w="903240"/>
              </a:tblGrid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362320" y="4125960"/>
          <a:ext cx="3794040" cy="2220840"/>
        </p:xfrm>
        <a:graphic>
          <a:graphicData uri="http://schemas.openxmlformats.org/drawingml/2006/table">
            <a:tbl>
              <a:tblPr/>
              <a:tblGrid>
                <a:gridCol w="1100160"/>
                <a:gridCol w="898560"/>
                <a:gridCol w="896760"/>
                <a:gridCol w="89856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Fang Xue-EXF001</cp:lastModifiedBy>
  <dcterms:modified xsi:type="dcterms:W3CDTF">2011-11-24T11:27:21Z</dcterms:modified>
  <cp:revision>665</cp:revision>
  <dc:subject/>
  <dc:title>BUSINESS UNIT NAME</dc:title>
</cp:coreProperties>
</file>