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470D-1BE1-4CD6-8169-EE532F340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CDBB-28F2-47D1-B1F1-0DA6557D5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FC33-568E-41C1-8D7B-333508429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0655-4BB6-4FDB-8ECE-7DE3E7F28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B7F9-5E83-4EA4-98A0-5462ACB000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D478-4BC4-4932-B100-B33739D19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2381-7D53-4976-8B33-B09BFBE5F9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1644-BA86-44D2-A8AE-ADA8D75820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4CAD-6B94-4931-9277-610C5039F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C259-6255-4447-8006-C7D647D9A3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57FE0-1D0D-4455-9F52-2766C38DB7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F2E6-3E87-4C0D-8E7B-8DD8A8A9D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9586-0CE9-4C47-B2F1-BD8A5FAA42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F066-17C6-4930-B271-490F88A72B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831B-1BB6-4F37-A6CA-D29F3AF9E0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E6CD-2D62-4591-8E2D-C9375861A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79A3-A9D3-4153-99F6-81586FC4DC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733-2264-4D6B-A639-92A035C21E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8EE-A58E-45FA-8720-2E2EFD66A0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00C-52BF-4FE9-8928-E6A1FD2AE0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6AA-DAF3-404A-97FF-AD3265AFFB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0E6-187C-47A7-8031-7B41524E0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12F9-8104-4AAF-BBAA-28B30E6440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03D-1268-472D-AF17-6167F2CF41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66C-EF50-42DA-B885-5EBE2C426B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F5F-71B6-4AA7-BFFF-96B62A83A8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E648-14EC-40F3-ACCE-346FF6A2CE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687-0A75-4A86-A0C3-92421CADB6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93D-B35E-4E37-8853-D28EE25416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11C-500C-4081-AE6C-442BB07F74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B0895-F733-4F41-A9AF-8B718697F3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836BD-8ED2-4DA8-B88D-1942D6D619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FDE0-36AE-434F-8DA9-8C227D093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83E7-5BEC-4225-82C7-4B3CCFAD8C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13D25-4E3D-4831-BC02-805FC40D62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EAB9D-2C09-45DD-A929-2C54E68A40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B7BD5-22F6-4000-8779-37B91EEFE4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E4FE7-87C2-4A30-AFB5-64486447A8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828C2-13FF-432F-9986-E6EE52665F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88B8E-022A-43D8-8665-FCFF4602BB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B72BB-09DC-4871-8B4C-21166F824B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CDCAA-F8FF-461C-8EDD-8AE08695CD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D0912-AC84-4517-9AC0-891E2D9C1C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8ECC7-B601-43AD-B71B-D75AE8C38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267C-407E-4214-B406-09CC3148343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D6A7D-E89D-449A-85FE-9916BCDE6D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0DCBA-DC4B-468C-AA2E-C8BDCEF026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A88C9-E9C1-401C-B8D4-F0DB0CB469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32DD1-139B-4A4A-8A80-23501EB151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2051A-A151-4FC6-9E03-7AD705C3DB6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4A697-5D70-4488-809C-B8D7A6136E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A3C7B-87AB-425A-808F-8BE056E668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D2B37-A679-42B1-BBFD-3794675696B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667A7-C22E-462B-99F1-5C682AD8B9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2E6D0-EFA9-4200-BB82-CF6DB5EE5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F314-E706-4991-90F8-724FF690A4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7F0ED-98B4-426F-9623-77DA4ACF6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BA03-88F5-4BFB-8DB8-7176F2137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DE2C-ACA7-4E73-9012-D06FFEAF4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35C6-2D6D-4DC6-BB85-B69580C51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6837-3950-4A99-BE8D-CBC44A9DFCC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12AD-E9EE-4E0C-B897-06F685C07ED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AF5F-F9DB-4B69-9C0F-1BD3540F9ADC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CE47-964A-4105-8349-ACEA5FDA914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5D9B-7A34-4CF7-8104-B61C8AFE7E7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000"/>
              </a:spcBef>
              <a:spcAft>
                <a:spcPts val="5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JCTVC-G680: Non-CE8</a:t>
            </a:r>
            <a:br>
              <a:rPr sz="32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굴림"/>
              </a:rPr>
              <a:t>Method of Visual Coding Artifact Removal for SAO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42720" y="369864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oo-Shik Kim, Do-Kyoung Kw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In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U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0EF4-2671-4114-A6D2-E8451B67C9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QMall, LB-LC, QP 37,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240" y="1584360"/>
            <a:ext cx="9140760" cy="52736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2419200" y="1581120"/>
            <a:ext cx="6724800" cy="43909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89F7-51EF-4EE5-B083-43D229749B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B – Cactus, AI-LC, QP 37, 2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240" y="1374840"/>
            <a:ext cx="9140760" cy="54831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181480" y="2076480"/>
            <a:ext cx="3962520" cy="38862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42D0-C1ED-4AB4-9283-AB616FD98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B – Cactus, AI-LC, QP 37, 2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9140760" cy="5483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5181480" y="2076480"/>
            <a:ext cx="3962520" cy="38862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F096-6508-49F3-A63A-AE815B0049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QMall, RA-HE, QP 32,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3240" y="1584360"/>
            <a:ext cx="9140760" cy="52736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3295800" y="1352520"/>
            <a:ext cx="6143400" cy="55054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6ED5-C663-4BAC-B663-DA92BED14B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QMall, RA-HE, QP 32,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240" y="1584360"/>
            <a:ext cx="9140760" cy="52736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95800" y="1352520"/>
            <a:ext cx="6143400" cy="55054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F40D-32CD-4AFC-9EFB-59EFB25407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asketballDrill, LP-LC, QP 37, 48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1595520"/>
            <a:ext cx="9140760" cy="52718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324160" y="1266840"/>
            <a:ext cx="4343400" cy="38862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9AAB-DB90-493F-8CDB-BD98EEE909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asketballDrill, LP-LC, QP 37, 48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3240" y="1584360"/>
            <a:ext cx="9140760" cy="52736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324160" y="1266840"/>
            <a:ext cx="4343400" cy="38862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393B-DF49-4647-AFBA-762D51430F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B – BasketballDrive, RA-HE, QP 37, 48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0760" cy="51386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123920" y="3048120"/>
            <a:ext cx="5133960" cy="33433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79A9-CB0D-411B-96D3-9DF6ABDB25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B – BasketballDrive, RA-HE, QP 37, 48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-6480" y="1712880"/>
            <a:ext cx="9150480" cy="51451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123920" y="3048120"/>
            <a:ext cx="5133960" cy="33433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B269-70BF-4620-92F8-A0607F77CE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B – BasketballDrive, AI-HE, QP 37, 3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50480" cy="5157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066680" y="2133720"/>
            <a:ext cx="8077320" cy="472428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6BFD-B100-4FCD-A1B9-483D8F1674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Visual Artifact in SAO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7728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lt and pepper” type noise (sometimes, line segment noise) observed in various sequences especially at low bitrates, for exa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ass B – BasketballDrive, RA-HE, QP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ass B – Cactus, AI-LC, QP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ass C – BasketballDrill, LP-LC, QP 3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ass C – BQMall, RA-HE, QP 3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ass E – Vidyo1, LB-LC QP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lass E – Vidyo4, AI-LC, QP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artifact is more obvious on TV monitors due to amplification by display processing such as sharpness enhancement and/or edge enh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5A3E-4628-4E6A-886F-02E50820B1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B – BasketballDrive, AI-HE, QP 37, 3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50480" cy="5157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066680" y="2133720"/>
            <a:ext cx="8077320" cy="472428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C8E2-08F6-4668-9F83-78EB018B25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E – Vidyo1, LB-LC, QP 37, 10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0760" cy="51386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405240" y="4227480"/>
            <a:ext cx="2163600" cy="16128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862600" y="4027320"/>
            <a:ext cx="3281400" cy="1238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4E0C-816E-4815-81D8-818316B110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E – Vidyo1, LB-LC, QP 37, 10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3240" y="1719360"/>
            <a:ext cx="9140760" cy="51386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3405240" y="4227480"/>
            <a:ext cx="2163600" cy="16128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862600" y="4027320"/>
            <a:ext cx="3281400" cy="1238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950E-AB5E-4EB5-B60B-F4EBFC605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E – Vidyo4, AI-LC, QP 37, 3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-6480" y="1712880"/>
            <a:ext cx="9150480" cy="51451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0" y="2438280"/>
            <a:ext cx="5381640" cy="46958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3877-5CFD-4EC7-840E-EAE93AF3E7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E – Vidyo4, AI-LC, QP 37, 3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6480" y="1712880"/>
            <a:ext cx="9150480" cy="51451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0" y="2438280"/>
            <a:ext cx="5381640" cy="469584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754F-BCBE-4DCD-AF37-C51B8B819CD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asketballDrill, AI-HE, QP 37, 5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240" y="1584360"/>
            <a:ext cx="9140760" cy="527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AFFD-07BD-4C2D-873A-781CA37E7B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asketballDrill, AI-HE, QP 37, 5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717320" y="91296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Propose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140760" cy="527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3039-B5F8-4EA9-997C-FC16C5F42C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ubjective quality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ettings are the same as in JCTVC-F320 and JCTVC-G6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Visual artifact is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 subjective quality degradation is 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D-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06720" y="28116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685880" y="3178080"/>
          <a:ext cx="5322960" cy="3032280"/>
        </p:xfrm>
        <a:graphic>
          <a:graphicData uri="http://schemas.openxmlformats.org/drawingml/2006/table">
            <a:tbl>
              <a:tblPr/>
              <a:tblGrid>
                <a:gridCol w="923760"/>
                <a:gridCol w="1922760"/>
                <a:gridCol w="825480"/>
                <a:gridCol w="825480"/>
                <a:gridCol w="825480"/>
              </a:tblGrid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ll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All In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Low delay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바탕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E91E-53B4-41D5-A5A2-7C0557A541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Summary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O is new tool that is not in previou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ness of the SAO on different content and test conditions needs to be fully 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ence very important to include visual testing in 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alt and pepper” and line visual artifacts identified in existing design of S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osed fix of inferring edge offset sign from edge offset category eliminates visual artif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proposed modification be adopted into HM-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60280" y="4799160"/>
            <a:ext cx="86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ny thanks to Panasonic for cross-checking this contribution (JCTVC-G8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C16C-0001-4FC5-BF86-BBA0A0B838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Visual Artifact in SAO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QMall, LB-LC, QP 37,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" y="1584360"/>
            <a:ext cx="9140760" cy="5273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419200" y="1581120"/>
            <a:ext cx="6724800" cy="43909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BBE8-FE6B-4D92-A4C4-A5BE4AAD7A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Current SAO Edge Offset Desig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7728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tegories in edge offset according to edg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66200" y="2076480"/>
            <a:ext cx="8168040" cy="3095640"/>
            <a:chOff x="466200" y="2076480"/>
            <a:chExt cx="8168040" cy="3095640"/>
          </a:xfrm>
        </p:grpSpPr>
        <p:sp>
          <p:nvSpPr>
            <p:cNvPr id="219" name=""/>
            <p:cNvSpPr/>
            <p:nvPr/>
          </p:nvSpPr>
          <p:spPr>
            <a:xfrm>
              <a:off x="847440" y="329544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50920" y="3524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5200" y="32954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58720" y="329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39600" y="32954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47440" y="24570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800000">
              <a:off x="466200" y="24530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52360" y="26096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09560" y="26096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5236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09560" y="30668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676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52000" y="215244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81160" y="32954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84640" y="3524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58920" y="32954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92440" y="329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73320" y="32954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981160" y="24570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800000">
              <a:off x="2600280" y="24530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86080" y="26096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743280" y="3066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608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43280" y="30668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00480" y="30668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5360" y="215244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81160" y="46670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84640" y="48956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8920" y="46670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92440" y="4667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73320" y="46670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981160" y="38286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0800000">
              <a:off x="2600280" y="38246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86080" y="44384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743280" y="39812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86080" y="44384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43280" y="44384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00480" y="39812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4880" y="32954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8000" y="35240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92280" y="32954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5800" y="3295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6680" y="32954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114880" y="24570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0800000">
              <a:off x="4733280" y="24530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76640" y="26096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419440" y="2609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1944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76640" y="26096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33840" y="30668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9080" y="215244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14880" y="466704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8000" y="489564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92280" y="466704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25800" y="46670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06680" y="466704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114880" y="382860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4733280" y="382464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6640" y="398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419440" y="398124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9440" y="443844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6640" y="39812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33840" y="3981240"/>
              <a:ext cx="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10360" y="3219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13480" y="34477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87760" y="32191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21280" y="3219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102160" y="321912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110360" y="238068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728760" y="237672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53040" y="253332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410240" y="253332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10240" y="299052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58080" y="2533320"/>
              <a:ext cx="14040" cy="6854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10240" y="2990520"/>
              <a:ext cx="0" cy="22824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14560" y="207648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ABD7-E92A-4195-BBCE-D12F329103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Desired Behavior of SAO Edge Offse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sign of edge offset should match its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6200" y="2101680"/>
            <a:ext cx="8168040" cy="3096000"/>
            <a:chOff x="466200" y="2101680"/>
            <a:chExt cx="8168040" cy="3096000"/>
          </a:xfrm>
        </p:grpSpPr>
        <p:sp>
          <p:nvSpPr>
            <p:cNvPr id="298" name=""/>
            <p:cNvSpPr/>
            <p:nvPr/>
          </p:nvSpPr>
          <p:spPr>
            <a:xfrm>
              <a:off x="847440" y="33210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50920" y="35496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25200" y="33210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8720" y="3321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39600" y="33210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847440" y="2482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0800000">
              <a:off x="466200" y="24786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52360" y="2635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609560" y="2635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5236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9560" y="30924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6676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52000" y="21780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81160" y="3321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84640" y="35496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58920" y="33210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92440" y="3321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73320" y="33210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981160" y="2482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0800000">
              <a:off x="2600280" y="24786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86080" y="2635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743280" y="3092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8608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43280" y="30924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00480" y="30924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85360" y="21780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1160" y="4692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84640" y="49212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58920" y="46926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92440" y="4692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73320" y="46926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981160" y="3854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0800000">
              <a:off x="2600280" y="38502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86080" y="446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743280" y="40068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86080" y="44640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43280" y="44640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00480" y="40068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14880" y="3321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18000" y="35496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2280" y="33210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25800" y="3321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06680" y="33210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114880" y="2482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4733280" y="24786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76640" y="26352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419440" y="26352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1944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76640" y="26352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33840" y="30924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19080" y="217800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14880" y="4692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8000" y="49212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92280" y="46926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25800" y="4692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6680" y="469260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114880" y="38545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4733280" y="385020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76640" y="4006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19440" y="400680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19440" y="446400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76640" y="40068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3840" y="4006800"/>
              <a:ext cx="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10360" y="3244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13480" y="347328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87760" y="32446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21280" y="3244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02160" y="3244680"/>
              <a:ext cx="4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110360" y="2406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0800000">
              <a:off x="6728760" y="2402280"/>
              <a:ext cx="36288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ixe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53040" y="255888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7410240" y="2558880"/>
              <a:ext cx="4572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10240" y="301608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58080" y="2558880"/>
              <a:ext cx="14040" cy="6858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10240" y="3016080"/>
              <a:ext cx="0" cy="22860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14560" y="2101680"/>
              <a:ext cx="94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ategory 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57200" y="2006640"/>
            <a:ext cx="4152960" cy="345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86480" y="1978200"/>
            <a:ext cx="4152600" cy="345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00120" y="550080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Positive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0400" y="549108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  <a:ea typeface="굴림"/>
              </a:rPr>
              <a:t>Negative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609560" y="2692080"/>
            <a:ext cx="0" cy="361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743280" y="2701800"/>
            <a:ext cx="9720" cy="37152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43280" y="4101840"/>
            <a:ext cx="9720" cy="361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866920" y="2654280"/>
            <a:ext cx="9720" cy="34308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86360" y="4025880"/>
            <a:ext cx="0" cy="33336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7857720" y="2587680"/>
            <a:ext cx="9720" cy="36180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3A85-1512-4EB9-8AED-38CC099905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Desired Behavior of SAO Edge Offse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ercentage of sign match for edge offset per LCU:</a:t>
            </a:r>
            <a:br>
              <a:rPr sz="2000"/>
            </a:br>
            <a:r>
              <a:rPr b="1" i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98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atch on a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403840" y="16956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07800" y="2084400"/>
          <a:ext cx="8529840" cy="36846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523800"/>
                <a:gridCol w="636480"/>
                <a:gridCol w="636840"/>
                <a:gridCol w="636480"/>
              </a:tblGrid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O 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7DE8-FDF6-413E-96A4-10EE24790F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Reason for Artifact – SAO Edge Offse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477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When mismatched sign is used, contrast increases and causes arti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47800" y="3273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50920" y="3502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25200" y="32734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58720" y="3273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39600" y="32734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847800" y="2435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0800000">
            <a:off x="466200" y="243108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52360" y="246384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609560" y="246384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52360" y="2463840"/>
            <a:ext cx="0" cy="8096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09560" y="3044880"/>
            <a:ext cx="0" cy="2286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66760" y="2587680"/>
            <a:ext cx="0" cy="6858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52000" y="21304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ategor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81160" y="3273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84640" y="3502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8920" y="32734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92440" y="3273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73320" y="32734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81160" y="2435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0800000">
            <a:off x="2599920" y="243108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86080" y="24415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743280" y="2898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86080" y="2463840"/>
            <a:ext cx="0" cy="8096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35360" y="2897280"/>
            <a:ext cx="0" cy="3762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00480" y="2897280"/>
            <a:ext cx="0" cy="3762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85720" y="21304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ategor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81160" y="4645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84640" y="48736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58920" y="46450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92440" y="4645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73320" y="46450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981160" y="3807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0800000">
            <a:off x="2599920" y="380268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86080" y="43005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743280" y="384336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87880" y="4284720"/>
            <a:ext cx="6120" cy="360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27440" y="4284720"/>
            <a:ext cx="15840" cy="3603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92560" y="3851280"/>
            <a:ext cx="0" cy="7938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14880" y="3273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18360" y="3502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2640" y="32734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6160" y="3273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07040" y="327348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114880" y="2435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0800000">
            <a:off x="4734000" y="243108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77000" y="27511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419800" y="27511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19800" y="2735280"/>
            <a:ext cx="0" cy="5382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877000" y="2735280"/>
            <a:ext cx="0" cy="53820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34200" y="3208320"/>
            <a:ext cx="0" cy="651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9440" y="195264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ategor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14880" y="477684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8360" y="50054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92640" y="477684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26160" y="47768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7040" y="477684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14880" y="39387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4734000" y="393444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877000" y="4222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419800" y="42228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19800" y="4664160"/>
            <a:ext cx="0" cy="11268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77000" y="4214880"/>
            <a:ext cx="0" cy="5619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334200" y="4222800"/>
            <a:ext cx="0" cy="55404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110360" y="319716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413840" y="342576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88120" y="319716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1640" y="31971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102520" y="3197160"/>
            <a:ext cx="4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7110360" y="235908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6729480" y="2354760"/>
            <a:ext cx="3628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ixel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53400" y="2635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410600" y="2635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10600" y="3068640"/>
            <a:ext cx="0" cy="1285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858080" y="2651040"/>
            <a:ext cx="14400" cy="54612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10600" y="3078000"/>
            <a:ext cx="0" cy="11916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4920" y="187632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ategory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49840" y="1943280"/>
            <a:ext cx="4152960" cy="3457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39560" y="1930320"/>
            <a:ext cx="4152960" cy="3457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92400" y="543708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Positive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73840" y="544356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  <a:ea typeface="굴림"/>
              </a:rPr>
              <a:t>Negative ed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870520" y="2374560"/>
            <a:ext cx="0" cy="361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858080" y="2251080"/>
            <a:ext cx="9720" cy="37152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5873760" y="3867120"/>
            <a:ext cx="9360" cy="362160"/>
          </a:xfrm>
          <a:prstGeom prst="line">
            <a:avLst/>
          </a:prstGeom>
          <a:ln w="255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598760" y="2932200"/>
            <a:ext cx="9360" cy="34272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732120" y="4311720"/>
            <a:ext cx="0" cy="33336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736440" y="2906640"/>
            <a:ext cx="9720" cy="362160"/>
          </a:xfrm>
          <a:prstGeom prst="line">
            <a:avLst/>
          </a:prstGeom>
          <a:ln w="25560">
            <a:solidFill>
              <a:srgbClr val="33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609720" y="5892840"/>
            <a:ext cx="2526120" cy="398880"/>
          </a:xfrm>
          <a:prstGeom prst="rect">
            <a:avLst/>
          </a:prstGeom>
          <a:solidFill>
            <a:srgbClr val="ffff00"/>
          </a:solidFill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Need a Fail Sa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18D4-2863-4C3B-9A16-C755F43EE1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31480" y="1443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Proposed Solu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33360" y="1185840"/>
            <a:ext cx="860112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rrent HM-4.0 design of edg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Both positive and negative values are allowed for all edge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gn and absolute value are coded separ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osed mod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ignal edge offset as absolute value (as in HM-4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fer sign of edge offset from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ositive sign for category 1 &amp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3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gative sign for category 3 &amp;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536E-860B-4185-B4CC-27C8B91B89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굴림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33360" y="775800"/>
            <a:ext cx="8467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lass C – BQMall, LB-LC, QP 37,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45200" y="9129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&lt;HM-4.0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240" y="1584360"/>
            <a:ext cx="9140760" cy="527364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419200" y="1581120"/>
            <a:ext cx="6724800" cy="43909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ABE0-B51B-4055-ABE9-93A23B884C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wskim</cp:lastModifiedBy>
  <dcterms:modified xsi:type="dcterms:W3CDTF">2011-11-21T17:13:15Z</dcterms:modified>
  <cp:revision>87</cp:revision>
  <dc:subject/>
  <dc:title>Presentation Title Here</dc:title>
</cp:coreProperties>
</file>