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3682-F8E4-49E7-A9D4-7DE1E5326B94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F885-BB08-4F76-BDEB-2290D2F47D45}" type="slidenum">
              <a:rPr b="0" lang="de-DE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21051CC-2B04-43D3-B757-F819E125ECCE}" type="slidenum">
              <a:rPr b="0" lang="en-GB" sz="13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3A64-F63D-4027-8B90-CB9E88D6687E}" type="slidenum">
              <a:rPr b="0" lang="de-DE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73ED-7607-4A0E-AC6E-F872C4DF0F8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C905-4BCC-438B-A7DB-509510CE7070}" type="slidenum">
              <a:rPr b="0" lang="de-DE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FDF5-50CC-45F1-AE38-AD3C69CB03BA}" type="slidenum">
              <a:rPr b="0" lang="de-DE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4222-2EEE-442D-A6C2-1918BCC79B59}" type="slidenum">
              <a:rPr b="0" lang="de-DE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951C-61C8-4684-B2B4-3899E2165EDF}" type="slidenum">
              <a:rPr b="0" lang="de-DE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BBEF-B701-4CA4-B74D-625C15DAA2F7}" type="slidenum">
              <a:rPr b="0" lang="de-DE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6EE7-B065-4F89-827A-BAA18DFA086D}" type="slidenum">
              <a:rPr b="0" lang="de-DE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굴림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C45E8296-B112-410F-9560-BD8C0E9DD97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그룹 5"/>
          <p:cNvGrpSpPr/>
          <p:nvPr/>
        </p:nvGrpSpPr>
        <p:grpSpPr>
          <a:xfrm>
            <a:off x="7432560" y="128520"/>
            <a:ext cx="1478160" cy="399960"/>
            <a:chOff x="7432560" y="128520"/>
            <a:chExt cx="1478160" cy="399960"/>
          </a:xfrm>
        </p:grpSpPr>
        <p:pic>
          <p:nvPicPr>
            <p:cNvPr id="41" name="그림 6" descr=""/>
            <p:cNvPicPr/>
            <p:nvPr/>
          </p:nvPicPr>
          <p:blipFill>
            <a:blip r:embed="rId3"/>
            <a:srcRect l="8050" t="30930" r="4959" b="36585"/>
            <a:stretch/>
          </p:blipFill>
          <p:spPr>
            <a:xfrm>
              <a:off x="7432560" y="128520"/>
              <a:ext cx="920160" cy="33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그림 7" descr=""/>
            <p:cNvPicPr/>
            <p:nvPr/>
          </p:nvPicPr>
          <p:blipFill>
            <a:blip r:embed="rId4"/>
            <a:srcRect l="7736" t="12726" r="9368" b="3238"/>
            <a:stretch/>
          </p:blipFill>
          <p:spPr>
            <a:xfrm>
              <a:off x="8489520" y="128520"/>
              <a:ext cx="42120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굴림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fld id="{8B981743-ACBC-4499-BDA8-51C1DCB74A75}" type="slidenum">
              <a:rPr b="0" lang="de-DE" sz="10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그룹 5"/>
          <p:cNvGrpSpPr/>
          <p:nvPr/>
        </p:nvGrpSpPr>
        <p:grpSpPr>
          <a:xfrm>
            <a:off x="7283520" y="6173640"/>
            <a:ext cx="1477800" cy="400320"/>
            <a:chOff x="7283520" y="6173640"/>
            <a:chExt cx="1477800" cy="400320"/>
          </a:xfrm>
        </p:grpSpPr>
        <p:pic>
          <p:nvPicPr>
            <p:cNvPr id="84" name="그림 6" descr=""/>
            <p:cNvPicPr/>
            <p:nvPr/>
          </p:nvPicPr>
          <p:blipFill>
            <a:blip r:embed="rId3"/>
            <a:srcRect l="8050" t="30930" r="4959" b="36585"/>
            <a:stretch/>
          </p:blipFill>
          <p:spPr>
            <a:xfrm>
              <a:off x="7283520" y="6173640"/>
              <a:ext cx="919800" cy="33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그림 7" descr=""/>
            <p:cNvPicPr/>
            <p:nvPr/>
          </p:nvPicPr>
          <p:blipFill>
            <a:blip r:embed="rId4"/>
            <a:srcRect l="7736" t="12726" r="9368" b="3238"/>
            <a:stretch/>
          </p:blipFill>
          <p:spPr>
            <a:xfrm>
              <a:off x="8340120" y="6173640"/>
              <a:ext cx="421200" cy="4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640" y="1391760"/>
            <a:ext cx="74851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JCTVC-G666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1D DCT based frequency domain adaptive loop filter (FD-ALF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63640" y="2556000"/>
            <a:ext cx="751032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ae-Kwang 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Jeongyoen Lim, Ju Ock Lee, Joo-Hee Moon, Sungwon L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  <a:ea typeface="굴림"/>
              </a:rPr>
              <a:t>Simulation Resul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9600" y="1431720"/>
            <a:ext cx="852480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F in HM 4.0 vs. FD-ALF for 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406440" y="1933560"/>
          <a:ext cx="6603840" cy="3081240"/>
        </p:xfrm>
        <a:graphic>
          <a:graphicData uri="http://schemas.openxmlformats.org/drawingml/2006/table">
            <a:tbl>
              <a:tblPr/>
              <a:tblGrid>
                <a:gridCol w="1120680"/>
                <a:gridCol w="922320"/>
                <a:gridCol w="898560"/>
                <a:gridCol w="920880"/>
                <a:gridCol w="922320"/>
                <a:gridCol w="898560"/>
                <a:gridCol w="920520"/>
              </a:tblGrid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ow delay P HE (M=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ow delay P HE (M=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1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  <a:ea typeface="굴림"/>
              </a:rPr>
              <a:t>Simulation Resul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9600" y="1431720"/>
            <a:ext cx="852480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F in HM 4.0 vs. FD-ALF for HE-AI and HE-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406440" y="1933560"/>
          <a:ext cx="7480440" cy="3294000"/>
        </p:xfrm>
        <a:graphic>
          <a:graphicData uri="http://schemas.openxmlformats.org/drawingml/2006/table">
            <a:tbl>
              <a:tblPr/>
              <a:tblGrid>
                <a:gridCol w="1270080"/>
                <a:gridCol w="1042920"/>
                <a:gridCol w="1019160"/>
                <a:gridCol w="1042920"/>
                <a:gridCol w="1042920"/>
                <a:gridCol w="1019160"/>
                <a:gridCol w="1043280"/>
              </a:tblGrid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ll Intra HE (M=8 or M=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andom Access HE (M=8 or M=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0672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  <a:ea typeface="굴림"/>
              </a:rPr>
              <a:t>Simulation Resul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9600" y="1431720"/>
            <a:ext cx="852480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F in HM 4.0 vs. FD-ALF for HE-LDB and HE-L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06440" y="1933560"/>
          <a:ext cx="6603840" cy="2987640"/>
        </p:xfrm>
        <a:graphic>
          <a:graphicData uri="http://schemas.openxmlformats.org/drawingml/2006/table">
            <a:tbl>
              <a:tblPr/>
              <a:tblGrid>
                <a:gridCol w="1120680"/>
                <a:gridCol w="922320"/>
                <a:gridCol w="898560"/>
                <a:gridCol w="920880"/>
                <a:gridCol w="922320"/>
                <a:gridCol w="898560"/>
                <a:gridCol w="920520"/>
              </a:tblGrid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ow delay B HE (M=8 or M=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ow delay P HE (M=8 or M=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Conclu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he proposed method reduces decoding time complexity in average 5% while loss of coding efficiency by in average around 1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t is recommend that this 1D FD-ALF be considered to be adopted in HEVC through CE for further impr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Summary of 1D FD-ALF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5200" y="1488600"/>
            <a:ext cx="8524800" cy="20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10160" indent="-11016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xactly same as existing ALF for adapta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080" indent="-15984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A, BA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080" indent="-15984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U unit control adap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080" indent="-15984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ategory filter me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080" indent="-15984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edictive filter coefficient encoding, etc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0160" indent="-11016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080" indent="-15984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fferent filter type: 1D DCT block filtering (ALF: pixel based filte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1080" indent="-159840">
              <a:spcAft>
                <a:spcPts val="1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urpose: reducing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0160" indent="-11016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Summary of 1D FD-ALF (RA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133720" y="1909800"/>
            <a:ext cx="2442960" cy="1519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5383080" y="1909800"/>
            <a:ext cx="2443320" cy="1519200"/>
          </a:xfrm>
          <a:prstGeom prst="rect">
            <a:avLst/>
          </a:prstGeom>
          <a:ln w="0">
            <a:noFill/>
          </a:ln>
        </p:spPr>
      </p:pic>
      <p:sp>
        <p:nvSpPr>
          <p:cNvPr id="139" name="타원 3"/>
          <p:cNvSpPr/>
          <p:nvPr/>
        </p:nvSpPr>
        <p:spPr>
          <a:xfrm>
            <a:off x="1989000" y="1798560"/>
            <a:ext cx="846360" cy="64764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타원 9"/>
          <p:cNvSpPr/>
          <p:nvPr/>
        </p:nvSpPr>
        <p:spPr>
          <a:xfrm>
            <a:off x="5257800" y="1798560"/>
            <a:ext cx="846000" cy="64764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직선 화살표 연결선 5"/>
          <p:cNvCxnSpPr>
            <a:stCxn id="139" idx="4"/>
            <a:endCxn id="142" idx="0"/>
          </p:cNvCxnSpPr>
          <p:nvPr/>
        </p:nvCxnSpPr>
        <p:spPr>
          <a:xfrm flipH="1">
            <a:off x="2367720" y="2445840"/>
            <a:ext cx="43560" cy="10897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43" name="개체 8"/>
          <p:cNvGraphicFramePr/>
          <p:nvPr/>
        </p:nvGraphicFramePr>
        <p:xfrm>
          <a:off x="1290600" y="3844800"/>
          <a:ext cx="2743200" cy="13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개체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0600" y="3844800"/>
                    <a:ext cx="2743200" cy="13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개체 12"/>
          <p:cNvGraphicFramePr/>
          <p:nvPr/>
        </p:nvGraphicFramePr>
        <p:xfrm>
          <a:off x="4429080" y="5203800"/>
          <a:ext cx="2057400" cy="12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개체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9080" y="5203800"/>
                    <a:ext cx="205740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오른쪽 화살표 13"/>
          <p:cNvSpPr/>
          <p:nvPr/>
        </p:nvSpPr>
        <p:spPr>
          <a:xfrm>
            <a:off x="3227400" y="5575320"/>
            <a:ext cx="961920" cy="61740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ea5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개체 12"/>
          <p:cNvGraphicFramePr/>
          <p:nvPr/>
        </p:nvGraphicFramePr>
        <p:xfrm>
          <a:off x="619200" y="5527800"/>
          <a:ext cx="238104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개체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9200" y="5527800"/>
                    <a:ext cx="2381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0" name="직선 화살표 연결선 18"/>
          <p:cNvCxnSpPr>
            <a:endCxn id="151" idx="2"/>
          </p:cNvCxnSpPr>
          <p:nvPr/>
        </p:nvCxnSpPr>
        <p:spPr>
          <a:xfrm flipV="1">
            <a:off x="2411280" y="1539360"/>
            <a:ext cx="23904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19"/>
          <p:cNvSpPr/>
          <p:nvPr/>
        </p:nvSpPr>
        <p:spPr>
          <a:xfrm>
            <a:off x="2414160" y="126216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1x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3041280" y="1447920"/>
            <a:ext cx="4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x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직선 화살표 연결선 25"/>
          <p:cNvCxnSpPr>
            <a:endCxn id="152" idx="1"/>
          </p:cNvCxnSpPr>
          <p:nvPr/>
        </p:nvCxnSpPr>
        <p:spPr>
          <a:xfrm flipV="1">
            <a:off x="2885760" y="1585440"/>
            <a:ext cx="153000" cy="32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TextBox 30"/>
          <p:cNvSpPr/>
          <p:nvPr/>
        </p:nvSpPr>
        <p:spPr>
          <a:xfrm>
            <a:off x="3614400" y="117000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 = 8 or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1"/>
          <p:cNvSpPr/>
          <p:nvPr/>
        </p:nvSpPr>
        <p:spPr>
          <a:xfrm>
            <a:off x="2121120" y="3535200"/>
            <a:ext cx="493200" cy="276480"/>
          </a:xfrm>
          <a:prstGeom prst="rect">
            <a:avLst/>
          </a:pr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직선 화살표 연결선 34"/>
          <p:cNvCxnSpPr>
            <a:stCxn id="140" idx="4"/>
            <a:endCxn id="156" idx="0"/>
          </p:cNvCxnSpPr>
          <p:nvPr/>
        </p:nvCxnSpPr>
        <p:spPr>
          <a:xfrm flipH="1">
            <a:off x="4825800" y="2445840"/>
            <a:ext cx="854640" cy="10897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6" name="TextBox 35"/>
          <p:cNvSpPr/>
          <p:nvPr/>
        </p:nvSpPr>
        <p:spPr>
          <a:xfrm>
            <a:off x="4579920" y="3535200"/>
            <a:ext cx="493200" cy="276480"/>
          </a:xfrm>
          <a:prstGeom prst="rect">
            <a:avLst/>
          </a:prstGeom>
          <a:noFill/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직선 화살표 연결선 39"/>
          <p:cNvCxnSpPr>
            <a:stCxn id="156" idx="1"/>
          </p:cNvCxnSpPr>
          <p:nvPr/>
        </p:nvCxnSpPr>
        <p:spPr>
          <a:xfrm flipH="1">
            <a:off x="3146040" y="3673080"/>
            <a:ext cx="1430640" cy="3358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8" name="직선 화살표 연결선 43"/>
          <p:cNvCxnSpPr>
            <a:stCxn id="142" idx="2"/>
          </p:cNvCxnSpPr>
          <p:nvPr/>
        </p:nvCxnSpPr>
        <p:spPr>
          <a:xfrm>
            <a:off x="2368080" y="3813120"/>
            <a:ext cx="43560" cy="264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Summary of 1D FD-ALF (BA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52680" y="1522440"/>
            <a:ext cx="1466640" cy="1467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664080" y="1522440"/>
            <a:ext cx="1334880" cy="1467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1919880" y="31240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x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9"/>
          <p:cNvSpPr/>
          <p:nvPr/>
        </p:nvSpPr>
        <p:spPr>
          <a:xfrm>
            <a:off x="3964320" y="3132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x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1147680" y="3713040"/>
            <a:ext cx="729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lock size for variance is MxM (instead of 4x4 in 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Filter coefficients are calculated as the same way for RA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same block variance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1"/>
          <p:cNvSpPr/>
          <p:nvPr/>
        </p:nvSpPr>
        <p:spPr>
          <a:xfrm>
            <a:off x="1679760" y="105876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1xM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2"/>
          <p:cNvSpPr/>
          <p:nvPr/>
        </p:nvSpPr>
        <p:spPr>
          <a:xfrm>
            <a:off x="3725280" y="1058760"/>
            <a:ext cx="121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x1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Summary of 1D FD-ALF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95200" y="1488600"/>
            <a:ext cx="8524800" cy="20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xperimental results for 1x16 and 16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4360" y="1933560"/>
          <a:ext cx="8885520" cy="2835360"/>
        </p:xfrm>
        <a:graphic>
          <a:graphicData uri="http://schemas.openxmlformats.org/drawingml/2006/table">
            <a:tbl>
              <a:tblPr/>
              <a:tblGrid>
                <a:gridCol w="820800"/>
                <a:gridCol w="676440"/>
                <a:gridCol w="658800"/>
                <a:gridCol w="674640"/>
                <a:gridCol w="674640"/>
                <a:gridCol w="658800"/>
                <a:gridCol w="674640"/>
                <a:gridCol w="674640"/>
                <a:gridCol w="673200"/>
                <a:gridCol w="674640"/>
                <a:gridCol w="674640"/>
                <a:gridCol w="674640"/>
                <a:gridCol w="675000"/>
              </a:tblGrid>
              <a:tr h="2134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ll Intra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andom Access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ow delay P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ow delay B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굴림"/>
              </a:rPr>
              <a:t>Analysis complexity of filtering per one pix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9600" y="1431720"/>
            <a:ext cx="852480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F in HM 4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FD-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개체 10"/>
          <p:cNvGraphicFramePr/>
          <p:nvPr/>
        </p:nvGraphicFramePr>
        <p:xfrm>
          <a:off x="1015920" y="2212920"/>
          <a:ext cx="17136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개체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212920"/>
                    <a:ext cx="17136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개체 12"/>
          <p:cNvGraphicFramePr/>
          <p:nvPr/>
        </p:nvGraphicFramePr>
        <p:xfrm>
          <a:off x="1006560" y="2527200"/>
          <a:ext cx="209520" cy="20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개체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6560" y="2527200"/>
                    <a:ext cx="20952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49360" y="1832040"/>
          <a:ext cx="3565440" cy="947520"/>
        </p:xfrm>
        <a:graphic>
          <a:graphicData uri="http://schemas.openxmlformats.org/drawingml/2006/table">
            <a:tbl>
              <a:tblPr/>
              <a:tblGrid>
                <a:gridCol w="1189080"/>
                <a:gridCol w="1187280"/>
                <a:gridCol w="1189080"/>
              </a:tblGrid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 5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 11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개체 22"/>
          <p:cNvGraphicFramePr/>
          <p:nvPr/>
        </p:nvGraphicFramePr>
        <p:xfrm>
          <a:off x="968400" y="4280040"/>
          <a:ext cx="171360" cy="1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개체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68400" y="4280040"/>
                    <a:ext cx="17136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개체 26"/>
          <p:cNvGraphicFramePr/>
          <p:nvPr/>
        </p:nvGraphicFramePr>
        <p:xfrm>
          <a:off x="939960" y="4613400"/>
          <a:ext cx="209520" cy="20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개체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9960" y="4613400"/>
                    <a:ext cx="20952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592200" y="3860640"/>
          <a:ext cx="3549600" cy="1025640"/>
        </p:xfrm>
        <a:graphic>
          <a:graphicData uri="http://schemas.openxmlformats.org/drawingml/2006/table">
            <a:tbl>
              <a:tblPr/>
              <a:tblGrid>
                <a:gridCol w="887400"/>
                <a:gridCol w="887400"/>
                <a:gridCol w="887400"/>
                <a:gridCol w="887400"/>
              </a:tblGrid>
              <a:tr h="341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  <a:ea typeface="굴림"/>
              </a:rPr>
              <a:t>Simulation Resul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9600" y="1431720"/>
            <a:ext cx="852480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F in HM 4.0 vs. FD-ALF for HE-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06440" y="1933560"/>
          <a:ext cx="6603840" cy="3294000"/>
        </p:xfrm>
        <a:graphic>
          <a:graphicData uri="http://schemas.openxmlformats.org/drawingml/2006/table">
            <a:tbl>
              <a:tblPr/>
              <a:tblGrid>
                <a:gridCol w="1120680"/>
                <a:gridCol w="922320"/>
                <a:gridCol w="898560"/>
                <a:gridCol w="920880"/>
                <a:gridCol w="922320"/>
                <a:gridCol w="898560"/>
                <a:gridCol w="920520"/>
              </a:tblGrid>
              <a:tr h="2134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All Intra HE (M=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andom Access HE (M=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8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4200" rIns="342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  <a:ea typeface="굴림"/>
              </a:rPr>
              <a:t>Simulation Resul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600" y="1431720"/>
            <a:ext cx="852480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F in HM 4.0 vs. FD-ALF for HE-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06440" y="1933560"/>
          <a:ext cx="6603840" cy="2987640"/>
        </p:xfrm>
        <a:graphic>
          <a:graphicData uri="http://schemas.openxmlformats.org/drawingml/2006/table">
            <a:tbl>
              <a:tblPr/>
              <a:tblGrid>
                <a:gridCol w="1120680"/>
                <a:gridCol w="922320"/>
                <a:gridCol w="898560"/>
                <a:gridCol w="920880"/>
                <a:gridCol w="922320"/>
                <a:gridCol w="898560"/>
                <a:gridCol w="920520"/>
              </a:tblGrid>
              <a:tr h="2134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andom Access HE (M=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Random Access HE (M=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  <a:ea typeface="굴림"/>
              </a:rPr>
              <a:t>Simulation Resul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9600" y="1431720"/>
            <a:ext cx="852480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LF in HM 4.0 vs. FD-ALF for HE-L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0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06440" y="2120760"/>
          <a:ext cx="6603840" cy="3081600"/>
        </p:xfrm>
        <a:graphic>
          <a:graphicData uri="http://schemas.openxmlformats.org/drawingml/2006/table">
            <a:tbl>
              <a:tblPr/>
              <a:tblGrid>
                <a:gridCol w="1120680"/>
                <a:gridCol w="922320"/>
                <a:gridCol w="898560"/>
                <a:gridCol w="920880"/>
                <a:gridCol w="922320"/>
                <a:gridCol w="898560"/>
                <a:gridCol w="920520"/>
              </a:tblGrid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ow delay P HE (M=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Low delay B HE (M=1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>Ju Ock</dc:creator>
  <dc:description>PresentationLoad.com</dc:description>
  <dc:language>en-US</dc:language>
  <cp:lastModifiedBy>Ju Ock</cp:lastModifiedBy>
  <dcterms:modified xsi:type="dcterms:W3CDTF">2011-11-25T15:43:12Z</dcterms:modified>
  <cp:revision>146</cp:revision>
  <dc:subject/>
  <dc:title>PowerPoint Template</dc:title>
</cp:coreProperties>
</file>