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1.wmf" ContentType="image/x-wmf"/>
  <Override PartName="/ppt/media/image12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AutoShape 1"/>
          <p:cNvSpPr/>
          <p:nvPr/>
        </p:nvSpPr>
        <p:spPr>
          <a:xfrm>
            <a:off x="0" y="0"/>
            <a:ext cx="6781680" cy="992520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612">
                <a:moveTo>
                  <a:pt x="5" y="0"/>
                </a:moveTo>
                <a:arcTo wR="5" hR="5" stAng="16200000" swAng="-5400000"/>
                <a:lnTo>
                  <a:pt x="0" y="31607"/>
                </a:lnTo>
                <a:arcTo wR="5" hR="5" stAng="10800000" swAng="-5400000"/>
                <a:lnTo>
                  <a:pt x="21595" y="3161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Text Box 2"/>
          <p:cNvSpPr/>
          <p:nvPr/>
        </p:nvSpPr>
        <p:spPr>
          <a:xfrm>
            <a:off x="0" y="0"/>
            <a:ext cx="29401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Text Box 3"/>
          <p:cNvSpPr/>
          <p:nvPr/>
        </p:nvSpPr>
        <p:spPr>
          <a:xfrm>
            <a:off x="3841920" y="0"/>
            <a:ext cx="29397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Click to move the slide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05040" y="4714920"/>
            <a:ext cx="4970160" cy="44654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6"/>
          <p:cNvSpPr/>
          <p:nvPr/>
        </p:nvSpPr>
        <p:spPr>
          <a:xfrm>
            <a:off x="0" y="9429840"/>
            <a:ext cx="29401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sldNum" idx="4"/>
          </p:nvPr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BAA8A-3AAE-4D83-A82E-2201915C8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Rectangle 7"/>
          <p:cNvSpPr/>
          <p:nvPr/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CC50FB-9361-49DB-B987-EDC94381EF87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Text Box 1"/>
          <p:cNvSpPr/>
          <p:nvPr/>
        </p:nvSpPr>
        <p:spPr>
          <a:xfrm>
            <a:off x="3841920" y="9429840"/>
            <a:ext cx="29397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49A0DD-29C8-41DE-9749-F36BF25697F7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Rectangle 7"/>
          <p:cNvSpPr/>
          <p:nvPr/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49657-E5F4-4464-A315-183E01AD119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Rectangle 7"/>
          <p:cNvSpPr/>
          <p:nvPr/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578E25-1F05-404E-967D-490AC44D8BB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Rectangle 7"/>
          <p:cNvSpPr/>
          <p:nvPr/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AB5D10-063E-4B80-B6F5-C2FCF8564AD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C837F-B213-4ED0-BE7B-5A1895B3415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469D8-3848-4182-8F95-43ACAC746F5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Rectangle 7"/>
          <p:cNvSpPr/>
          <p:nvPr/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0C407-00AF-41F9-8657-6AAF1910A90B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A485F-FB8D-4916-92EB-B3C2C4C5DDC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448D2-180E-4A80-B90A-5CE42F32E46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229707-9967-4702-9C85-C9B02CF2359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7"/>
          <p:cNvSpPr/>
          <p:nvPr/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6DF49-7914-4956-ADE7-F43917998F7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7"/>
          <p:cNvSpPr/>
          <p:nvPr/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C23A8-1C32-46FC-B620-6225BF40F8A9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7"/>
          <p:cNvSpPr/>
          <p:nvPr/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8D60D-0EBF-4F09-9331-6F4E3C18F08E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Text Box 1"/>
          <p:cNvSpPr/>
          <p:nvPr/>
        </p:nvSpPr>
        <p:spPr>
          <a:xfrm>
            <a:off x="3841920" y="9429840"/>
            <a:ext cx="29397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2FD5EF-D1EC-4E76-949B-16154795FD7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Rectangle 7"/>
          <p:cNvSpPr/>
          <p:nvPr/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64D850-2C19-487E-AB20-DE4A56C22E6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A28C9-8AF7-4082-9A62-FE6C8856777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7"/>
          <p:cNvSpPr/>
          <p:nvPr/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83B50-AD33-46B4-8E42-2614CBA559B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7"/>
          <p:cNvSpPr/>
          <p:nvPr/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B9703-F254-4BFD-8340-078602B92B6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256891-9545-44BE-AEAB-2673740B409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A146B-B7CD-4405-AA79-2A05A8172675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3841920" y="942984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20C8D4-0103-4643-AF2C-D60CC02A568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90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91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651960" y="349200"/>
            <a:ext cx="79218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51960" y="3676680"/>
            <a:ext cx="792828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14560" y="95580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519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714560" y="3676680"/>
            <a:ext cx="386892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33288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13440" y="95580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5196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33288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13440" y="3676680"/>
            <a:ext cx="2552760" cy="24843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51960" y="348120"/>
            <a:ext cx="7921800" cy="5356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669000"/>
            <a:ext cx="9132840" cy="189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Text Box 2"/>
          <p:cNvSpPr/>
          <p:nvPr/>
        </p:nvSpPr>
        <p:spPr>
          <a:xfrm>
            <a:off x="3968280" y="6673680"/>
            <a:ext cx="680400" cy="1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0800" tIns="6480" bIns="6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1C292B-C102-4325-957F-9B0E4F137366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3657600" y="20160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12600" y="0"/>
            <a:ext cx="2916360" cy="857160"/>
          </a:xfrm>
          <a:prstGeom prst="rect">
            <a:avLst/>
          </a:prstGeom>
          <a:ln w="0">
            <a:noFill/>
          </a:ln>
        </p:spPr>
      </p:pic>
      <p:sp>
        <p:nvSpPr>
          <p:cNvPr id="4" name="Text Box 5"/>
          <p:cNvSpPr/>
          <p:nvPr/>
        </p:nvSpPr>
        <p:spPr>
          <a:xfrm>
            <a:off x="200160" y="284040"/>
            <a:ext cx="22111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Huawei Technolog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80640"/>
            <a:ext cx="809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6600cc"/>
                </a:solidFill>
                <a:uFillTx/>
                <a:latin typeface="Arial"/>
              </a:rPr>
              <a:t>Click to edit the title text format</a:t>
            </a:r>
            <a:endParaRPr b="1" lang="en-US" sz="3000" spc="-1" strike="noStrike" u="sng">
              <a:solidFill>
                <a:srgbClr val="6600cc"/>
              </a:solidFill>
              <a:uFillTx/>
              <a:latin typeface="Arial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7371360" y="662292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awei Top Confidential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202680" y="6610320"/>
            <a:ext cx="12049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7/16/11 10:03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1"/>
          <p:cNvSpPr/>
          <p:nvPr/>
        </p:nvSpPr>
        <p:spPr>
          <a:xfrm>
            <a:off x="0" y="6669000"/>
            <a:ext cx="9132840" cy="189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2"/>
          <p:cNvSpPr/>
          <p:nvPr/>
        </p:nvSpPr>
        <p:spPr>
          <a:xfrm>
            <a:off x="3968280" y="6673680"/>
            <a:ext cx="680400" cy="1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0800" tIns="6480" bIns="6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7BD208-BCEF-4068-BC86-3740F50A343E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3657600" y="20160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Picture 4" descr=""/>
          <p:cNvPicPr/>
          <p:nvPr/>
        </p:nvPicPr>
        <p:blipFill>
          <a:blip r:embed="rId2"/>
          <a:stretch/>
        </p:blipFill>
        <p:spPr>
          <a:xfrm>
            <a:off x="12600" y="0"/>
            <a:ext cx="2916360" cy="85716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5"/>
          <p:cNvSpPr/>
          <p:nvPr/>
        </p:nvSpPr>
        <p:spPr>
          <a:xfrm>
            <a:off x="200160" y="284040"/>
            <a:ext cx="22111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Huawei Technolog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7371360" y="662292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awei Top Confidential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7"/>
          <p:cNvSpPr/>
          <p:nvPr/>
        </p:nvSpPr>
        <p:spPr>
          <a:xfrm>
            <a:off x="202680" y="6610320"/>
            <a:ext cx="12049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7/16/11 10:03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42560" y="80640"/>
            <a:ext cx="809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6600cc"/>
                </a:solidFill>
                <a:uFillTx/>
                <a:latin typeface="Arial"/>
              </a:rPr>
              <a:t>Click to edit the title text format</a:t>
            </a:r>
            <a:endParaRPr b="1" lang="en-US" sz="3000" spc="-1" strike="noStrike" u="sng">
              <a:solidFill>
                <a:srgbClr val="6600cc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1"/>
          <p:cNvSpPr/>
          <p:nvPr/>
        </p:nvSpPr>
        <p:spPr>
          <a:xfrm>
            <a:off x="0" y="6669000"/>
            <a:ext cx="9132840" cy="189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2"/>
          <p:cNvSpPr/>
          <p:nvPr/>
        </p:nvSpPr>
        <p:spPr>
          <a:xfrm>
            <a:off x="3968280" y="6673680"/>
            <a:ext cx="680400" cy="1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0800" tIns="6480" bIns="6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AF1E8B-16E7-4894-8827-906892214E2A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3"/>
          <p:cNvSpPr/>
          <p:nvPr/>
        </p:nvSpPr>
        <p:spPr>
          <a:xfrm>
            <a:off x="3657600" y="20160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4" descr=""/>
          <p:cNvPicPr/>
          <p:nvPr/>
        </p:nvPicPr>
        <p:blipFill>
          <a:blip r:embed="rId2"/>
          <a:stretch/>
        </p:blipFill>
        <p:spPr>
          <a:xfrm>
            <a:off x="12600" y="0"/>
            <a:ext cx="2916360" cy="85716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5"/>
          <p:cNvSpPr/>
          <p:nvPr/>
        </p:nvSpPr>
        <p:spPr>
          <a:xfrm>
            <a:off x="200160" y="284040"/>
            <a:ext cx="22111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Huawei Technolog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6"/>
          <p:cNvSpPr/>
          <p:nvPr/>
        </p:nvSpPr>
        <p:spPr>
          <a:xfrm>
            <a:off x="7371360" y="662292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awei Top Confidential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7"/>
          <p:cNvSpPr/>
          <p:nvPr/>
        </p:nvSpPr>
        <p:spPr>
          <a:xfrm>
            <a:off x="202680" y="6610320"/>
            <a:ext cx="12049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7/16/11 10:03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42560" y="80640"/>
            <a:ext cx="809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6600cc"/>
                </a:solidFill>
                <a:uFillTx/>
                <a:latin typeface="Arial"/>
              </a:rPr>
              <a:t>Click to edit the title text format</a:t>
            </a:r>
            <a:endParaRPr b="1" lang="en-US" sz="3000" spc="-1" strike="noStrike" u="sng">
              <a:solidFill>
                <a:srgbClr val="6600cc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1"/>
          <p:cNvSpPr/>
          <p:nvPr/>
        </p:nvSpPr>
        <p:spPr>
          <a:xfrm>
            <a:off x="0" y="6669000"/>
            <a:ext cx="9132840" cy="189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 Box 2"/>
          <p:cNvSpPr/>
          <p:nvPr/>
        </p:nvSpPr>
        <p:spPr>
          <a:xfrm>
            <a:off x="3968280" y="6673680"/>
            <a:ext cx="680400" cy="1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0800" tIns="6480" bIns="6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18A1BB-7DE6-4B8A-B57F-17BE6104F858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3657600" y="20160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Picture 4" descr=""/>
          <p:cNvPicPr/>
          <p:nvPr/>
        </p:nvPicPr>
        <p:blipFill>
          <a:blip r:embed="rId2"/>
          <a:stretch/>
        </p:blipFill>
        <p:spPr>
          <a:xfrm>
            <a:off x="12600" y="0"/>
            <a:ext cx="2916360" cy="85716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5"/>
          <p:cNvSpPr/>
          <p:nvPr/>
        </p:nvSpPr>
        <p:spPr>
          <a:xfrm>
            <a:off x="200160" y="284040"/>
            <a:ext cx="22111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Huawei Technolog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6"/>
          <p:cNvSpPr/>
          <p:nvPr/>
        </p:nvSpPr>
        <p:spPr>
          <a:xfrm>
            <a:off x="7371360" y="662292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awei Top Confidential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7"/>
          <p:cNvSpPr/>
          <p:nvPr/>
        </p:nvSpPr>
        <p:spPr>
          <a:xfrm>
            <a:off x="202680" y="6610320"/>
            <a:ext cx="12049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7/16/11 10:03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42560" y="80640"/>
            <a:ext cx="809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6600cc"/>
                </a:solidFill>
                <a:uFillTx/>
                <a:latin typeface="Arial"/>
              </a:rPr>
              <a:t>Click to edit the title text format</a:t>
            </a:r>
            <a:endParaRPr b="1" lang="en-US" sz="3000" spc="-1" strike="noStrike" u="sng">
              <a:solidFill>
                <a:srgbClr val="6600cc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1"/>
          <p:cNvSpPr/>
          <p:nvPr/>
        </p:nvSpPr>
        <p:spPr>
          <a:xfrm>
            <a:off x="0" y="6669000"/>
            <a:ext cx="9132840" cy="189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 Box 2"/>
          <p:cNvSpPr/>
          <p:nvPr/>
        </p:nvSpPr>
        <p:spPr>
          <a:xfrm>
            <a:off x="3968280" y="6673680"/>
            <a:ext cx="680400" cy="1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0800" tIns="6480" bIns="6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B0A6ED-3E42-4C76-B91E-1F3355B3482C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Text Box 3"/>
          <p:cNvSpPr/>
          <p:nvPr/>
        </p:nvSpPr>
        <p:spPr>
          <a:xfrm>
            <a:off x="3657600" y="20160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7" name="Picture 4" descr=""/>
          <p:cNvPicPr/>
          <p:nvPr/>
        </p:nvPicPr>
        <p:blipFill>
          <a:blip r:embed="rId2"/>
          <a:stretch/>
        </p:blipFill>
        <p:spPr>
          <a:xfrm>
            <a:off x="12600" y="0"/>
            <a:ext cx="2916360" cy="85716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5"/>
          <p:cNvSpPr/>
          <p:nvPr/>
        </p:nvSpPr>
        <p:spPr>
          <a:xfrm>
            <a:off x="200160" y="284040"/>
            <a:ext cx="22111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Huawei Technolog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Text Box 6"/>
          <p:cNvSpPr/>
          <p:nvPr/>
        </p:nvSpPr>
        <p:spPr>
          <a:xfrm>
            <a:off x="7371360" y="662292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awei Top Confidential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 Box 7"/>
          <p:cNvSpPr/>
          <p:nvPr/>
        </p:nvSpPr>
        <p:spPr>
          <a:xfrm>
            <a:off x="202680" y="6610320"/>
            <a:ext cx="12049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7/16/11 10:03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042560" y="80640"/>
            <a:ext cx="809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6600cc"/>
                </a:solidFill>
                <a:uFillTx/>
                <a:latin typeface="Arial"/>
              </a:rPr>
              <a:t>Click to edit the title text format</a:t>
            </a:r>
            <a:endParaRPr b="1" lang="en-US" sz="3000" spc="-1" strike="noStrike" u="sng">
              <a:solidFill>
                <a:srgbClr val="6600cc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1"/>
          <p:cNvSpPr/>
          <p:nvPr/>
        </p:nvSpPr>
        <p:spPr>
          <a:xfrm>
            <a:off x="0" y="6669000"/>
            <a:ext cx="9132840" cy="189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Text Box 2"/>
          <p:cNvSpPr/>
          <p:nvPr/>
        </p:nvSpPr>
        <p:spPr>
          <a:xfrm>
            <a:off x="3968280" y="6673680"/>
            <a:ext cx="680400" cy="1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0800" tIns="6480" bIns="6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0B3F12-1B9D-47D8-9DCC-B77F2F31755A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 Box 3"/>
          <p:cNvSpPr/>
          <p:nvPr/>
        </p:nvSpPr>
        <p:spPr>
          <a:xfrm>
            <a:off x="3657600" y="20160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1" name="Picture 4" descr=""/>
          <p:cNvPicPr/>
          <p:nvPr/>
        </p:nvPicPr>
        <p:blipFill>
          <a:blip r:embed="rId2"/>
          <a:stretch/>
        </p:blipFill>
        <p:spPr>
          <a:xfrm>
            <a:off x="12600" y="0"/>
            <a:ext cx="2916360" cy="857160"/>
          </a:xfrm>
          <a:prstGeom prst="rect">
            <a:avLst/>
          </a:prstGeom>
          <a:ln w="0">
            <a:noFill/>
          </a:ln>
        </p:spPr>
      </p:pic>
      <p:sp>
        <p:nvSpPr>
          <p:cNvPr id="632" name="Text Box 5"/>
          <p:cNvSpPr/>
          <p:nvPr/>
        </p:nvSpPr>
        <p:spPr>
          <a:xfrm>
            <a:off x="200160" y="284040"/>
            <a:ext cx="22111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Huawei Technolog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 Box 6"/>
          <p:cNvSpPr/>
          <p:nvPr/>
        </p:nvSpPr>
        <p:spPr>
          <a:xfrm>
            <a:off x="7371360" y="662292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awei Top Confidential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7"/>
          <p:cNvSpPr/>
          <p:nvPr/>
        </p:nvSpPr>
        <p:spPr>
          <a:xfrm>
            <a:off x="202680" y="6610320"/>
            <a:ext cx="12049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7/16/11 10:03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42560" y="80640"/>
            <a:ext cx="809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6600cc"/>
                </a:solidFill>
                <a:uFillTx/>
                <a:latin typeface="Arial"/>
              </a:rPr>
              <a:t>Click to edit the title text format</a:t>
            </a:r>
            <a:endParaRPr b="1" lang="en-US" sz="3000" spc="-1" strike="noStrike" u="sng">
              <a:solidFill>
                <a:srgbClr val="6600cc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1"/>
          <p:cNvSpPr/>
          <p:nvPr/>
        </p:nvSpPr>
        <p:spPr>
          <a:xfrm>
            <a:off x="0" y="6669000"/>
            <a:ext cx="9132840" cy="189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Text Box 2"/>
          <p:cNvSpPr/>
          <p:nvPr/>
        </p:nvSpPr>
        <p:spPr>
          <a:xfrm>
            <a:off x="3968280" y="6673680"/>
            <a:ext cx="680400" cy="1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0800" tIns="6480" bIns="6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DA12EC-F687-4B80-92BF-90E759898CD2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Text Box 3"/>
          <p:cNvSpPr/>
          <p:nvPr/>
        </p:nvSpPr>
        <p:spPr>
          <a:xfrm>
            <a:off x="3657600" y="20160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5" name="Picture 4" descr=""/>
          <p:cNvPicPr/>
          <p:nvPr/>
        </p:nvPicPr>
        <p:blipFill>
          <a:blip r:embed="rId2"/>
          <a:stretch/>
        </p:blipFill>
        <p:spPr>
          <a:xfrm>
            <a:off x="12600" y="0"/>
            <a:ext cx="2916360" cy="857160"/>
          </a:xfrm>
          <a:prstGeom prst="rect">
            <a:avLst/>
          </a:prstGeom>
          <a:ln w="0">
            <a:noFill/>
          </a:ln>
        </p:spPr>
      </p:pic>
      <p:sp>
        <p:nvSpPr>
          <p:cNvPr id="676" name="Text Box 5"/>
          <p:cNvSpPr/>
          <p:nvPr/>
        </p:nvSpPr>
        <p:spPr>
          <a:xfrm>
            <a:off x="200160" y="284040"/>
            <a:ext cx="22111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Huawei Technolog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Text Box 6"/>
          <p:cNvSpPr/>
          <p:nvPr/>
        </p:nvSpPr>
        <p:spPr>
          <a:xfrm>
            <a:off x="7371360" y="662292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awei Top Confidential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 Box 7"/>
          <p:cNvSpPr/>
          <p:nvPr/>
        </p:nvSpPr>
        <p:spPr>
          <a:xfrm>
            <a:off x="202680" y="6610320"/>
            <a:ext cx="12049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7/16/11 10:03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42560" y="80640"/>
            <a:ext cx="809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6600cc"/>
                </a:solidFill>
                <a:uFillTx/>
                <a:latin typeface="Arial"/>
              </a:rPr>
              <a:t>Click to edit the title text format</a:t>
            </a:r>
            <a:endParaRPr b="1" lang="en-US" sz="3000" spc="-1" strike="noStrike" u="sng">
              <a:solidFill>
                <a:srgbClr val="6600cc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1"/>
          <p:cNvSpPr/>
          <p:nvPr/>
        </p:nvSpPr>
        <p:spPr>
          <a:xfrm>
            <a:off x="0" y="6669000"/>
            <a:ext cx="9132840" cy="189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 Box 2"/>
          <p:cNvSpPr/>
          <p:nvPr/>
        </p:nvSpPr>
        <p:spPr>
          <a:xfrm>
            <a:off x="3968280" y="6673680"/>
            <a:ext cx="680400" cy="1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0800" tIns="6480" bIns="6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E1A296-50B2-4001-B49A-F7D74A86BD8D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Text Box 3"/>
          <p:cNvSpPr/>
          <p:nvPr/>
        </p:nvSpPr>
        <p:spPr>
          <a:xfrm>
            <a:off x="3657600" y="20160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9" name="Picture 4" descr=""/>
          <p:cNvPicPr/>
          <p:nvPr/>
        </p:nvPicPr>
        <p:blipFill>
          <a:blip r:embed="rId2"/>
          <a:stretch/>
        </p:blipFill>
        <p:spPr>
          <a:xfrm>
            <a:off x="12600" y="0"/>
            <a:ext cx="2916360" cy="857160"/>
          </a:xfrm>
          <a:prstGeom prst="rect">
            <a:avLst/>
          </a:prstGeom>
          <a:ln w="0">
            <a:noFill/>
          </a:ln>
        </p:spPr>
      </p:pic>
      <p:sp>
        <p:nvSpPr>
          <p:cNvPr id="720" name="Text Box 5"/>
          <p:cNvSpPr/>
          <p:nvPr/>
        </p:nvSpPr>
        <p:spPr>
          <a:xfrm>
            <a:off x="200160" y="284040"/>
            <a:ext cx="22111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Huawei Technolog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Text Box 6"/>
          <p:cNvSpPr/>
          <p:nvPr/>
        </p:nvSpPr>
        <p:spPr>
          <a:xfrm>
            <a:off x="7371360" y="662292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awei Top Confidential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Text Box 7"/>
          <p:cNvSpPr/>
          <p:nvPr/>
        </p:nvSpPr>
        <p:spPr>
          <a:xfrm>
            <a:off x="202680" y="6610320"/>
            <a:ext cx="12049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7/16/11 10:03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042560" y="80640"/>
            <a:ext cx="809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6600cc"/>
                </a:solidFill>
                <a:uFillTx/>
                <a:latin typeface="Arial"/>
              </a:rPr>
              <a:t>Click to edit the title text format</a:t>
            </a:r>
            <a:endParaRPr b="1" lang="en-US" sz="3000" spc="-1" strike="noStrike" u="sng">
              <a:solidFill>
                <a:srgbClr val="6600cc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1"/>
          <p:cNvSpPr/>
          <p:nvPr/>
        </p:nvSpPr>
        <p:spPr>
          <a:xfrm>
            <a:off x="0" y="6669000"/>
            <a:ext cx="9132840" cy="189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Text Box 2"/>
          <p:cNvSpPr/>
          <p:nvPr/>
        </p:nvSpPr>
        <p:spPr>
          <a:xfrm>
            <a:off x="3968280" y="6673680"/>
            <a:ext cx="680400" cy="1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0800" tIns="6480" bIns="6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2D4800-85D5-4C40-B3EA-36EE108D5E23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Text Box 3"/>
          <p:cNvSpPr/>
          <p:nvPr/>
        </p:nvSpPr>
        <p:spPr>
          <a:xfrm>
            <a:off x="3657600" y="20160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3" name="Picture 4" descr=""/>
          <p:cNvPicPr/>
          <p:nvPr/>
        </p:nvPicPr>
        <p:blipFill>
          <a:blip r:embed="rId2"/>
          <a:stretch/>
        </p:blipFill>
        <p:spPr>
          <a:xfrm>
            <a:off x="12600" y="0"/>
            <a:ext cx="2916360" cy="857160"/>
          </a:xfrm>
          <a:prstGeom prst="rect">
            <a:avLst/>
          </a:prstGeom>
          <a:ln w="0">
            <a:noFill/>
          </a:ln>
        </p:spPr>
      </p:pic>
      <p:sp>
        <p:nvSpPr>
          <p:cNvPr id="764" name="Text Box 5"/>
          <p:cNvSpPr/>
          <p:nvPr/>
        </p:nvSpPr>
        <p:spPr>
          <a:xfrm>
            <a:off x="200160" y="284040"/>
            <a:ext cx="22111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Huawei Technolog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Text Box 6"/>
          <p:cNvSpPr/>
          <p:nvPr/>
        </p:nvSpPr>
        <p:spPr>
          <a:xfrm>
            <a:off x="7371360" y="662292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awei Top Confidential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7"/>
          <p:cNvSpPr/>
          <p:nvPr/>
        </p:nvSpPr>
        <p:spPr>
          <a:xfrm>
            <a:off x="202680" y="6610320"/>
            <a:ext cx="12049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7/16/11 10:03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042560" y="80640"/>
            <a:ext cx="809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6600cc"/>
                </a:solidFill>
                <a:uFillTx/>
                <a:latin typeface="Arial"/>
              </a:rPr>
              <a:t>Click to edit the title text format</a:t>
            </a:r>
            <a:endParaRPr b="1" lang="en-US" sz="3000" spc="-1" strike="noStrike" u="sng">
              <a:solidFill>
                <a:srgbClr val="6600cc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1" descr=""/>
          <p:cNvPicPr/>
          <p:nvPr/>
        </p:nvPicPr>
        <p:blipFill>
          <a:blip r:embed="rId2"/>
          <a:stretch/>
        </p:blipFill>
        <p:spPr>
          <a:xfrm>
            <a:off x="7508880" y="5578560"/>
            <a:ext cx="820800" cy="82224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2" descr=""/>
          <p:cNvPicPr/>
          <p:nvPr/>
        </p:nvPicPr>
        <p:blipFill>
          <a:blip r:embed="rId3"/>
          <a:stretch/>
        </p:blipFill>
        <p:spPr>
          <a:xfrm>
            <a:off x="0" y="784080"/>
            <a:ext cx="9144000" cy="3810240"/>
          </a:xfrm>
          <a:prstGeom prst="rect">
            <a:avLst/>
          </a:prstGeom>
          <a:ln w="0">
            <a:noFill/>
          </a:ln>
        </p:spPr>
      </p:pic>
      <p:sp>
        <p:nvSpPr>
          <p:cNvPr id="806" name="Text Box 3"/>
          <p:cNvSpPr/>
          <p:nvPr/>
        </p:nvSpPr>
        <p:spPr>
          <a:xfrm>
            <a:off x="7092000" y="4070520"/>
            <a:ext cx="1747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utigerNext LT Regular"/>
                <a:ea typeface="MS PGothic"/>
              </a:rPr>
              <a:t>www.huawei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Text Box 4"/>
          <p:cNvSpPr/>
          <p:nvPr/>
        </p:nvSpPr>
        <p:spPr>
          <a:xfrm>
            <a:off x="626040" y="6202440"/>
            <a:ext cx="2689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UAWEI TECHNOLOGIES Co., Lt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51960" y="349200"/>
            <a:ext cx="7921800" cy="53352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10" name="Text Box 7"/>
          <p:cNvSpPr/>
          <p:nvPr/>
        </p:nvSpPr>
        <p:spPr>
          <a:xfrm>
            <a:off x="684360" y="28116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7" name="Picture 1" descr=""/>
          <p:cNvPicPr/>
          <p:nvPr/>
        </p:nvPicPr>
        <p:blipFill>
          <a:blip r:embed="rId2"/>
          <a:stretch/>
        </p:blipFill>
        <p:spPr>
          <a:xfrm>
            <a:off x="7508880" y="5578560"/>
            <a:ext cx="820800" cy="82224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2" descr=""/>
          <p:cNvPicPr/>
          <p:nvPr/>
        </p:nvPicPr>
        <p:blipFill>
          <a:blip r:embed="rId3"/>
          <a:stretch/>
        </p:blipFill>
        <p:spPr>
          <a:xfrm>
            <a:off x="0" y="784080"/>
            <a:ext cx="9144000" cy="3810240"/>
          </a:xfrm>
          <a:prstGeom prst="rect">
            <a:avLst/>
          </a:prstGeom>
          <a:ln w="0">
            <a:noFill/>
          </a:ln>
        </p:spPr>
      </p:pic>
      <p:sp>
        <p:nvSpPr>
          <p:cNvPr id="849" name="Text Box 3"/>
          <p:cNvSpPr/>
          <p:nvPr/>
        </p:nvSpPr>
        <p:spPr>
          <a:xfrm>
            <a:off x="7092000" y="4070520"/>
            <a:ext cx="1747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utigerNext LT Regular"/>
                <a:ea typeface="MS PGothic"/>
              </a:rPr>
              <a:t>www.huawei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Rectangle 4"/>
          <p:cNvSpPr/>
          <p:nvPr/>
        </p:nvSpPr>
        <p:spPr>
          <a:xfrm>
            <a:off x="6614280" y="247680"/>
            <a:ext cx="2241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Times New Roman"/>
                <a:ea typeface="MS PGothic"/>
              </a:rPr>
              <a:t>Security Level:  Confidentia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Text Box 5"/>
          <p:cNvSpPr/>
          <p:nvPr/>
        </p:nvSpPr>
        <p:spPr>
          <a:xfrm>
            <a:off x="626040" y="6202440"/>
            <a:ext cx="2689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UAWEI TECHNOLOGIES Co., Lt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Rectangle 6"/>
          <p:cNvSpPr/>
          <p:nvPr/>
        </p:nvSpPr>
        <p:spPr>
          <a:xfrm>
            <a:off x="4158360" y="6202440"/>
            <a:ext cx="1740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UAWEI Confidential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51960" y="349200"/>
            <a:ext cx="7921800" cy="53352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55" name="Text Box 9"/>
          <p:cNvSpPr/>
          <p:nvPr/>
        </p:nvSpPr>
        <p:spPr>
          <a:xfrm>
            <a:off x="684360" y="28116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2"/>
          <a:stretch/>
        </p:blipFill>
        <p:spPr>
          <a:xfrm>
            <a:off x="0" y="6221520"/>
            <a:ext cx="9142560" cy="6364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2"/>
          <p:cNvSpPr/>
          <p:nvPr/>
        </p:nvSpPr>
        <p:spPr>
          <a:xfrm>
            <a:off x="639360" y="6435720"/>
            <a:ext cx="277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UAWEI TECHNOLOGIES CO., LT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3"/>
          <a:stretch/>
        </p:blipFill>
        <p:spPr>
          <a:xfrm>
            <a:off x="7508880" y="6400800"/>
            <a:ext cx="1309680" cy="309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dt" idx="1"/>
          </p:nvPr>
        </p:nvSpPr>
        <p:spPr>
          <a:xfrm>
            <a:off x="6360840" y="6489720"/>
            <a:ext cx="209556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</a:t>
            </a:r>
            <a:fld id="{60788AF2-77AA-4E8F-98C9-DEFBAA912829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51960" y="349200"/>
            <a:ext cx="7921800" cy="53352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2" name="Picture 1" descr=""/>
          <p:cNvPicPr/>
          <p:nvPr/>
        </p:nvPicPr>
        <p:blipFill>
          <a:blip r:embed="rId2"/>
          <a:stretch/>
        </p:blipFill>
        <p:spPr>
          <a:xfrm>
            <a:off x="7508880" y="5589720"/>
            <a:ext cx="763560" cy="76356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2" descr=""/>
          <p:cNvPicPr/>
          <p:nvPr/>
        </p:nvPicPr>
        <p:blipFill>
          <a:blip r:embed="rId3"/>
          <a:stretch/>
        </p:blipFill>
        <p:spPr>
          <a:xfrm>
            <a:off x="0" y="78264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894" name="Text Box 3"/>
          <p:cNvSpPr/>
          <p:nvPr/>
        </p:nvSpPr>
        <p:spPr>
          <a:xfrm>
            <a:off x="595800" y="6207120"/>
            <a:ext cx="27324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HUAWEI TECHNOLOGIES CO., LT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Text Box 4"/>
          <p:cNvSpPr/>
          <p:nvPr/>
        </p:nvSpPr>
        <p:spPr>
          <a:xfrm>
            <a:off x="7128000" y="4094280"/>
            <a:ext cx="152532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FrutigerNext LT Regular"/>
                <a:ea typeface="MS PGothic"/>
              </a:rPr>
              <a:t>www.huawei.co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Rectangle 5"/>
          <p:cNvSpPr/>
          <p:nvPr/>
        </p:nvSpPr>
        <p:spPr>
          <a:xfrm>
            <a:off x="3921480" y="6207120"/>
            <a:ext cx="17532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Huawei Confidential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Rectangle 6"/>
          <p:cNvSpPr/>
          <p:nvPr/>
        </p:nvSpPr>
        <p:spPr>
          <a:xfrm>
            <a:off x="6829560" y="247680"/>
            <a:ext cx="139644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FrutigerNext LT Regular"/>
                <a:ea typeface="MS PGothic"/>
              </a:rPr>
              <a:t>Security Level: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Text Box 7"/>
          <p:cNvSpPr/>
          <p:nvPr/>
        </p:nvSpPr>
        <p:spPr>
          <a:xfrm>
            <a:off x="-1968480" y="1322280"/>
            <a:ext cx="1968480" cy="37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40-47pt 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6-30pt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7pt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  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4-28pt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3960" cy="8701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8280" cy="4192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43080" indent="0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01" name="Text Box 10"/>
          <p:cNvSpPr/>
          <p:nvPr/>
        </p:nvSpPr>
        <p:spPr>
          <a:xfrm>
            <a:off x="684360" y="282600"/>
            <a:ext cx="21333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1960" y="638280"/>
            <a:ext cx="7928280" cy="86832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8280" cy="419256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-1844640" y="89856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标题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标题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正文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20-30pt 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Regular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正文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20-30pt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293760" indent="-292320" algn="r">
              <a:lnSpc>
                <a:spcPct val="125000"/>
              </a:lnSpc>
              <a:tabLst>
                <a:tab algn="l" pos="0"/>
                <a:tab algn="l" pos="293760"/>
                <a:tab algn="l" pos="1208160"/>
                <a:tab algn="l" pos="2122560"/>
                <a:tab algn="l" pos="3036960"/>
                <a:tab algn="l" pos="3951360"/>
                <a:tab algn="l" pos="4865760"/>
                <a:tab algn="l" pos="5780160"/>
                <a:tab algn="l" pos="6694560"/>
                <a:tab algn="l" pos="7608960"/>
                <a:tab algn="l" pos="8523360"/>
                <a:tab algn="l" pos="9437760"/>
                <a:tab algn="l" pos="1035216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9199440" y="4726080"/>
            <a:ext cx="92556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新建目录页请在选定目录页的前提下新建；内页同理。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3124800" y="2131920"/>
            <a:ext cx="28360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utigerNext LT Medium"/>
                <a:ea typeface="MS PGothic"/>
              </a:rPr>
              <a:t>Thank You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3242880" y="3330720"/>
            <a:ext cx="253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FrutigerNext LT Regular"/>
                <a:ea typeface="MS PGothic"/>
              </a:rPr>
              <a:t>www.huawei.com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" descr=""/>
          <p:cNvPicPr/>
          <p:nvPr/>
        </p:nvPicPr>
        <p:blipFill>
          <a:blip r:embed="rId2"/>
          <a:stretch/>
        </p:blipFill>
        <p:spPr>
          <a:xfrm>
            <a:off x="0" y="6221520"/>
            <a:ext cx="9142560" cy="6364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2"/>
          <p:cNvSpPr/>
          <p:nvPr/>
        </p:nvSpPr>
        <p:spPr>
          <a:xfrm>
            <a:off x="639360" y="6435720"/>
            <a:ext cx="277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UAWEI TECHNOLOGIES CO., LT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3"/>
          <a:stretch/>
        </p:blipFill>
        <p:spPr>
          <a:xfrm>
            <a:off x="7508880" y="6400800"/>
            <a:ext cx="1309680" cy="3096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dt" idx="2"/>
          </p:nvPr>
        </p:nvSpPr>
        <p:spPr>
          <a:xfrm>
            <a:off x="6360840" y="6489720"/>
            <a:ext cx="209556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</a:t>
            </a:r>
            <a:fld id="{0BD8A374-1516-4084-B8A2-804D26131553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651960" y="349200"/>
            <a:ext cx="7921800" cy="53352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3836880" y="6435720"/>
            <a:ext cx="1658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uawei Confidential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body"/>
          </p:nvPr>
        </p:nvSpPr>
        <p:spPr>
          <a:xfrm>
            <a:off x="651960" y="955800"/>
            <a:ext cx="7928280" cy="5208480"/>
          </a:xfrm>
          <a:prstGeom prst="rect">
            <a:avLst/>
          </a:prstGeom>
          <a:noFill/>
          <a:ln w="0">
            <a:noFill/>
          </a:ln>
        </p:spPr>
        <p:txBody>
          <a:bodyPr lIns="78480" rIns="78480" tIns="39240" bIns="39240" anchor="t">
            <a:normAutofit/>
          </a:bodyPr>
          <a:p>
            <a:pPr marL="343080" indent="0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" descr="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2"/>
          <p:cNvSpPr/>
          <p:nvPr/>
        </p:nvSpPr>
        <p:spPr>
          <a:xfrm>
            <a:off x="595800" y="6438960"/>
            <a:ext cx="27324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HUAWEI TECHNOLOGIES CO., LT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dt" idx="3"/>
          </p:nvPr>
        </p:nvSpPr>
        <p:spPr>
          <a:xfrm>
            <a:off x="6360840" y="6489360"/>
            <a:ext cx="20955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FrutigerNext LT Bold"/>
                <a:ea typeface="MS PGothic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Page </a:t>
            </a:r>
            <a:fld id="{A974EA9D-7242-427E-A7B1-83D342718159}" type="slidenum">
              <a:rPr b="0" lang="de-DE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3960" cy="8701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3829320" y="6438960"/>
            <a:ext cx="175320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Huawei Confidential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-1908000" y="52848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英文标题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:32-35pt 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颜色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: R153 G0 B0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FrutigerNext LT Regular"/>
              </a:rPr>
              <a:t>内部使用字体 </a:t>
            </a:r>
            <a:r>
              <a:rPr b="1" lang="en-US" sz="1100" spc="-1" strike="noStrike">
                <a:solidFill>
                  <a:srgbClr val="ffffff"/>
                </a:solidFill>
                <a:latin typeface="FrutigerNext LT Regular"/>
              </a:rPr>
              <a:t>: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FrutigerNext LT Regular"/>
              </a:rPr>
              <a:t>FrutigerNext LT Medium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FrutigerNext LT Regular"/>
              </a:rPr>
              <a:t>外部使用字体 </a:t>
            </a:r>
            <a:r>
              <a:rPr b="1" lang="en-US" sz="1100" spc="-1" strike="noStrike">
                <a:solidFill>
                  <a:srgbClr val="ffffff"/>
                </a:solidFill>
                <a:latin typeface="FrutigerNext LT Regular"/>
              </a:rPr>
              <a:t>: Arial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中文标题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:30-32pt 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颜色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: R153 G0 B0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字体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黑体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英文正文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:20-22pt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子目录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(2-5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级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) :18pt 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颜色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黑色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FrutigerNext LT Regular"/>
              </a:rPr>
              <a:t>内部使用字体 </a:t>
            </a:r>
            <a:r>
              <a:rPr b="1" lang="en-US" sz="1100" spc="-1" strike="noStrike">
                <a:solidFill>
                  <a:srgbClr val="ffffff"/>
                </a:solidFill>
                <a:latin typeface="FrutigerNext LT Regular"/>
              </a:rPr>
              <a:t>: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FrutigerNext LT Regular"/>
              </a:rPr>
              <a:t>FrutigerNext LT Regular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FrutigerNext LT Regular"/>
              </a:rPr>
              <a:t>外部使用字体 </a:t>
            </a:r>
            <a:r>
              <a:rPr b="1" lang="en-US" sz="1100" spc="-1" strike="noStrike">
                <a:solidFill>
                  <a:srgbClr val="ffffff"/>
                </a:solidFill>
                <a:latin typeface="FrutigerNext LT Regular"/>
              </a:rPr>
              <a:t>: Arial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中文正文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:18-20pt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子目录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(2-5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级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):18pt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颜色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黑色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字体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细黑体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99440" y="1424160"/>
            <a:ext cx="10494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华文细黑"/>
              </a:rPr>
              <a:t>配色参考方案：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华文细黑"/>
              </a:rPr>
              <a:t>建议同一页面内不超过四种颜色，以下是</a:t>
            </a:r>
            <a:r>
              <a:rPr b="1" lang="en-US" sz="1100" spc="-1" strike="noStrike">
                <a:solidFill>
                  <a:srgbClr val="ffffff"/>
                </a:solidFill>
                <a:latin typeface="华文细黑"/>
              </a:rPr>
              <a:t>13</a:t>
            </a:r>
            <a:r>
              <a:rPr b="1" lang="zh-CN" sz="1100" spc="-1" strike="noStrike">
                <a:solidFill>
                  <a:srgbClr val="ffffff"/>
                </a:solidFill>
                <a:latin typeface="华文细黑"/>
              </a:rPr>
              <a:t>组配色方案，同一页面内只选择一组使用。（仅供参考）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9199440" y="-61920"/>
            <a:ext cx="104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华文细黑"/>
              </a:rPr>
              <a:t>客户或者合作伙伴的标志放在右上角</a:t>
            </a:r>
            <a:r>
              <a:rPr b="1" lang="en-US" sz="1100" spc="-1" strike="noStrike">
                <a:solidFill>
                  <a:srgbClr val="ffffff"/>
                </a:solidFill>
                <a:latin typeface="华文细黑"/>
              </a:rPr>
              <a:t>.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8280" cy="4192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343080" indent="0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343080" indent="-343080">
              <a:lnSpc>
                <a:spcPct val="140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9269280" y="3429000"/>
            <a:ext cx="919440" cy="34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Group 12"/>
          <p:cNvGrpSpPr/>
          <p:nvPr/>
        </p:nvGrpSpPr>
        <p:grpSpPr>
          <a:xfrm>
            <a:off x="9354960" y="3789000"/>
            <a:ext cx="738360" cy="181080"/>
            <a:chOff x="9354960" y="3789000"/>
            <a:chExt cx="738360" cy="181080"/>
          </a:xfrm>
        </p:grpSpPr>
        <p:sp>
          <p:nvSpPr>
            <p:cNvPr id="220" name="Rectangle 13"/>
            <p:cNvSpPr/>
            <p:nvPr/>
          </p:nvSpPr>
          <p:spPr>
            <a:xfrm flipV="1">
              <a:off x="9540720" y="3788640"/>
              <a:ext cx="182880" cy="1810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Rectangle 14"/>
            <p:cNvSpPr/>
            <p:nvPr/>
          </p:nvSpPr>
          <p:spPr>
            <a:xfrm flipV="1">
              <a:off x="9725040" y="3788640"/>
              <a:ext cx="182520" cy="181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15"/>
            <p:cNvSpPr/>
            <p:nvPr/>
          </p:nvSpPr>
          <p:spPr>
            <a:xfrm flipV="1">
              <a:off x="9909000" y="3788640"/>
              <a:ext cx="184320" cy="181080"/>
            </a:xfrm>
            <a:prstGeom prst="rect">
              <a:avLst/>
            </a:prstGeom>
            <a:solidFill>
              <a:srgbClr val="9966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16"/>
            <p:cNvSpPr/>
            <p:nvPr/>
          </p:nvSpPr>
          <p:spPr>
            <a:xfrm flipV="1">
              <a:off x="9354960" y="3788640"/>
              <a:ext cx="184320" cy="1810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4" name="Group 17"/>
          <p:cNvGrpSpPr/>
          <p:nvPr/>
        </p:nvGrpSpPr>
        <p:grpSpPr>
          <a:xfrm>
            <a:off x="9354960" y="4005360"/>
            <a:ext cx="738360" cy="180720"/>
            <a:chOff x="9354960" y="4005360"/>
            <a:chExt cx="738360" cy="180720"/>
          </a:xfrm>
        </p:grpSpPr>
        <p:sp>
          <p:nvSpPr>
            <p:cNvPr id="225" name="Rectangle 18"/>
            <p:cNvSpPr/>
            <p:nvPr/>
          </p:nvSpPr>
          <p:spPr>
            <a:xfrm flipV="1">
              <a:off x="9540720" y="4005360"/>
              <a:ext cx="182880" cy="180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19"/>
            <p:cNvSpPr/>
            <p:nvPr/>
          </p:nvSpPr>
          <p:spPr>
            <a:xfrm flipV="1">
              <a:off x="9725040" y="4005360"/>
              <a:ext cx="182520" cy="1807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20"/>
            <p:cNvSpPr/>
            <p:nvPr/>
          </p:nvSpPr>
          <p:spPr>
            <a:xfrm flipV="1">
              <a:off x="9909000" y="4005360"/>
              <a:ext cx="184320" cy="1807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Rectangle 21"/>
            <p:cNvSpPr/>
            <p:nvPr/>
          </p:nvSpPr>
          <p:spPr>
            <a:xfrm flipV="1">
              <a:off x="9354960" y="4005360"/>
              <a:ext cx="184320" cy="180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Group 22"/>
          <p:cNvGrpSpPr/>
          <p:nvPr/>
        </p:nvGrpSpPr>
        <p:grpSpPr>
          <a:xfrm>
            <a:off x="9354960" y="4220640"/>
            <a:ext cx="738360" cy="181080"/>
            <a:chOff x="9354960" y="4220640"/>
            <a:chExt cx="738360" cy="181080"/>
          </a:xfrm>
        </p:grpSpPr>
        <p:sp>
          <p:nvSpPr>
            <p:cNvPr id="230" name="Rectangle 23"/>
            <p:cNvSpPr/>
            <p:nvPr/>
          </p:nvSpPr>
          <p:spPr>
            <a:xfrm flipV="1">
              <a:off x="9540720" y="4220280"/>
              <a:ext cx="182880" cy="18108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Rectangle 24"/>
            <p:cNvSpPr/>
            <p:nvPr/>
          </p:nvSpPr>
          <p:spPr>
            <a:xfrm flipV="1">
              <a:off x="9725040" y="4220280"/>
              <a:ext cx="182520" cy="1810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25"/>
            <p:cNvSpPr/>
            <p:nvPr/>
          </p:nvSpPr>
          <p:spPr>
            <a:xfrm flipV="1">
              <a:off x="9909000" y="4220280"/>
              <a:ext cx="184320" cy="1810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Rectangle 26"/>
            <p:cNvSpPr/>
            <p:nvPr/>
          </p:nvSpPr>
          <p:spPr>
            <a:xfrm flipV="1">
              <a:off x="9354960" y="4220280"/>
              <a:ext cx="184320" cy="1810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Group 27"/>
          <p:cNvGrpSpPr/>
          <p:nvPr/>
        </p:nvGrpSpPr>
        <p:grpSpPr>
          <a:xfrm>
            <a:off x="9354960" y="3573360"/>
            <a:ext cx="738360" cy="187200"/>
            <a:chOff x="9354960" y="3573360"/>
            <a:chExt cx="738360" cy="187200"/>
          </a:xfrm>
        </p:grpSpPr>
        <p:sp>
          <p:nvSpPr>
            <p:cNvPr id="235" name="Rectangle 28"/>
            <p:cNvSpPr/>
            <p:nvPr/>
          </p:nvSpPr>
          <p:spPr>
            <a:xfrm flipV="1">
              <a:off x="9725040" y="3573360"/>
              <a:ext cx="182520" cy="1872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Rectangle 29"/>
            <p:cNvSpPr/>
            <p:nvPr/>
          </p:nvSpPr>
          <p:spPr>
            <a:xfrm flipV="1">
              <a:off x="9909000" y="3573360"/>
              <a:ext cx="184320" cy="1872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Rectangle 30"/>
            <p:cNvSpPr/>
            <p:nvPr/>
          </p:nvSpPr>
          <p:spPr>
            <a:xfrm flipV="1">
              <a:off x="9354960" y="3573360"/>
              <a:ext cx="184320" cy="187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Rectangle 31"/>
            <p:cNvSpPr/>
            <p:nvPr/>
          </p:nvSpPr>
          <p:spPr>
            <a:xfrm flipV="1">
              <a:off x="9540720" y="3573360"/>
              <a:ext cx="182880" cy="1872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9" name="Group 32"/>
          <p:cNvGrpSpPr/>
          <p:nvPr/>
        </p:nvGrpSpPr>
        <p:grpSpPr>
          <a:xfrm>
            <a:off x="9354960" y="4581000"/>
            <a:ext cx="738360" cy="181080"/>
            <a:chOff x="9354960" y="4581000"/>
            <a:chExt cx="738360" cy="181080"/>
          </a:xfrm>
        </p:grpSpPr>
        <p:sp>
          <p:nvSpPr>
            <p:cNvPr id="240" name="Rectangle 33"/>
            <p:cNvSpPr/>
            <p:nvPr/>
          </p:nvSpPr>
          <p:spPr>
            <a:xfrm flipV="1">
              <a:off x="9540720" y="4580640"/>
              <a:ext cx="182880" cy="181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Rectangle 34"/>
            <p:cNvSpPr/>
            <p:nvPr/>
          </p:nvSpPr>
          <p:spPr>
            <a:xfrm flipV="1">
              <a:off x="9725040" y="4580640"/>
              <a:ext cx="182520" cy="1810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Rectangle 35"/>
            <p:cNvSpPr/>
            <p:nvPr/>
          </p:nvSpPr>
          <p:spPr>
            <a:xfrm flipV="1">
              <a:off x="9909000" y="4580640"/>
              <a:ext cx="184320" cy="1810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Rectangle 36"/>
            <p:cNvSpPr/>
            <p:nvPr/>
          </p:nvSpPr>
          <p:spPr>
            <a:xfrm flipV="1">
              <a:off x="9354960" y="4580640"/>
              <a:ext cx="184320" cy="1810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4" name="Group 37"/>
          <p:cNvGrpSpPr/>
          <p:nvPr/>
        </p:nvGrpSpPr>
        <p:grpSpPr>
          <a:xfrm>
            <a:off x="9354960" y="4797000"/>
            <a:ext cx="738360" cy="181080"/>
            <a:chOff x="9354960" y="4797000"/>
            <a:chExt cx="738360" cy="181080"/>
          </a:xfrm>
        </p:grpSpPr>
        <p:sp>
          <p:nvSpPr>
            <p:cNvPr id="245" name="Rectangle 38"/>
            <p:cNvSpPr/>
            <p:nvPr/>
          </p:nvSpPr>
          <p:spPr>
            <a:xfrm flipV="1">
              <a:off x="9540720" y="4796640"/>
              <a:ext cx="182880" cy="1810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Rectangle 39"/>
            <p:cNvSpPr/>
            <p:nvPr/>
          </p:nvSpPr>
          <p:spPr>
            <a:xfrm flipV="1">
              <a:off x="9725040" y="4796640"/>
              <a:ext cx="182520" cy="1810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40"/>
            <p:cNvSpPr/>
            <p:nvPr/>
          </p:nvSpPr>
          <p:spPr>
            <a:xfrm flipV="1">
              <a:off x="9909000" y="4796640"/>
              <a:ext cx="184320" cy="181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Rectangle 41"/>
            <p:cNvSpPr/>
            <p:nvPr/>
          </p:nvSpPr>
          <p:spPr>
            <a:xfrm flipV="1">
              <a:off x="9354960" y="4796640"/>
              <a:ext cx="184320" cy="1810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9" name="Group 42"/>
          <p:cNvGrpSpPr/>
          <p:nvPr/>
        </p:nvGrpSpPr>
        <p:grpSpPr>
          <a:xfrm>
            <a:off x="9354960" y="5013000"/>
            <a:ext cx="738360" cy="181080"/>
            <a:chOff x="9354960" y="5013000"/>
            <a:chExt cx="738360" cy="181080"/>
          </a:xfrm>
        </p:grpSpPr>
        <p:sp>
          <p:nvSpPr>
            <p:cNvPr id="250" name="Rectangle 43"/>
            <p:cNvSpPr/>
            <p:nvPr/>
          </p:nvSpPr>
          <p:spPr>
            <a:xfrm flipV="1">
              <a:off x="9540720" y="5012640"/>
              <a:ext cx="182880" cy="1810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Rectangle 44"/>
            <p:cNvSpPr/>
            <p:nvPr/>
          </p:nvSpPr>
          <p:spPr>
            <a:xfrm flipV="1">
              <a:off x="9725040" y="5012640"/>
              <a:ext cx="182520" cy="1810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Rectangle 45"/>
            <p:cNvSpPr/>
            <p:nvPr/>
          </p:nvSpPr>
          <p:spPr>
            <a:xfrm flipV="1">
              <a:off x="9909000" y="5012640"/>
              <a:ext cx="184320" cy="18108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46"/>
            <p:cNvSpPr/>
            <p:nvPr/>
          </p:nvSpPr>
          <p:spPr>
            <a:xfrm flipV="1">
              <a:off x="9354960" y="5012640"/>
              <a:ext cx="184320" cy="1810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4" name="Group 47"/>
          <p:cNvGrpSpPr/>
          <p:nvPr/>
        </p:nvGrpSpPr>
        <p:grpSpPr>
          <a:xfrm>
            <a:off x="9354960" y="5373360"/>
            <a:ext cx="738360" cy="181080"/>
            <a:chOff x="9354960" y="5373360"/>
            <a:chExt cx="738360" cy="181080"/>
          </a:xfrm>
        </p:grpSpPr>
        <p:sp>
          <p:nvSpPr>
            <p:cNvPr id="255" name="Rectangle 48"/>
            <p:cNvSpPr/>
            <p:nvPr/>
          </p:nvSpPr>
          <p:spPr>
            <a:xfrm flipV="1">
              <a:off x="9540720" y="5373000"/>
              <a:ext cx="182880" cy="181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Rectangle 49"/>
            <p:cNvSpPr/>
            <p:nvPr/>
          </p:nvSpPr>
          <p:spPr>
            <a:xfrm flipV="1">
              <a:off x="9725040" y="5373000"/>
              <a:ext cx="182520" cy="1810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Rectangle 50"/>
            <p:cNvSpPr/>
            <p:nvPr/>
          </p:nvSpPr>
          <p:spPr>
            <a:xfrm flipV="1">
              <a:off x="9909000" y="5373000"/>
              <a:ext cx="184320" cy="1810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Rectangle 51"/>
            <p:cNvSpPr/>
            <p:nvPr/>
          </p:nvSpPr>
          <p:spPr>
            <a:xfrm flipV="1">
              <a:off x="9354960" y="5373000"/>
              <a:ext cx="184320" cy="181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9" name="Group 52"/>
          <p:cNvGrpSpPr/>
          <p:nvPr/>
        </p:nvGrpSpPr>
        <p:grpSpPr>
          <a:xfrm>
            <a:off x="9354960" y="5589720"/>
            <a:ext cx="738360" cy="180720"/>
            <a:chOff x="9354960" y="5589720"/>
            <a:chExt cx="738360" cy="180720"/>
          </a:xfrm>
        </p:grpSpPr>
        <p:sp>
          <p:nvSpPr>
            <p:cNvPr id="260" name="Rectangle 53"/>
            <p:cNvSpPr/>
            <p:nvPr/>
          </p:nvSpPr>
          <p:spPr>
            <a:xfrm flipV="1">
              <a:off x="9540720" y="5589720"/>
              <a:ext cx="182880" cy="1807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54"/>
            <p:cNvSpPr/>
            <p:nvPr/>
          </p:nvSpPr>
          <p:spPr>
            <a:xfrm flipV="1">
              <a:off x="9725040" y="5589720"/>
              <a:ext cx="182520" cy="180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55"/>
            <p:cNvSpPr/>
            <p:nvPr/>
          </p:nvSpPr>
          <p:spPr>
            <a:xfrm flipV="1">
              <a:off x="9909000" y="5589720"/>
              <a:ext cx="184320" cy="180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56"/>
            <p:cNvSpPr/>
            <p:nvPr/>
          </p:nvSpPr>
          <p:spPr>
            <a:xfrm flipV="1">
              <a:off x="9354960" y="5589720"/>
              <a:ext cx="184320" cy="180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Group 57"/>
          <p:cNvGrpSpPr/>
          <p:nvPr/>
        </p:nvGrpSpPr>
        <p:grpSpPr>
          <a:xfrm>
            <a:off x="9354960" y="5805000"/>
            <a:ext cx="738360" cy="181080"/>
            <a:chOff x="9354960" y="5805000"/>
            <a:chExt cx="738360" cy="181080"/>
          </a:xfrm>
        </p:grpSpPr>
        <p:sp>
          <p:nvSpPr>
            <p:cNvPr id="265" name="Rectangle 58"/>
            <p:cNvSpPr/>
            <p:nvPr/>
          </p:nvSpPr>
          <p:spPr>
            <a:xfrm flipV="1">
              <a:off x="9540720" y="5804640"/>
              <a:ext cx="182880" cy="1810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59"/>
            <p:cNvSpPr/>
            <p:nvPr/>
          </p:nvSpPr>
          <p:spPr>
            <a:xfrm flipV="1">
              <a:off x="9725040" y="5804640"/>
              <a:ext cx="182520" cy="1810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60"/>
            <p:cNvSpPr/>
            <p:nvPr/>
          </p:nvSpPr>
          <p:spPr>
            <a:xfrm flipV="1">
              <a:off x="9909000" y="5804640"/>
              <a:ext cx="184320" cy="18108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61"/>
            <p:cNvSpPr/>
            <p:nvPr/>
          </p:nvSpPr>
          <p:spPr>
            <a:xfrm flipV="1">
              <a:off x="9354960" y="5804640"/>
              <a:ext cx="184320" cy="181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Group 62"/>
          <p:cNvGrpSpPr/>
          <p:nvPr/>
        </p:nvGrpSpPr>
        <p:grpSpPr>
          <a:xfrm>
            <a:off x="9354960" y="6165360"/>
            <a:ext cx="738360" cy="181080"/>
            <a:chOff x="9354960" y="6165360"/>
            <a:chExt cx="738360" cy="181080"/>
          </a:xfrm>
        </p:grpSpPr>
        <p:sp>
          <p:nvSpPr>
            <p:cNvPr id="270" name="Rectangle 63"/>
            <p:cNvSpPr/>
            <p:nvPr/>
          </p:nvSpPr>
          <p:spPr>
            <a:xfrm flipV="1">
              <a:off x="9540720" y="6165000"/>
              <a:ext cx="182880" cy="181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64"/>
            <p:cNvSpPr/>
            <p:nvPr/>
          </p:nvSpPr>
          <p:spPr>
            <a:xfrm flipV="1">
              <a:off x="9725040" y="6165000"/>
              <a:ext cx="182520" cy="1810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65"/>
            <p:cNvSpPr/>
            <p:nvPr/>
          </p:nvSpPr>
          <p:spPr>
            <a:xfrm flipV="1">
              <a:off x="9909000" y="6165000"/>
              <a:ext cx="184320" cy="1810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66"/>
            <p:cNvSpPr/>
            <p:nvPr/>
          </p:nvSpPr>
          <p:spPr>
            <a:xfrm flipV="1">
              <a:off x="9354960" y="6165000"/>
              <a:ext cx="184320" cy="1810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4" name="Group 67"/>
          <p:cNvGrpSpPr/>
          <p:nvPr/>
        </p:nvGrpSpPr>
        <p:grpSpPr>
          <a:xfrm>
            <a:off x="9354960" y="6391440"/>
            <a:ext cx="738360" cy="180720"/>
            <a:chOff x="9354960" y="6391440"/>
            <a:chExt cx="738360" cy="180720"/>
          </a:xfrm>
        </p:grpSpPr>
        <p:sp>
          <p:nvSpPr>
            <p:cNvPr id="275" name="Rectangle 68"/>
            <p:cNvSpPr/>
            <p:nvPr/>
          </p:nvSpPr>
          <p:spPr>
            <a:xfrm flipV="1">
              <a:off x="9540720" y="6391440"/>
              <a:ext cx="182880" cy="1807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69"/>
            <p:cNvSpPr/>
            <p:nvPr/>
          </p:nvSpPr>
          <p:spPr>
            <a:xfrm flipV="1">
              <a:off x="9725040" y="6391440"/>
              <a:ext cx="182520" cy="180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70"/>
            <p:cNvSpPr/>
            <p:nvPr/>
          </p:nvSpPr>
          <p:spPr>
            <a:xfrm flipV="1">
              <a:off x="9909000" y="6391440"/>
              <a:ext cx="184320" cy="180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71"/>
            <p:cNvSpPr/>
            <p:nvPr/>
          </p:nvSpPr>
          <p:spPr>
            <a:xfrm flipV="1">
              <a:off x="9354960" y="6391440"/>
              <a:ext cx="184320" cy="180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Group 72"/>
          <p:cNvGrpSpPr/>
          <p:nvPr/>
        </p:nvGrpSpPr>
        <p:grpSpPr>
          <a:xfrm>
            <a:off x="9354960" y="6614640"/>
            <a:ext cx="738360" cy="181080"/>
            <a:chOff x="9354960" y="6614640"/>
            <a:chExt cx="738360" cy="181080"/>
          </a:xfrm>
        </p:grpSpPr>
        <p:sp>
          <p:nvSpPr>
            <p:cNvPr id="280" name="Rectangle 73"/>
            <p:cNvSpPr/>
            <p:nvPr/>
          </p:nvSpPr>
          <p:spPr>
            <a:xfrm flipV="1">
              <a:off x="9540720" y="6614280"/>
              <a:ext cx="182880" cy="181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74"/>
            <p:cNvSpPr/>
            <p:nvPr/>
          </p:nvSpPr>
          <p:spPr>
            <a:xfrm flipV="1">
              <a:off x="9725040" y="6614280"/>
              <a:ext cx="182520" cy="1810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75"/>
            <p:cNvSpPr/>
            <p:nvPr/>
          </p:nvSpPr>
          <p:spPr>
            <a:xfrm flipV="1">
              <a:off x="9909000" y="6614280"/>
              <a:ext cx="184320" cy="1810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76"/>
            <p:cNvSpPr/>
            <p:nvPr/>
          </p:nvSpPr>
          <p:spPr>
            <a:xfrm flipV="1">
              <a:off x="9354960" y="6614280"/>
              <a:ext cx="184320" cy="1810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"/>
          <p:cNvSpPr/>
          <p:nvPr/>
        </p:nvSpPr>
        <p:spPr>
          <a:xfrm>
            <a:off x="0" y="6669000"/>
            <a:ext cx="9132840" cy="189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2"/>
          <p:cNvSpPr/>
          <p:nvPr/>
        </p:nvSpPr>
        <p:spPr>
          <a:xfrm>
            <a:off x="3968280" y="6673680"/>
            <a:ext cx="680400" cy="1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0800" tIns="6480" bIns="6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A86650-E3C1-4A77-95B9-368DB8080919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3657600" y="20160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12600" y="0"/>
            <a:ext cx="2916360" cy="85716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5"/>
          <p:cNvSpPr/>
          <p:nvPr/>
        </p:nvSpPr>
        <p:spPr>
          <a:xfrm>
            <a:off x="200160" y="284040"/>
            <a:ext cx="22111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Huawei Technolog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7371360" y="662292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awei Top Confidential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202680" y="6610320"/>
            <a:ext cx="12049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7/16/11 10:03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42560" y="80640"/>
            <a:ext cx="809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6600cc"/>
                </a:solidFill>
                <a:uFillTx/>
                <a:latin typeface="Arial"/>
              </a:rPr>
              <a:t>Click to edit the title text format</a:t>
            </a:r>
            <a:endParaRPr b="1" lang="en-US" sz="3000" spc="-1" strike="noStrike" u="sng">
              <a:solidFill>
                <a:srgbClr val="6600cc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1"/>
          <p:cNvSpPr/>
          <p:nvPr/>
        </p:nvSpPr>
        <p:spPr>
          <a:xfrm>
            <a:off x="0" y="6669000"/>
            <a:ext cx="9132840" cy="189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2"/>
          <p:cNvSpPr/>
          <p:nvPr/>
        </p:nvSpPr>
        <p:spPr>
          <a:xfrm>
            <a:off x="3968280" y="6673680"/>
            <a:ext cx="680400" cy="1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0800" tIns="6480" bIns="6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304267-E25A-45D5-9F29-341823728291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3657600" y="20160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4" descr=""/>
          <p:cNvPicPr/>
          <p:nvPr/>
        </p:nvPicPr>
        <p:blipFill>
          <a:blip r:embed="rId2"/>
          <a:stretch/>
        </p:blipFill>
        <p:spPr>
          <a:xfrm>
            <a:off x="12600" y="0"/>
            <a:ext cx="2916360" cy="85716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5"/>
          <p:cNvSpPr/>
          <p:nvPr/>
        </p:nvSpPr>
        <p:spPr>
          <a:xfrm>
            <a:off x="200160" y="284040"/>
            <a:ext cx="22111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Huawei Technolog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7371360" y="662292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awei Top Confidential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202680" y="6610320"/>
            <a:ext cx="12049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7/16/11 10:03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42560" y="80640"/>
            <a:ext cx="809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6600cc"/>
                </a:solidFill>
                <a:uFillTx/>
                <a:latin typeface="Arial"/>
              </a:rPr>
              <a:t>Click to edit the title text format</a:t>
            </a:r>
            <a:endParaRPr b="1" lang="en-US" sz="3000" spc="-1" strike="noStrike" u="sng">
              <a:solidFill>
                <a:srgbClr val="6600cc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1"/>
          <p:cNvSpPr/>
          <p:nvPr/>
        </p:nvSpPr>
        <p:spPr>
          <a:xfrm>
            <a:off x="0" y="6669000"/>
            <a:ext cx="9132840" cy="189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3968280" y="6673680"/>
            <a:ext cx="680400" cy="1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0800" tIns="6480" bIns="6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DD8390-662F-4D96-9FB4-95EA830AEFFD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3657600" y="20160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Picture 4" descr=""/>
          <p:cNvPicPr/>
          <p:nvPr/>
        </p:nvPicPr>
        <p:blipFill>
          <a:blip r:embed="rId2"/>
          <a:stretch/>
        </p:blipFill>
        <p:spPr>
          <a:xfrm>
            <a:off x="12600" y="0"/>
            <a:ext cx="2916360" cy="85716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5"/>
          <p:cNvSpPr/>
          <p:nvPr/>
        </p:nvSpPr>
        <p:spPr>
          <a:xfrm>
            <a:off x="200160" y="284040"/>
            <a:ext cx="22111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黑体"/>
              </a:rPr>
              <a:t>Huawei Technolog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6"/>
          <p:cNvSpPr/>
          <p:nvPr/>
        </p:nvSpPr>
        <p:spPr>
          <a:xfrm>
            <a:off x="7371360" y="662292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awei Top Confidential 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202680" y="6610320"/>
            <a:ext cx="12049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7/16/11 10:03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42560" y="80640"/>
            <a:ext cx="8099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 u="sng">
                <a:solidFill>
                  <a:srgbClr val="6600cc"/>
                </a:solidFill>
                <a:uFillTx/>
                <a:latin typeface="Arial"/>
              </a:rPr>
              <a:t>Click to edit the title text format</a:t>
            </a:r>
            <a:endParaRPr b="1" lang="en-US" sz="3000" spc="-1" strike="noStrike" u="sng">
              <a:solidFill>
                <a:srgbClr val="6600cc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Text Box 1"/>
          <p:cNvSpPr/>
          <p:nvPr/>
        </p:nvSpPr>
        <p:spPr>
          <a:xfrm>
            <a:off x="0" y="1011240"/>
            <a:ext cx="719280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82640"/>
                <a:tab algn="l" pos="1566720"/>
                <a:tab algn="l" pos="2351160"/>
                <a:tab algn="l" pos="3135240"/>
                <a:tab algn="l" pos="3919680"/>
                <a:tab algn="l" pos="4703760"/>
                <a:tab algn="l" pos="5487840"/>
                <a:tab algn="l" pos="6272280"/>
                <a:tab algn="l" pos="7056360"/>
                <a:tab algn="l" pos="7840800"/>
                <a:tab algn="l" pos="8624880"/>
                <a:tab algn="l" pos="9408960"/>
                <a:tab algn="l" pos="10193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  <a:ea typeface="黑体"/>
              </a:rPr>
              <a:t>A Lossless Coding Solution for HEVC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Text Box 2"/>
          <p:cNvSpPr/>
          <p:nvPr/>
        </p:nvSpPr>
        <p:spPr>
          <a:xfrm>
            <a:off x="228600" y="2798640"/>
            <a:ext cx="5778360" cy="17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782640"/>
                <a:tab algn="l" pos="1566720"/>
                <a:tab algn="l" pos="2351160"/>
                <a:tab algn="l" pos="3135240"/>
                <a:tab algn="l" pos="3919680"/>
                <a:tab algn="l" pos="4703760"/>
                <a:tab algn="l" pos="5487840"/>
                <a:tab algn="l" pos="6272280"/>
                <a:tab algn="l" pos="7056360"/>
                <a:tab algn="l" pos="7840800"/>
                <a:tab algn="l" pos="8624880"/>
                <a:tab algn="l" pos="9408960"/>
                <a:tab algn="l" pos="10193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  <a:ea typeface="华文细黑"/>
              </a:rPr>
              <a:t>Nov. 21,201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82640"/>
                <a:tab algn="l" pos="1566720"/>
                <a:tab algn="l" pos="2351160"/>
                <a:tab algn="l" pos="3135240"/>
                <a:tab algn="l" pos="3919680"/>
                <a:tab algn="l" pos="4703760"/>
                <a:tab algn="l" pos="5487840"/>
                <a:tab algn="l" pos="6272280"/>
                <a:tab algn="l" pos="7056360"/>
                <a:tab algn="l" pos="7840800"/>
                <a:tab algn="l" pos="8624880"/>
                <a:tab algn="l" pos="9408960"/>
                <a:tab algn="l" pos="10193400"/>
                <a:tab algn="l" pos="105156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82640"/>
                <a:tab algn="l" pos="1566720"/>
                <a:tab algn="l" pos="2351160"/>
                <a:tab algn="l" pos="3135240"/>
                <a:tab algn="l" pos="3919680"/>
                <a:tab algn="l" pos="4703760"/>
                <a:tab algn="l" pos="5487840"/>
                <a:tab algn="l" pos="6272280"/>
                <a:tab algn="l" pos="7056360"/>
                <a:tab algn="l" pos="7840800"/>
                <a:tab algn="l" pos="8624880"/>
                <a:tab algn="l" pos="9408960"/>
                <a:tab algn="l" pos="1019340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MT"/>
                <a:ea typeface="华文细黑"/>
              </a:rPr>
              <a:t>Wen Gao, Minqiang, Ye He, Jin Song, Haoping Yu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Freeform 3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ff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Text Box 1"/>
          <p:cNvSpPr/>
          <p:nvPr/>
        </p:nvSpPr>
        <p:spPr>
          <a:xfrm>
            <a:off x="652320" y="349200"/>
            <a:ext cx="81867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82640"/>
                <a:tab algn="l" pos="1566720"/>
                <a:tab algn="l" pos="2351160"/>
                <a:tab algn="l" pos="3135240"/>
                <a:tab algn="l" pos="3919680"/>
                <a:tab algn="l" pos="4703760"/>
                <a:tab algn="l" pos="5487840"/>
                <a:tab algn="l" pos="6272280"/>
                <a:tab algn="l" pos="7056360"/>
                <a:tab algn="l" pos="7840800"/>
                <a:tab algn="l" pos="8624880"/>
                <a:tab algn="l" pos="9408960"/>
                <a:tab algn="l" pos="10193400"/>
                <a:tab algn="l" pos="105156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Modification of Binarization of Intra Luma Residuals (2)</a:t>
            </a:r>
            <a:r>
              <a:rPr b="1" lang="en-US" sz="28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Text Box 2"/>
          <p:cNvSpPr/>
          <p:nvPr/>
        </p:nvSpPr>
        <p:spPr>
          <a:xfrm>
            <a:off x="652320" y="955800"/>
            <a:ext cx="792972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cRiceParam adaptation method 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Text Box 3"/>
          <p:cNvSpPr/>
          <p:nvPr/>
        </p:nvSpPr>
        <p:spPr>
          <a:xfrm>
            <a:off x="6361200" y="6489720"/>
            <a:ext cx="209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Page </a:t>
            </a:r>
            <a:fld id="{74009D50-1BE3-461F-9D9B-609A84CC4ECC}" type="slidenum"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Rectangle 4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Rectangle 1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8" name=""/>
          <p:cNvGraphicFramePr/>
          <p:nvPr/>
        </p:nvGraphicFramePr>
        <p:xfrm>
          <a:off x="685800" y="1676520"/>
          <a:ext cx="7162920" cy="2816280"/>
        </p:xfrm>
        <a:graphic>
          <a:graphicData uri="http://schemas.openxmlformats.org/drawingml/2006/table">
            <a:tbl>
              <a:tblPr/>
              <a:tblGrid>
                <a:gridCol w="1150920"/>
                <a:gridCol w="316080"/>
                <a:gridCol w="314280"/>
                <a:gridCol w="315720"/>
                <a:gridCol w="316080"/>
                <a:gridCol w="315720"/>
                <a:gridCol w="314280"/>
                <a:gridCol w="316080"/>
                <a:gridCol w="316080"/>
                <a:gridCol w="314280"/>
                <a:gridCol w="315720"/>
                <a:gridCol w="316080"/>
                <a:gridCol w="423720"/>
                <a:gridCol w="423720"/>
                <a:gridCol w="422280"/>
                <a:gridCol w="424080"/>
                <a:gridCol w="423720"/>
                <a:gridCol w="424080"/>
              </a:tblGrid>
              <a:tr h="3470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1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(value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15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7040"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0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Text Box 1"/>
          <p:cNvSpPr/>
          <p:nvPr/>
        </p:nvSpPr>
        <p:spPr>
          <a:xfrm>
            <a:off x="652320" y="349200"/>
            <a:ext cx="81867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82640"/>
                <a:tab algn="l" pos="1566720"/>
                <a:tab algn="l" pos="2351160"/>
                <a:tab algn="l" pos="3135240"/>
                <a:tab algn="l" pos="3919680"/>
                <a:tab algn="l" pos="4703760"/>
                <a:tab algn="l" pos="5487840"/>
                <a:tab algn="l" pos="6272280"/>
                <a:tab algn="l" pos="7056360"/>
                <a:tab algn="l" pos="7840800"/>
                <a:tab algn="l" pos="8624880"/>
                <a:tab algn="l" pos="9408960"/>
                <a:tab algn="l" pos="10193400"/>
                <a:tab algn="l" pos="105156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Modification of Binarization of Intra Luma Residuals (3)</a:t>
            </a:r>
            <a:r>
              <a:rPr b="1" lang="en-US" sz="28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Text Box 2"/>
          <p:cNvSpPr/>
          <p:nvPr/>
        </p:nvSpPr>
        <p:spPr>
          <a:xfrm>
            <a:off x="652320" y="955800"/>
            <a:ext cx="7929720" cy="51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cRiceParam adaptation method 2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3120" indent="-115920">
              <a:lnSpc>
                <a:spcPct val="140000"/>
              </a:lnSpc>
              <a:buClr>
                <a:srgbClr val="808080"/>
              </a:buClr>
              <a:buFont typeface="Wingdings" charset="2"/>
              <a:buChar char="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JPEG-LS adaptation method is used.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3120" indent="-115920">
              <a:lnSpc>
                <a:spcPct val="140000"/>
              </a:lnSpc>
              <a:buClr>
                <a:srgbClr val="808080"/>
              </a:buClr>
              <a:buFont typeface="Wingdings" charset="2"/>
              <a:buChar char="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unter, N, is updated as the number of previous TR coded residuals including the current one in a block 16 residuals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3120" indent="-115920">
              <a:lnSpc>
                <a:spcPct val="140000"/>
              </a:lnSpc>
              <a:buClr>
                <a:srgbClr val="808080"/>
              </a:buClr>
              <a:buFont typeface="Wingdings" charset="2"/>
              <a:buChar char="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ccumulator, A, is updated as the summation of the previous TR coded including the current one in a block 16 residual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3120" indent="-115920">
              <a:lnSpc>
                <a:spcPct val="140000"/>
              </a:lnSpc>
              <a:buClr>
                <a:srgbClr val="808080"/>
              </a:buClr>
              <a:buFont typeface="Wingdings" charset="2"/>
              <a:buChar char="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RiceParam, is compu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3120" indent="-11592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for(i = 0; (N &lt;&lt; i) &lt; A; i++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3120" indent="-11592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       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宋体"/>
              </a:rPr>
              <a:t>cRiceParam = min(i, 5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3120" indent="-11592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3120" indent="-11592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 algn="ctr"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Text Box 3"/>
          <p:cNvSpPr/>
          <p:nvPr/>
        </p:nvSpPr>
        <p:spPr>
          <a:xfrm>
            <a:off x="6361200" y="6489720"/>
            <a:ext cx="209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Page </a:t>
            </a:r>
            <a:fld id="{65FC4173-6039-454B-BD57-A5C94ED2167B}" type="slidenum"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Rectangle 4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Rectangle 1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Text Box 2"/>
          <p:cNvSpPr/>
          <p:nvPr/>
        </p:nvSpPr>
        <p:spPr>
          <a:xfrm>
            <a:off x="685800" y="487692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Change EG0 to EG5 to encode (absolute value – 3 – cTRMax-1 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Text Box 1"/>
          <p:cNvSpPr/>
          <p:nvPr/>
        </p:nvSpPr>
        <p:spPr>
          <a:xfrm>
            <a:off x="652320" y="349200"/>
            <a:ext cx="8186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9d0000"/>
                </a:solidFill>
                <a:latin typeface="FrutigerNext LT Regular"/>
              </a:rPr>
              <a:t>Context Model of Signs of Luma and Chroma Prediction Residu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Text Box 2"/>
          <p:cNvSpPr/>
          <p:nvPr/>
        </p:nvSpPr>
        <p:spPr>
          <a:xfrm>
            <a:off x="652320" y="1219320"/>
            <a:ext cx="79297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HM4.0, signs of Luma and Chroma prediction residual are coded us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pass mo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text model is created for sign of Luma, Chroma-U and Chroma-V prediction residuals, respectivel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79360">
              <a:lnSpc>
                <a:spcPct val="140000"/>
              </a:lnSpc>
              <a:buClr>
                <a:srgbClr val="808080"/>
              </a:buClr>
              <a:buFont typeface="Wingdings" charset="2"/>
              <a:buChar char="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single context for each context mode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79360">
              <a:lnSpc>
                <a:spcPct val="140000"/>
              </a:lnSpc>
              <a:buClr>
                <a:srgbClr val="808080"/>
              </a:buClr>
              <a:buFont typeface="Wingdings" charset="2"/>
              <a:buChar char="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conditional probability is only changed adaptively based on the encoded sig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Text Box 3"/>
          <p:cNvSpPr/>
          <p:nvPr/>
        </p:nvSpPr>
        <p:spPr>
          <a:xfrm>
            <a:off x="6361200" y="6489720"/>
            <a:ext cx="209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Page </a:t>
            </a:r>
            <a:fld id="{23B060EC-0587-4265-8AFC-55329C074C20}" type="slidenum"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Rectangle 4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Rectangle 1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Text Box 2"/>
          <p:cNvSpPr/>
          <p:nvPr/>
        </p:nvSpPr>
        <p:spPr>
          <a:xfrm>
            <a:off x="685800" y="4648320"/>
            <a:ext cx="792972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Text Box 1"/>
          <p:cNvSpPr/>
          <p:nvPr/>
        </p:nvSpPr>
        <p:spPr>
          <a:xfrm>
            <a:off x="380880" y="120600"/>
            <a:ext cx="8458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FrutigerNext LT Regular"/>
              </a:rPr>
              <a:t>Mode Dependent Coefficient Scanning (MDCS) in HM4.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Text Box 2"/>
          <p:cNvSpPr/>
          <p:nvPr/>
        </p:nvSpPr>
        <p:spPr>
          <a:xfrm>
            <a:off x="457200" y="990720"/>
            <a:ext cx="49528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Scanning methods in intra co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5040" indent="-293760">
              <a:lnSpc>
                <a:spcPct val="140000"/>
              </a:lnSpc>
              <a:buClr>
                <a:srgbClr val="808080"/>
              </a:buClr>
              <a:buFont typeface="Wingdings" charset="2"/>
              <a:buChar char="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Horizontal Scan (1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5040" indent="-293760">
              <a:lnSpc>
                <a:spcPct val="140000"/>
              </a:lnSpc>
              <a:buClr>
                <a:srgbClr val="808080"/>
              </a:buClr>
              <a:buFont typeface="Wingdings" charset="2"/>
              <a:buChar char="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Vertical Scan (2)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5040" indent="-293760">
              <a:lnSpc>
                <a:spcPct val="140000"/>
              </a:lnSpc>
              <a:buClr>
                <a:srgbClr val="808080"/>
              </a:buClr>
              <a:buFont typeface="Wingdings" charset="2"/>
              <a:buChar char="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Zig-Zag Scan (0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5040" indent="-2937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Text Box 3"/>
          <p:cNvSpPr/>
          <p:nvPr/>
        </p:nvSpPr>
        <p:spPr>
          <a:xfrm>
            <a:off x="6361200" y="6489720"/>
            <a:ext cx="209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Page </a:t>
            </a:r>
            <a:fld id="{2F449975-6267-4050-B852-31ECD7024146}" type="slidenum"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Rectangle 4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Rectangle 1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Text Box 2"/>
          <p:cNvSpPr/>
          <p:nvPr/>
        </p:nvSpPr>
        <p:spPr>
          <a:xfrm>
            <a:off x="685800" y="4648320"/>
            <a:ext cx="792972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7" name=""/>
          <p:cNvGraphicFramePr/>
          <p:nvPr/>
        </p:nvGraphicFramePr>
        <p:xfrm>
          <a:off x="228600" y="3429000"/>
          <a:ext cx="8686800" cy="2746440"/>
        </p:xfrm>
        <a:graphic>
          <a:graphicData uri="http://schemas.openxmlformats.org/drawingml/2006/table">
            <a:tbl>
              <a:tblPr/>
              <a:tblGrid>
                <a:gridCol w="1154160"/>
                <a:gridCol w="210960"/>
                <a:gridCol w="211320"/>
                <a:gridCol w="212760"/>
                <a:gridCol w="210960"/>
                <a:gridCol w="212760"/>
                <a:gridCol w="212760"/>
                <a:gridCol w="211320"/>
                <a:gridCol w="210960"/>
                <a:gridCol w="212760"/>
                <a:gridCol w="223920"/>
                <a:gridCol w="226800"/>
                <a:gridCol w="223920"/>
                <a:gridCol w="225360"/>
                <a:gridCol w="225360"/>
                <a:gridCol w="225720"/>
                <a:gridCol w="223560"/>
                <a:gridCol w="225720"/>
                <a:gridCol w="225360"/>
                <a:gridCol w="225360"/>
                <a:gridCol w="223920"/>
                <a:gridCol w="225360"/>
                <a:gridCol w="225360"/>
                <a:gridCol w="225360"/>
                <a:gridCol w="223920"/>
                <a:gridCol w="227160"/>
                <a:gridCol w="223560"/>
                <a:gridCol w="225720"/>
                <a:gridCol w="223560"/>
                <a:gridCol w="227160"/>
                <a:gridCol w="223920"/>
                <a:gridCol w="225360"/>
                <a:gridCol w="223920"/>
                <a:gridCol w="226800"/>
                <a:gridCol w="223920"/>
              </a:tblGrid>
              <a:tr h="1157400">
                <a:tc>
                  <a:txBody>
                    <a:bodyPr lIns="6480" rIns="6480" tIns="648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e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TU 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96720">
                <a:tc>
                  <a:txBody>
                    <a:bodyPr lIns="6480" rIns="6480" tIns="648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x32 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6480" rIns="6480" tIns="648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x16 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6480" rIns="6480" tIns="648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x8 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6480" rIns="6480" tIns="648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x4 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38" name="Picture 17" descr=""/>
          <p:cNvPicPr/>
          <p:nvPr/>
        </p:nvPicPr>
        <p:blipFill>
          <a:blip r:embed="rId1"/>
          <a:stretch/>
        </p:blipFill>
        <p:spPr>
          <a:xfrm>
            <a:off x="5715000" y="838080"/>
            <a:ext cx="2819520" cy="26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Text Box 1"/>
          <p:cNvSpPr/>
          <p:nvPr/>
        </p:nvSpPr>
        <p:spPr>
          <a:xfrm>
            <a:off x="652320" y="349200"/>
            <a:ext cx="8186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9d0000"/>
                </a:solidFill>
                <a:latin typeface="FrutigerNext LT Regular"/>
              </a:rPr>
              <a:t>Mode Dependent Residual Scanning for Intra Co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Text Box 3"/>
          <p:cNvSpPr/>
          <p:nvPr/>
        </p:nvSpPr>
        <p:spPr>
          <a:xfrm>
            <a:off x="6361200" y="6489720"/>
            <a:ext cx="209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Page </a:t>
            </a:r>
            <a:fld id="{AE3B3914-C1AF-4075-941C-C342F1EF9298}" type="slidenum"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Rectangle 4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Rectangle 1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Text Box 2"/>
          <p:cNvSpPr/>
          <p:nvPr/>
        </p:nvSpPr>
        <p:spPr>
          <a:xfrm>
            <a:off x="685800" y="4648320"/>
            <a:ext cx="792972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Text Box 2"/>
          <p:cNvSpPr/>
          <p:nvPr/>
        </p:nvSpPr>
        <p:spPr>
          <a:xfrm>
            <a:off x="609480" y="114300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lossless coding, Mode dependent Residual scanning (MDRS) is propos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5" name=""/>
          <p:cNvGraphicFramePr/>
          <p:nvPr/>
        </p:nvGraphicFramePr>
        <p:xfrm>
          <a:off x="152280" y="2514600"/>
          <a:ext cx="8839440" cy="2897280"/>
        </p:xfrm>
        <a:graphic>
          <a:graphicData uri="http://schemas.openxmlformats.org/drawingml/2006/table">
            <a:tbl>
              <a:tblPr/>
              <a:tblGrid>
                <a:gridCol w="1285920"/>
                <a:gridCol w="222480"/>
                <a:gridCol w="223560"/>
                <a:gridCol w="220680"/>
                <a:gridCol w="223920"/>
                <a:gridCol w="222120"/>
                <a:gridCol w="222480"/>
                <a:gridCol w="223920"/>
                <a:gridCol w="222120"/>
                <a:gridCol w="222120"/>
                <a:gridCol w="223920"/>
                <a:gridCol w="222120"/>
                <a:gridCol w="222480"/>
                <a:gridCol w="222120"/>
                <a:gridCol w="222120"/>
                <a:gridCol w="223920"/>
                <a:gridCol w="222480"/>
                <a:gridCol w="222120"/>
                <a:gridCol w="223920"/>
                <a:gridCol w="222120"/>
                <a:gridCol w="223920"/>
                <a:gridCol w="220680"/>
                <a:gridCol w="222120"/>
                <a:gridCol w="223920"/>
                <a:gridCol w="222120"/>
                <a:gridCol w="223920"/>
                <a:gridCol w="222120"/>
                <a:gridCol w="222480"/>
                <a:gridCol w="223920"/>
                <a:gridCol w="220680"/>
                <a:gridCol w="222120"/>
                <a:gridCol w="223920"/>
                <a:gridCol w="222120"/>
                <a:gridCol w="223920"/>
                <a:gridCol w="204840"/>
              </a:tblGrid>
              <a:tr h="1219320">
                <a:tc>
                  <a:txBody>
                    <a:bodyPr lIns="6480" rIns="6480" tIns="648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e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TU 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419040">
                <a:tc>
                  <a:txBody>
                    <a:bodyPr lIns="6480" rIns="6480" tIns="648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x32 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6480" rIns="6480" tIns="648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x16 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6480" rIns="6480" tIns="648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x8 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6480" rIns="6480" tIns="648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x4 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Text Box 1"/>
          <p:cNvSpPr/>
          <p:nvPr/>
        </p:nvSpPr>
        <p:spPr>
          <a:xfrm>
            <a:off x="652320" y="228600"/>
            <a:ext cx="7923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82640"/>
                <a:tab algn="l" pos="1566720"/>
                <a:tab algn="l" pos="2351160"/>
                <a:tab algn="l" pos="3135240"/>
                <a:tab algn="l" pos="3919680"/>
                <a:tab algn="l" pos="4703760"/>
                <a:tab algn="l" pos="5487840"/>
                <a:tab algn="l" pos="6272280"/>
                <a:tab algn="l" pos="7056360"/>
                <a:tab algn="l" pos="7840800"/>
                <a:tab algn="l" pos="8624880"/>
                <a:tab algn="l" pos="9408960"/>
                <a:tab algn="l" pos="10193400"/>
                <a:tab algn="l" pos="105156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Multiple Start Scanning Positions in Inter Scanning (MSCAN)</a:t>
            </a:r>
            <a:r>
              <a:rPr b="1" lang="en-US" sz="28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Text Box 2"/>
          <p:cNvSpPr/>
          <p:nvPr/>
        </p:nvSpPr>
        <p:spPr>
          <a:xfrm>
            <a:off x="652320" y="1108080"/>
            <a:ext cx="7929720" cy="28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In lossless coding, use RDO to choose different start position of residual scanning and send the index in the bit strea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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Index = 0: scan starting from the top left corner (as in current HEVC W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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Index =1: scan starting from the top right corn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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Index =2: scan starting from the lower left corn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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Index =3: scan starting from the lower right corn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Text Box 3"/>
          <p:cNvSpPr/>
          <p:nvPr/>
        </p:nvSpPr>
        <p:spPr>
          <a:xfrm>
            <a:off x="6361200" y="6489720"/>
            <a:ext cx="209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Page </a:t>
            </a:r>
            <a:fld id="{83E3D85C-4CE6-46E4-8481-968367C4D60A}" type="slidenum"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9" name="Picture 61" descr=""/>
          <p:cNvPicPr/>
          <p:nvPr/>
        </p:nvPicPr>
        <p:blipFill>
          <a:blip r:embed="rId1"/>
          <a:stretch/>
        </p:blipFill>
        <p:spPr>
          <a:xfrm>
            <a:off x="3124080" y="3962520"/>
            <a:ext cx="251460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Text Box 1"/>
          <p:cNvSpPr/>
          <p:nvPr/>
        </p:nvSpPr>
        <p:spPr>
          <a:xfrm>
            <a:off x="652320" y="228600"/>
            <a:ext cx="7923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82640"/>
                <a:tab algn="l" pos="1566720"/>
                <a:tab algn="l" pos="2351160"/>
                <a:tab algn="l" pos="3135240"/>
                <a:tab algn="l" pos="3919680"/>
                <a:tab algn="l" pos="4703760"/>
                <a:tab algn="l" pos="5487840"/>
                <a:tab algn="l" pos="6272280"/>
                <a:tab algn="l" pos="7056360"/>
                <a:tab algn="l" pos="7840800"/>
                <a:tab algn="l" pos="8624880"/>
                <a:tab algn="l" pos="9408960"/>
                <a:tab algn="l" pos="10193400"/>
                <a:tab algn="l" pos="105156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Multiple Start Scanning Positions in Inter Scanning (MSCAN)</a:t>
            </a:r>
            <a:r>
              <a:rPr b="1" lang="en-US" sz="28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Text Box 2"/>
          <p:cNvSpPr/>
          <p:nvPr/>
        </p:nvSpPr>
        <p:spPr>
          <a:xfrm>
            <a:off x="609480" y="1295280"/>
            <a:ext cx="811080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Equivalently, we define 4 types Zigzag scanning patter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Text Box 3"/>
          <p:cNvSpPr/>
          <p:nvPr/>
        </p:nvSpPr>
        <p:spPr>
          <a:xfrm>
            <a:off x="6361200" y="6489720"/>
            <a:ext cx="209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Page </a:t>
            </a:r>
            <a:fld id="{8E1487E5-D924-4958-B454-7C3BF1A98CB8}" type="slidenum"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3" name="Picture 2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4952880" cy="41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Text Box 1"/>
          <p:cNvSpPr/>
          <p:nvPr/>
        </p:nvSpPr>
        <p:spPr>
          <a:xfrm>
            <a:off x="652320" y="349200"/>
            <a:ext cx="79232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 lvl="1" marL="341280" indent="-34128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FrutigerNext LT Regular"/>
                <a:ea typeface="黑体"/>
              </a:rPr>
              <a:t>Mechanism to indicate lossless coding mo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Text Box 2"/>
          <p:cNvSpPr/>
          <p:nvPr/>
        </p:nvSpPr>
        <p:spPr>
          <a:xfrm>
            <a:off x="652320" y="955800"/>
            <a:ext cx="7929720" cy="52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Indicate lossless coding of a CU by setting its QP</a:t>
            </a:r>
            <a:r>
              <a:rPr b="1" lang="en-US" sz="11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Y  </a:t>
            </a: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= 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2560" indent="-217440">
              <a:lnSpc>
                <a:spcPct val="140000"/>
              </a:lnSpc>
              <a:buClr>
                <a:srgbClr val="808080"/>
              </a:buClr>
              <a:buFont typeface="Wingdings" charset="2"/>
              <a:buChar char="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or those CUs using lossless coding mode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internal bit depth is set to the input bit depth and the de-blocking filter, SAO and ALF are turned off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Example 1: lossless coding for a whole picture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682560" indent="-217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t cu_qp_delta_enabled_flag=0 in SP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2560" indent="-217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t pic_init_qp_minus26=-26 in PP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2560" indent="-217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t slice_qp_delta=0 in all non-lightweight slice headers associated with the video pict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Example 2: Lossless coding for a CU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682560" indent="-217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t cu_qp_delta_enabled_flag=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2560" indent="-217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t pic_init_qp_minus26 as usual for lossy cod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2560" indent="-217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t slice_qp_delta as usual for lossy coding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2560" indent="-217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t cu_qp_delta in a CU to a value such that the derived Q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equal to 0 thus indicating lossless coding for the CU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Text Box 3"/>
          <p:cNvSpPr/>
          <p:nvPr/>
        </p:nvSpPr>
        <p:spPr>
          <a:xfrm>
            <a:off x="6361200" y="6489720"/>
            <a:ext cx="209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Page </a:t>
            </a:r>
            <a:fld id="{4D936BFD-7078-432C-8E10-0C75F9B626E8}" type="slidenum"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Text Box 1"/>
          <p:cNvSpPr/>
          <p:nvPr/>
        </p:nvSpPr>
        <p:spPr>
          <a:xfrm>
            <a:off x="652320" y="349200"/>
            <a:ext cx="79232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82640"/>
                <a:tab algn="l" pos="1566720"/>
                <a:tab algn="l" pos="2351160"/>
                <a:tab algn="l" pos="3135240"/>
                <a:tab algn="l" pos="3919680"/>
                <a:tab algn="l" pos="4703760"/>
                <a:tab algn="l" pos="5487840"/>
                <a:tab algn="l" pos="6272280"/>
                <a:tab algn="l" pos="7056360"/>
                <a:tab algn="l" pos="7840800"/>
                <a:tab algn="l" pos="8624880"/>
                <a:tab algn="l" pos="9408960"/>
                <a:tab algn="l" pos="10193400"/>
                <a:tab algn="l" pos="105156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Test Results (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Text Box 2"/>
          <p:cNvSpPr/>
          <p:nvPr/>
        </p:nvSpPr>
        <p:spPr>
          <a:xfrm>
            <a:off x="304920" y="99072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ll coding tools are integrated in HM4.0 the SDIP software used in CE6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Common test conditions are modified for lossless co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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t internal bit depth as input bit dept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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isable De-block filter, SAO and ALF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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t RDOQ=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nchors: HM4.0 and HM4.0 SDIP with QP=0 and RDOQ=0;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Compression ratio = raw data / compress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An early skip method is used to speed up encoding proces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FrutigerNext LT Regular"/>
                <a:ea typeface="华文细黑"/>
              </a:rPr>
              <a:t>Thanks to Microsoft for cross-checking (G885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Text Box 3"/>
          <p:cNvSpPr/>
          <p:nvPr/>
        </p:nvSpPr>
        <p:spPr>
          <a:xfrm>
            <a:off x="6361200" y="6489720"/>
            <a:ext cx="209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Page </a:t>
            </a:r>
            <a:fld id="{EE7DBD16-50D6-48F0-A8DA-B37C698ACAE7}" type="slidenum"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Text Box 1"/>
          <p:cNvSpPr/>
          <p:nvPr/>
        </p:nvSpPr>
        <p:spPr>
          <a:xfrm>
            <a:off x="652320" y="349200"/>
            <a:ext cx="79232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82640"/>
                <a:tab algn="l" pos="1566720"/>
                <a:tab algn="l" pos="2351160"/>
                <a:tab algn="l" pos="3135240"/>
                <a:tab algn="l" pos="3919680"/>
                <a:tab algn="l" pos="4703760"/>
                <a:tab algn="l" pos="5487840"/>
                <a:tab algn="l" pos="6272280"/>
                <a:tab algn="l" pos="7056360"/>
                <a:tab algn="l" pos="7840800"/>
                <a:tab algn="l" pos="8624880"/>
                <a:tab algn="l" pos="9408960"/>
                <a:tab algn="l" pos="10193400"/>
                <a:tab algn="l" pos="105156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Test Results 2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Text Box 3"/>
          <p:cNvSpPr/>
          <p:nvPr/>
        </p:nvSpPr>
        <p:spPr>
          <a:xfrm>
            <a:off x="6361200" y="6489720"/>
            <a:ext cx="209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Page </a:t>
            </a:r>
            <a:fld id="{D92800D5-8F15-4347-BB04-630148875B63}" type="slidenum"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Text Box 2"/>
          <p:cNvSpPr/>
          <p:nvPr/>
        </p:nvSpPr>
        <p:spPr>
          <a:xfrm>
            <a:off x="457200" y="9144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Lossless coding outperforms HM4.0 and HM4.0 SDIP with QP=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Lossless coding outperforms 7-Zip significantly in LB cases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3" name=""/>
          <p:cNvGraphicFramePr/>
          <p:nvPr/>
        </p:nvGraphicFramePr>
        <p:xfrm>
          <a:off x="533520" y="1752480"/>
          <a:ext cx="8001000" cy="4411800"/>
        </p:xfrm>
        <a:graphic>
          <a:graphicData uri="http://schemas.openxmlformats.org/drawingml/2006/table">
            <a:tbl>
              <a:tblPr/>
              <a:tblGrid>
                <a:gridCol w="1279440"/>
                <a:gridCol w="838080"/>
                <a:gridCol w="839880"/>
                <a:gridCol w="1042920"/>
                <a:gridCol w="838440"/>
                <a:gridCol w="839520"/>
                <a:gridCol w="1042920"/>
                <a:gridCol w="1279800"/>
              </a:tblGrid>
              <a:tr h="163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　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AI_HE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AI_HE_SDIP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4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　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compression ratio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bit-rate saving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compression ratio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bit-rate saving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8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　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anchor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proposed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anchor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proposed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69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Class A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2.14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2.43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-12.02%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2.15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2.57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-11.89%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Class B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1.93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2.17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-11.06%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1.95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2.20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-11.07%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3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Class C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1.79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2.07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-13.63%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1.80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2.08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-13.44%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Class D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1.71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1.97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-13.65%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1.72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1.98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-13.35%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3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Class E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2.71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3.21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-15.41%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2.73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3.22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-15.29%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Class F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3.88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5.42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华文细黑"/>
                        </a:rPr>
                        <a:t>-28.43%</a:t>
                      </a: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4.02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5.49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-26.90%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3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Overall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2.51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2.86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-9.71%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2.54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2.88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-9.35%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　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808080"/>
                          </a:solidFill>
                          <a:latin typeface="Arial"/>
                          <a:ea typeface="华文细黑"/>
                        </a:rPr>
                        <a:t>　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808080"/>
                          </a:solidFill>
                          <a:latin typeface="Arial"/>
                          <a:ea typeface="华文细黑"/>
                        </a:rPr>
                        <a:t>　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73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Enc Time[%]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84%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84%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Dec Time[%]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95%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81%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760">
                <a:tc gridSpan="7"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　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　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LB_HE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LB_HE_SDIP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7 Zip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7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　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compression ratio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bit-rate saving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compression ratio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bit-rate saving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Compression Ratio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　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anchor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proposed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anchor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proposed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3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Class A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　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　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　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　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　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　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　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0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Class B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2.18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2.39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-8.68%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2.21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2.41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-8.73%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1.81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</a:tr>
              <a:tr h="1573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Class C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2.32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2.58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-10.19%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2.32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2.58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-10.19%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1.69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</a:tr>
              <a:tr h="155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Class D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2.48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2.70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-8.75%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2.48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2.70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-8.76%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1.70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</a:tr>
              <a:tr h="1569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Class E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3.78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4.17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-9.40%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3.78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4.17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-9.40%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2.49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</a:tr>
              <a:tr h="155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Class F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51.11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55.21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-6.58%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52.20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55.58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-5.99%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42.06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</a:tr>
              <a:tr h="163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Overall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12.29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13.32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-7.24%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12.52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13.40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-7.15%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8.62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7ce"/>
                    </a:solidFill>
                  </a:tcPr>
                </a:tc>
              </a:tr>
              <a:tr h="1569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　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808080"/>
                          </a:solidFill>
                          <a:latin typeface="Arial"/>
                          <a:ea typeface="华文细黑"/>
                        </a:rPr>
                        <a:t>　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808080"/>
                          </a:solidFill>
                          <a:latin typeface="Arial"/>
                          <a:ea typeface="华文细黑"/>
                        </a:rPr>
                        <a:t>　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Enc Time[%]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126%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123%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6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Dec Time[%]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77%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70%</a:t>
                      </a:r>
                      <a:endParaRPr b="1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Text Box 1"/>
          <p:cNvSpPr/>
          <p:nvPr/>
        </p:nvSpPr>
        <p:spPr>
          <a:xfrm>
            <a:off x="652320" y="349200"/>
            <a:ext cx="79232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82640"/>
                <a:tab algn="l" pos="1566720"/>
                <a:tab algn="l" pos="2351160"/>
                <a:tab algn="l" pos="3135240"/>
                <a:tab algn="l" pos="3919680"/>
                <a:tab algn="l" pos="4703760"/>
                <a:tab algn="l" pos="5487840"/>
                <a:tab algn="l" pos="6272280"/>
                <a:tab algn="l" pos="7056360"/>
                <a:tab algn="l" pos="7840800"/>
                <a:tab algn="l" pos="8624880"/>
                <a:tab algn="l" pos="9408960"/>
                <a:tab algn="l" pos="10193400"/>
                <a:tab algn="l" pos="105156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Motiv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Text Box 2"/>
          <p:cNvSpPr/>
          <p:nvPr/>
        </p:nvSpPr>
        <p:spPr>
          <a:xfrm>
            <a:off x="533520" y="1066680"/>
            <a:ext cx="792936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MPEG-N11872 “Vision, Application and Requirements for HEVC” sta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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ossible applications include “remote video presentation and remote computer graphics display”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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Subjective visually lossless compression shall be supported. Lossless compression should be support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Interactive video communications are becoming a major feature in many application scenario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29196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E-Conference or web-conference: Screen/Desktop Shar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29196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Virtual desktop infrastructure (VDI), and Online Gam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Text Box 3"/>
          <p:cNvSpPr/>
          <p:nvPr/>
        </p:nvSpPr>
        <p:spPr>
          <a:xfrm>
            <a:off x="6361200" y="6489720"/>
            <a:ext cx="209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Page </a:t>
            </a:r>
            <a:fld id="{ABBB524B-867D-4FE6-B022-03D2D00488E9}" type="slidenum"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Date Placeholder 1"/>
          <p:cNvSpPr/>
          <p:nvPr/>
        </p:nvSpPr>
        <p:spPr>
          <a:xfrm>
            <a:off x="6361200" y="6489720"/>
            <a:ext cx="20955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</a:t>
            </a:r>
            <a:fld id="{A7552541-796D-4785-B065-861A673836F9}" type="slidenum">
              <a:rPr b="1" lang="de-DE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Text Box 1"/>
          <p:cNvSpPr/>
          <p:nvPr/>
        </p:nvSpPr>
        <p:spPr>
          <a:xfrm>
            <a:off x="652320" y="349200"/>
            <a:ext cx="79232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82640"/>
                <a:tab algn="l" pos="1566720"/>
                <a:tab algn="l" pos="2351160"/>
                <a:tab algn="l" pos="3135240"/>
                <a:tab algn="l" pos="3919680"/>
                <a:tab algn="l" pos="4703760"/>
                <a:tab algn="l" pos="5487840"/>
                <a:tab algn="l" pos="6272280"/>
                <a:tab algn="l" pos="7056360"/>
                <a:tab algn="l" pos="7840800"/>
                <a:tab algn="l" pos="8624880"/>
                <a:tab algn="l" pos="9408960"/>
                <a:tab algn="l" pos="10193400"/>
                <a:tab algn="l" pos="105156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Conclus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Text Box 2"/>
          <p:cNvSpPr/>
          <p:nvPr/>
        </p:nvSpPr>
        <p:spPr>
          <a:xfrm>
            <a:off x="304920" y="99072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Create CE for further te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2d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Text Box 1"/>
          <p:cNvSpPr/>
          <p:nvPr/>
        </p:nvSpPr>
        <p:spPr>
          <a:xfrm>
            <a:off x="6361200" y="6489720"/>
            <a:ext cx="209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Page </a:t>
            </a:r>
            <a:fld id="{C07DF5D2-F7D3-4E76-BA49-DCF0CB635B9B}" type="slidenum"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Text Box 2"/>
          <p:cNvSpPr/>
          <p:nvPr/>
        </p:nvSpPr>
        <p:spPr>
          <a:xfrm>
            <a:off x="2523960" y="2346480"/>
            <a:ext cx="4419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Times New Roman"/>
                <a:ea typeface="黑体"/>
              </a:rPr>
              <a:t>   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Text Box 3"/>
          <p:cNvSpPr/>
          <p:nvPr/>
        </p:nvSpPr>
        <p:spPr>
          <a:xfrm>
            <a:off x="3096000" y="2131920"/>
            <a:ext cx="28360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utigerNext LT Medium"/>
                <a:ea typeface="MS PGothic"/>
              </a:rPr>
              <a:t>Thank You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Text Box 4"/>
          <p:cNvSpPr/>
          <p:nvPr/>
        </p:nvSpPr>
        <p:spPr>
          <a:xfrm>
            <a:off x="3257280" y="3330720"/>
            <a:ext cx="253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FrutigerNext LT Regular"/>
                <a:ea typeface="MS PGothic"/>
              </a:rPr>
              <a:t>www.huawei.com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Text Box 1"/>
          <p:cNvSpPr/>
          <p:nvPr/>
        </p:nvSpPr>
        <p:spPr>
          <a:xfrm>
            <a:off x="652320" y="349200"/>
            <a:ext cx="79232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82640"/>
                <a:tab algn="l" pos="1566720"/>
                <a:tab algn="l" pos="2351160"/>
                <a:tab algn="l" pos="3135240"/>
                <a:tab algn="l" pos="3919680"/>
                <a:tab algn="l" pos="4703760"/>
                <a:tab algn="l" pos="5487840"/>
                <a:tab algn="l" pos="6272280"/>
                <a:tab algn="l" pos="7056360"/>
                <a:tab algn="l" pos="7840800"/>
                <a:tab algn="l" pos="8624880"/>
                <a:tab algn="l" pos="9408960"/>
                <a:tab algn="l" pos="10193400"/>
                <a:tab algn="l" pos="105156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Current HEVC Architectu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Text Box 2"/>
          <p:cNvSpPr/>
          <p:nvPr/>
        </p:nvSpPr>
        <p:spPr>
          <a:xfrm>
            <a:off x="6361200" y="6489720"/>
            <a:ext cx="209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Page </a:t>
            </a:r>
            <a:fld id="{85E7B3D5-BB12-4F83-A617-CF078DA23338}" type="slidenum"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5" name="Object 4"/>
          <p:cNvGraphicFramePr/>
          <p:nvPr/>
        </p:nvGraphicFramePr>
        <p:xfrm>
          <a:off x="609480" y="1131840"/>
          <a:ext cx="7925040" cy="47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131840"/>
                    <a:ext cx="7925040" cy="47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Text Box 1"/>
          <p:cNvSpPr/>
          <p:nvPr/>
        </p:nvSpPr>
        <p:spPr>
          <a:xfrm>
            <a:off x="652320" y="349200"/>
            <a:ext cx="79232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82640"/>
                <a:tab algn="l" pos="1566720"/>
                <a:tab algn="l" pos="2351160"/>
                <a:tab algn="l" pos="3135240"/>
                <a:tab algn="l" pos="3919680"/>
                <a:tab algn="l" pos="4703760"/>
                <a:tab algn="l" pos="5487840"/>
                <a:tab algn="l" pos="6272280"/>
                <a:tab algn="l" pos="7056360"/>
                <a:tab algn="l" pos="7840800"/>
                <a:tab algn="l" pos="8624880"/>
                <a:tab algn="l" pos="9408960"/>
                <a:tab algn="l" pos="10193400"/>
                <a:tab algn="l" pos="105156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Lossless Coding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Text Box 2"/>
          <p:cNvSpPr/>
          <p:nvPr/>
        </p:nvSpPr>
        <p:spPr>
          <a:xfrm>
            <a:off x="6361200" y="6489720"/>
            <a:ext cx="209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Page </a:t>
            </a:r>
            <a:fld id="{B4ED2AB2-B299-4F9D-B825-B497CB7DE60B}" type="slidenum"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Rectangle 3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1" name="Object 3"/>
          <p:cNvGraphicFramePr/>
          <p:nvPr/>
        </p:nvGraphicFramePr>
        <p:xfrm>
          <a:off x="1295280" y="2057400"/>
          <a:ext cx="64771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057400"/>
                    <a:ext cx="6477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Text Box 2"/>
          <p:cNvSpPr/>
          <p:nvPr/>
        </p:nvSpPr>
        <p:spPr>
          <a:xfrm>
            <a:off x="533520" y="914400"/>
            <a:ext cx="7929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Transform and Quantization Modules are bypassed to achieve lossless co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Text Box 1"/>
          <p:cNvSpPr/>
          <p:nvPr/>
        </p:nvSpPr>
        <p:spPr>
          <a:xfrm>
            <a:off x="652320" y="349200"/>
            <a:ext cx="79232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82640"/>
                <a:tab algn="l" pos="1566720"/>
                <a:tab algn="l" pos="2351160"/>
                <a:tab algn="l" pos="3135240"/>
                <a:tab algn="l" pos="3919680"/>
                <a:tab algn="l" pos="4703760"/>
                <a:tab algn="l" pos="5487840"/>
                <a:tab algn="l" pos="6272280"/>
                <a:tab algn="l" pos="7056360"/>
                <a:tab algn="l" pos="7840800"/>
                <a:tab algn="l" pos="8624880"/>
                <a:tab algn="l" pos="9408960"/>
                <a:tab algn="l" pos="10193400"/>
                <a:tab algn="l" pos="105156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Lossless coding tool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Text Box 2"/>
          <p:cNvSpPr/>
          <p:nvPr/>
        </p:nvSpPr>
        <p:spPr>
          <a:xfrm>
            <a:off x="533520" y="838080"/>
            <a:ext cx="80485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marL="291960" indent="-291960">
              <a:lnSpc>
                <a:spcPct val="14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Intra Predic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5040" indent="-24300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DPCM: Extension of the unified directional Intra (UDI) prediction in current HEVC draf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5040" indent="-24300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Use Local adaptive predictor to replace DC mo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CABAC modificatio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5040" indent="-24300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Binarization of Luma prediction residua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5040" indent="-24300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Context model of signs of Luma and Chroma prediction residua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rediction Residual Scann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5040" indent="-24300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Mode Dependent Residual Scanning (MDRS) for intra cod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5040" indent="-24300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Multiple start scanning positions for inter coding, or equivalently multiple scanning patterns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Mechanism to indicate lossless coding mod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5040" indent="-243000">
              <a:lnSpc>
                <a:spcPct val="140000"/>
              </a:lnSpc>
              <a:buClr>
                <a:srgbClr val="000000"/>
              </a:buClr>
              <a:buFont typeface="FrutigerNext LT Regular"/>
              <a:buChar char="›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QP</a:t>
            </a:r>
            <a:r>
              <a:rPr b="0" lang="en-US" sz="12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 = 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Text Box 3"/>
          <p:cNvSpPr/>
          <p:nvPr/>
        </p:nvSpPr>
        <p:spPr>
          <a:xfrm>
            <a:off x="6361200" y="6489720"/>
            <a:ext cx="209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Page </a:t>
            </a:r>
            <a:fld id="{55DEC933-F5DA-4F7B-BDDC-C5F55055BFE7}" type="slidenum"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Text Box 1"/>
          <p:cNvSpPr/>
          <p:nvPr/>
        </p:nvSpPr>
        <p:spPr>
          <a:xfrm>
            <a:off x="652320" y="349200"/>
            <a:ext cx="79232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82640"/>
                <a:tab algn="l" pos="1566720"/>
                <a:tab algn="l" pos="2351160"/>
                <a:tab algn="l" pos="3135240"/>
                <a:tab algn="l" pos="3919680"/>
                <a:tab algn="l" pos="4703760"/>
                <a:tab algn="l" pos="5487840"/>
                <a:tab algn="l" pos="6272280"/>
                <a:tab algn="l" pos="7056360"/>
                <a:tab algn="l" pos="7840800"/>
                <a:tab algn="l" pos="8624880"/>
                <a:tab algn="l" pos="9408960"/>
                <a:tab algn="l" pos="10193400"/>
                <a:tab algn="l" pos="105156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DPCM Intra Predic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Text Box 2"/>
          <p:cNvSpPr/>
          <p:nvPr/>
        </p:nvSpPr>
        <p:spPr>
          <a:xfrm>
            <a:off x="652320" y="955800"/>
            <a:ext cx="792972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No syntax modification to WD. The decoding process for intra prediction is modifi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5040" indent="-24300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Text Box 3"/>
          <p:cNvSpPr/>
          <p:nvPr/>
        </p:nvSpPr>
        <p:spPr>
          <a:xfrm>
            <a:off x="6361200" y="6489720"/>
            <a:ext cx="209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Page </a:t>
            </a:r>
            <a:fld id="{B9FF7744-0D30-48A2-AA7F-C4A2ADB1B6D8}" type="slidenum"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Rectangle 4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3" name="Object 7"/>
          <p:cNvGraphicFramePr/>
          <p:nvPr/>
        </p:nvGraphicFramePr>
        <p:xfrm>
          <a:off x="2057400" y="2057400"/>
          <a:ext cx="499752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49975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5" name="Rectangle 7"/>
          <p:cNvSpPr/>
          <p:nvPr/>
        </p:nvSpPr>
        <p:spPr>
          <a:xfrm>
            <a:off x="4267080" y="2514600"/>
            <a:ext cx="609840" cy="1828800"/>
          </a:xfrm>
          <a:prstGeom prst="rect">
            <a:avLst/>
          </a:prstGeom>
          <a:solidFill>
            <a:srgbClr val="00b8ff">
              <a:alpha val="4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76" name="Straight Arrow Connector 11"/>
          <p:cNvCxnSpPr/>
          <p:nvPr/>
        </p:nvCxnSpPr>
        <p:spPr>
          <a:xfrm flipV="1">
            <a:off x="4114440" y="2361960"/>
            <a:ext cx="305640" cy="30528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77" name="Straight Arrow Connector 13"/>
          <p:cNvCxnSpPr/>
          <p:nvPr/>
        </p:nvCxnSpPr>
        <p:spPr>
          <a:xfrm flipV="1">
            <a:off x="3505320" y="2361960"/>
            <a:ext cx="381600" cy="30528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78" name="Straight Arrow Connector 15"/>
          <p:cNvCxnSpPr/>
          <p:nvPr/>
        </p:nvCxnSpPr>
        <p:spPr>
          <a:xfrm flipV="1">
            <a:off x="2895120" y="2361960"/>
            <a:ext cx="381960" cy="30528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79" name="Straight Arrow Connector 16"/>
          <p:cNvCxnSpPr/>
          <p:nvPr/>
        </p:nvCxnSpPr>
        <p:spPr>
          <a:xfrm flipV="1">
            <a:off x="4114440" y="2894760"/>
            <a:ext cx="305640" cy="30564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80" name="Straight Arrow Connector 17"/>
          <p:cNvCxnSpPr/>
          <p:nvPr/>
        </p:nvCxnSpPr>
        <p:spPr>
          <a:xfrm flipV="1">
            <a:off x="3505320" y="2894760"/>
            <a:ext cx="381600" cy="30564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81" name="Straight Arrow Connector 18"/>
          <p:cNvCxnSpPr/>
          <p:nvPr/>
        </p:nvCxnSpPr>
        <p:spPr>
          <a:xfrm flipV="1">
            <a:off x="2895120" y="2894760"/>
            <a:ext cx="381960" cy="30564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82" name="Straight Arrow Connector 19"/>
          <p:cNvCxnSpPr/>
          <p:nvPr/>
        </p:nvCxnSpPr>
        <p:spPr>
          <a:xfrm flipV="1">
            <a:off x="4114440" y="3351960"/>
            <a:ext cx="305640" cy="30564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83" name="Straight Arrow Connector 20"/>
          <p:cNvCxnSpPr/>
          <p:nvPr/>
        </p:nvCxnSpPr>
        <p:spPr>
          <a:xfrm flipV="1">
            <a:off x="3505320" y="3351960"/>
            <a:ext cx="381600" cy="30564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84" name="Straight Arrow Connector 21"/>
          <p:cNvCxnSpPr/>
          <p:nvPr/>
        </p:nvCxnSpPr>
        <p:spPr>
          <a:xfrm flipV="1">
            <a:off x="2895120" y="3351960"/>
            <a:ext cx="381960" cy="30564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85" name="Straight Arrow Connector 22"/>
          <p:cNvCxnSpPr/>
          <p:nvPr/>
        </p:nvCxnSpPr>
        <p:spPr>
          <a:xfrm flipV="1">
            <a:off x="4114440" y="3809160"/>
            <a:ext cx="305640" cy="30564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86" name="Straight Arrow Connector 23"/>
          <p:cNvCxnSpPr/>
          <p:nvPr/>
        </p:nvCxnSpPr>
        <p:spPr>
          <a:xfrm flipV="1">
            <a:off x="3505320" y="3809160"/>
            <a:ext cx="381600" cy="30564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87" name="Straight Arrow Connector 24"/>
          <p:cNvCxnSpPr/>
          <p:nvPr/>
        </p:nvCxnSpPr>
        <p:spPr>
          <a:xfrm flipV="1">
            <a:off x="2895120" y="3809160"/>
            <a:ext cx="381960" cy="30564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88" name="Rectangle 20"/>
          <p:cNvSpPr/>
          <p:nvPr/>
        </p:nvSpPr>
        <p:spPr>
          <a:xfrm>
            <a:off x="2666880" y="2514600"/>
            <a:ext cx="2133720" cy="457200"/>
          </a:xfrm>
          <a:prstGeom prst="rect">
            <a:avLst/>
          </a:prstGeom>
          <a:solidFill>
            <a:srgbClr val="3af42c">
              <a:alpha val="5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Rectangle 21"/>
          <p:cNvSpPr/>
          <p:nvPr/>
        </p:nvSpPr>
        <p:spPr>
          <a:xfrm>
            <a:off x="2666880" y="2971800"/>
            <a:ext cx="2133720" cy="457200"/>
          </a:xfrm>
          <a:prstGeom prst="rect">
            <a:avLst/>
          </a:prstGeom>
          <a:solidFill>
            <a:srgbClr val="3af42c">
              <a:alpha val="5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Rectangle 22"/>
          <p:cNvSpPr/>
          <p:nvPr/>
        </p:nvSpPr>
        <p:spPr>
          <a:xfrm>
            <a:off x="2666880" y="3429000"/>
            <a:ext cx="2133720" cy="457200"/>
          </a:xfrm>
          <a:prstGeom prst="rect">
            <a:avLst/>
          </a:prstGeom>
          <a:solidFill>
            <a:srgbClr val="3af42c">
              <a:alpha val="5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Text Box 1"/>
          <p:cNvSpPr/>
          <p:nvPr/>
        </p:nvSpPr>
        <p:spPr>
          <a:xfrm>
            <a:off x="652320" y="349200"/>
            <a:ext cx="79232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82640"/>
                <a:tab algn="l" pos="1566720"/>
                <a:tab algn="l" pos="2351160"/>
                <a:tab algn="l" pos="3135240"/>
                <a:tab algn="l" pos="3919680"/>
                <a:tab algn="l" pos="4703760"/>
                <a:tab algn="l" pos="5487840"/>
                <a:tab algn="l" pos="6272280"/>
                <a:tab algn="l" pos="7056360"/>
                <a:tab algn="l" pos="7840800"/>
                <a:tab algn="l" pos="8624880"/>
                <a:tab algn="l" pos="9408960"/>
                <a:tab algn="l" pos="10193400"/>
                <a:tab algn="l" pos="105156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Modified DC mo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Text Box 2"/>
          <p:cNvSpPr/>
          <p:nvPr/>
        </p:nvSpPr>
        <p:spPr>
          <a:xfrm>
            <a:off x="652320" y="955800"/>
            <a:ext cx="792972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Use local adaptive predictor to replace DC mo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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Used in JPEG-LS, so call “Median Edge Predi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Text Box 3"/>
          <p:cNvSpPr/>
          <p:nvPr/>
        </p:nvSpPr>
        <p:spPr>
          <a:xfrm>
            <a:off x="6361200" y="6489720"/>
            <a:ext cx="209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Page </a:t>
            </a:r>
            <a:fld id="{9A79AD73-7239-4F26-83F7-B73B6F53E149}" type="slidenum"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Rectangle 4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6" name=""/>
          <p:cNvGraphicFramePr/>
          <p:nvPr/>
        </p:nvGraphicFramePr>
        <p:xfrm>
          <a:off x="2666880" y="4457880"/>
          <a:ext cx="2629080" cy="1562040"/>
        </p:xfrm>
        <a:graphic>
          <a:graphicData uri="http://schemas.openxmlformats.org/drawingml/2006/table">
            <a:tbl>
              <a:tblPr/>
              <a:tblGrid>
                <a:gridCol w="738360"/>
                <a:gridCol w="944640"/>
                <a:gridCol w="946080"/>
              </a:tblGrid>
              <a:tr h="780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 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 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1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X 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8" name="Object 3"/>
              <p:cNvSpPr txBox="1"/>
              <p:nvPr/>
            </p:nvSpPr>
            <p:spPr>
              <a:xfrm>
                <a:off x="838080" y="2362320"/>
                <a:ext cx="6632640" cy="19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 </m:t>
                            </m:r>
                            <m:r>
                              <m:t xml:space="preserve">C</m:t>
                            </m:r>
                            <m:r>
                              <m:t xml:space="preserve">≥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 </m:t>
                            </m:r>
                            <m:r>
                              <m:t xml:space="preserve">C</m:t>
                            </m:r>
                            <m:r>
                              <m:t xml:space="preserve">≤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Text Box 1"/>
          <p:cNvSpPr/>
          <p:nvPr/>
        </p:nvSpPr>
        <p:spPr>
          <a:xfrm>
            <a:off x="652320" y="349200"/>
            <a:ext cx="79232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82640"/>
                <a:tab algn="l" pos="1566720"/>
                <a:tab algn="l" pos="2351160"/>
                <a:tab algn="l" pos="3135240"/>
                <a:tab algn="l" pos="3919680"/>
                <a:tab algn="l" pos="4703760"/>
                <a:tab algn="l" pos="5487840"/>
                <a:tab algn="l" pos="6272280"/>
                <a:tab algn="l" pos="7056360"/>
                <a:tab algn="l" pos="7840800"/>
                <a:tab algn="l" pos="8624880"/>
                <a:tab algn="l" pos="9408960"/>
                <a:tab algn="l" pos="10193400"/>
                <a:tab algn="l" pos="105156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Binarization of Intra Luma Residuals in HM4.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Text Box 2"/>
          <p:cNvSpPr/>
          <p:nvPr/>
        </p:nvSpPr>
        <p:spPr>
          <a:xfrm>
            <a:off x="652320" y="955800"/>
            <a:ext cx="7929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Binarization consists of three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5040" indent="-2430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runcated Unary code for absolute values in {1,2,3}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5040" indent="-2430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runcated Golomb Rice code (TR) for (absolute value  - 3) up to a limit, cTRMax for a given cRicePara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5040" indent="-2430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G0 for (absolute value – 3 – cTRMax-1 )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Text Box 3"/>
          <p:cNvSpPr/>
          <p:nvPr/>
        </p:nvSpPr>
        <p:spPr>
          <a:xfrm>
            <a:off x="6361200" y="6489720"/>
            <a:ext cx="209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Page </a:t>
            </a:r>
            <a:fld id="{281EB995-6CF8-43D0-8CCB-D28F78005D74}" type="slidenum"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Rectangle 4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Rectangle 1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4" name="Object 117"/>
          <p:cNvGraphicFramePr/>
          <p:nvPr/>
        </p:nvGraphicFramePr>
        <p:xfrm>
          <a:off x="0" y="3657600"/>
          <a:ext cx="50292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5" name="Object 1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657600"/>
                    <a:ext cx="50292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6" name=""/>
          <p:cNvGraphicFramePr/>
          <p:nvPr/>
        </p:nvGraphicFramePr>
        <p:xfrm>
          <a:off x="5105520" y="3581280"/>
          <a:ext cx="3504960" cy="2562480"/>
        </p:xfrm>
        <a:graphic>
          <a:graphicData uri="http://schemas.openxmlformats.org/drawingml/2006/table">
            <a:tbl>
              <a:tblPr/>
              <a:tblGrid>
                <a:gridCol w="1371600"/>
                <a:gridCol w="1143000"/>
                <a:gridCol w="990360"/>
              </a:tblGrid>
              <a:tr h="549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iceParam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TRMax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fix Length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Text Box 1"/>
          <p:cNvSpPr/>
          <p:nvPr/>
        </p:nvSpPr>
        <p:spPr>
          <a:xfrm>
            <a:off x="652320" y="349200"/>
            <a:ext cx="81867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82640"/>
                <a:tab algn="l" pos="1566720"/>
                <a:tab algn="l" pos="2351160"/>
                <a:tab algn="l" pos="3135240"/>
                <a:tab algn="l" pos="3919680"/>
                <a:tab algn="l" pos="4703760"/>
                <a:tab algn="l" pos="5487840"/>
                <a:tab algn="l" pos="6272280"/>
                <a:tab algn="l" pos="7056360"/>
                <a:tab algn="l" pos="7840800"/>
                <a:tab algn="l" pos="8624880"/>
                <a:tab algn="l" pos="9408960"/>
                <a:tab algn="l" pos="10193400"/>
                <a:tab algn="l" pos="105156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Modification of Binarization of Intra Luma Residuals (1)</a:t>
            </a:r>
            <a:r>
              <a:rPr b="1" lang="en-US" sz="2800" spc="-1" strike="noStrike">
                <a:solidFill>
                  <a:srgbClr val="990000"/>
                </a:solidFill>
                <a:latin typeface="FrutigerNext LT Medium"/>
                <a:ea typeface="黑体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2"/>
          <p:cNvSpPr/>
          <p:nvPr/>
        </p:nvSpPr>
        <p:spPr>
          <a:xfrm>
            <a:off x="652320" y="955800"/>
            <a:ext cx="792972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t">
            <a:noAutofit/>
          </a:bodyPr>
          <a:p>
            <a:pPr marL="291960" indent="-291960">
              <a:lnSpc>
                <a:spcPct val="14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Extend cRiceParam from (0-3) to (0-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91960" indent="-291960">
              <a:lnSpc>
                <a:spcPct val="140000"/>
              </a:lnSpc>
              <a:tabLst>
                <a:tab algn="l" pos="0"/>
                <a:tab algn="l" pos="781200"/>
                <a:tab algn="l" pos="1565280"/>
                <a:tab algn="l" pos="2349360"/>
                <a:tab algn="l" pos="3133800"/>
                <a:tab algn="l" pos="3917880"/>
                <a:tab algn="l" pos="4702320"/>
                <a:tab algn="l" pos="5486400"/>
                <a:tab algn="l" pos="6270480"/>
                <a:tab algn="l" pos="7054920"/>
                <a:tab algn="l" pos="7839000"/>
                <a:tab algn="l" pos="8623440"/>
                <a:tab algn="l" pos="9407520"/>
                <a:tab algn="l" pos="10191600"/>
                <a:tab algn="l" pos="105156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Text Box 3"/>
          <p:cNvSpPr/>
          <p:nvPr/>
        </p:nvSpPr>
        <p:spPr>
          <a:xfrm>
            <a:off x="6361200" y="6489720"/>
            <a:ext cx="209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Page </a:t>
            </a:r>
            <a:fld id="{5F086924-2CE5-45D7-8190-1D19938963BD}" type="slidenum">
              <a:rPr b="1" lang="de-DE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Rectangle 4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Rectangle 1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2" name=""/>
          <p:cNvGraphicFramePr/>
          <p:nvPr/>
        </p:nvGraphicFramePr>
        <p:xfrm>
          <a:off x="1905120" y="1981080"/>
          <a:ext cx="4383000" cy="3643560"/>
        </p:xfrm>
        <a:graphic>
          <a:graphicData uri="http://schemas.openxmlformats.org/drawingml/2006/table">
            <a:tbl>
              <a:tblPr/>
              <a:tblGrid>
                <a:gridCol w="1265040"/>
                <a:gridCol w="1559160"/>
                <a:gridCol w="1558800"/>
              </a:tblGrid>
              <a:tr h="642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ceParam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TRMax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fix Length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00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6T09:41:22Z</dcterms:created>
  <dc:creator>章李铭 24498</dc:creator>
  <dc:description/>
  <dc:language>en-US</dc:language>
  <cp:lastModifiedBy>gaow02</cp:lastModifiedBy>
  <cp:lastPrinted>2002-09-26T02:29:13Z</cp:lastPrinted>
  <dcterms:modified xsi:type="dcterms:W3CDTF">2011-11-25T20:41:14Z</dcterms:modified>
  <cp:revision>1764</cp:revision>
  <dc:subject/>
  <dc:title>没有幻灯片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91683318</vt:lpwstr>
  </property>
</Properties>
</file>