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30B-D1FE-4A9D-A84B-BCAFFB757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c"/>
          <p:cNvSpPr/>
          <p:nvPr/>
        </p:nvSpPr>
        <p:spPr>
          <a:xfrm>
            <a:off x="0" y="892800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30BF-0B47-4574-9928-290D3147A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2B5-A37D-4E1D-A878-10180F93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7E7-2155-454D-925C-5D30A4B4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765-CA5D-44E7-AA51-F21E04F2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082-C6D5-4EC7-B648-BE7A61B1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939E-336D-4E8E-AE25-C586FB91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BDC6-DFCD-48CB-937D-9D35E6C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B186-DB79-46B2-99FA-C2D03AC0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42AA-3997-4DFC-8FA0-31C07489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1238-874D-4983-BA3B-149D39E5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9B81-F541-4DEE-9372-79BA016C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CC70-96B1-43DD-B86D-FD7B147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30E-8A16-4FED-B4D3-3138ABC9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B711-7D39-4090-A6E1-83BDE84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CA1E-8B9E-4EB5-A062-F9543704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6A0E-D6D1-4BE7-BD73-02576C88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1595-C040-4211-95CE-C360EDAA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ADBB-A071-4CED-A8FD-107929B8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DEE-E6CB-458E-8659-70B5A480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0B0-CAD8-4DA9-B0E3-6757447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33A-B443-4EA1-AFB0-8CE5B80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AE2-D4E4-4256-A889-AFEE35F1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2E2-29D8-4A5A-A043-A6B8F53F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2CE-8A5D-4D0A-BF43-3B21598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54E-8190-4580-B1EE-0152D083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0930-B324-4CB7-940F-23A7695332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326E-13E2-46B3-8246-91E1A6833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56CC-09E0-470B-9E93-7998E333584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98E9-23DA-4382-BF09-CC3DA63714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CTVC-G64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G21: On reference picture list construction and reference picture mar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. M. Hannuksela,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. R. Gopalakrishna (Nok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the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ference picture list descriptions (list 0, 1, idle) instead o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ence picture list initialization and modification and reference picture marking of HEVC WD4;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ence picture sets and reference picture list initialization and modification of JCTVC-G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reference picture list descriptions or reference picture se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-part coding of POC differences as a “short-term” part and a ue(v)-coded “long-term” p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the two-part coding of POC differences for determining the marking “used for short-term reference” or “used for long-term referenc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mporal_id-based POC granularity for POC difference 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ference Picture List Descrip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557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ervation: reference picture sets (JCTVC-G021) resembled reference picture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ence picture list initialization and modification are avoided if reference picture lists are described instead of reference picture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tion of decoding process specification from &gt;4 pages (HM WD4) or ~3 pages (JCTVC-G021) to ~2 p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er processing steps: reference picture lists are described directly instead of two or three steps needed for reference picture set construction, reference picture list initialization, and (optional) reference picture lis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trate overhead is similar to that of reference picture sets, e.g. reported number of bits required in the PPS for the entire sequen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4581360"/>
          <a:ext cx="8424720" cy="1656000"/>
        </p:xfrm>
        <a:graphic>
          <a:graphicData uri="http://schemas.openxmlformats.org/drawingml/2006/table">
            <a:tbl>
              <a:tblPr/>
              <a:tblGrid>
                <a:gridCol w="1684440"/>
                <a:gridCol w="1684080"/>
                <a:gridCol w="1685880"/>
                <a:gridCol w="1684440"/>
                <a:gridCol w="1685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CTVC-G021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s reported in JCTVC-198r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CTVC-G198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CTVC-G198r1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ith delta-POC cod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CTVC-G643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ference Picture List Descrip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ference picture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mber of pairs of reference picture list 0 and list 1 descriptions can exist in P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“fully” described; 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described as subsets from other descriptions (similarly to JCTVC-G198r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slice header, an index to reference picture list pair in PPS can be given or reference picture list description can be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_pic_list_copy_flag to avoid repetition of the head of list 0 and in the tail of list 1 or vice ver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ways to describe reference pictures not used as reference for the current picture but still kept marked as “used for refere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in reference picture list 0 or 1 with a higher index than the maximum active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in specific Idle reference picture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ends on the referencing structure which way i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-Term Reference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ding in reference picture list descrip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JCTVC-G7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ximum short-term POC difference (maxPocDiff) relative to the POC of the current picture is specified in S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all reference pics, a “short-term” part (fgPocDiff) is in the range of 1 to maxPocDiff is in the synta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ber of and reference indexes for long-term pictures are in the synta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long-term picture, a POC cycle (pocCycle) in units of maxPocDiff is in the synta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OC difference is pocCycle * maxPocDiff + fgPocDi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rking as “used for long-term reference” when pocCycle is present, otherwise “used for short-term referenc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oral_id-based POC granula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ers may use a regular GOP pattern and assign POC values proportional to a constant picture sampling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C granularity values given in SPS for each temporal_id are used to quantize the POC differences indicated in the reference picture list description syntax structures to improve compression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straint: POC granularity for temporal_id N = n * POC granularity for temporal_id N+1 (n=1,2,3,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C granularity 1 can used for irregular POC assignment patte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the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ference picture list descriptions (list 0, 1, idle) instead o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ence picture list initialization and modification and reference picture marking of HEVC WD4;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ence picture sets and reference picture list initialization and modification of JCTVC-G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reference picture list descriptions or reference picture se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-part coding of POC differences as a “short-term” part and a ue(v)-coded “long-term” p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the two-part coding of POC differences for determining the marking “used for short-term reference” or “used for long-term referenc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mporal_id-based POC granularity for POC difference 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G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21:17:28Z</dcterms:created>
  <dc:creator>Miska Hannuksela</dc:creator>
  <dc:description/>
  <dc:language>en-US</dc:language>
  <cp:lastModifiedBy>Miska Hannuksela</cp:lastModifiedBy>
  <dcterms:modified xsi:type="dcterms:W3CDTF">2011-11-21T22:39:42Z</dcterms:modified>
  <cp:revision>2</cp:revision>
  <dc:subject/>
  <dc:title>JCTVC-G643 AHG21: On reference picture list construction and reference picture mar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c4f2606c-63c8-44d8-a98e-65d0af84ce3a</vt:lpwstr>
  </property>
</Properties>
</file>