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64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F7E-E804-4C09-B19D-97F5329DFE4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64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6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496360" cy="23716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 CE12:Deblocking bug fix for CU-Varying QP’s and IPCM blocks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24000" y="3568680"/>
            <a:ext cx="6120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nand Kotra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91040" y="6497640"/>
            <a:ext cx="50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November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blocking modifications when sub LCU delta QP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vantag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verage gain of 0.1% when QP´s assigned randomly at sub LCU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verage gain of 0.1% in IHE,ILC, RALC, other config:0.0%, when    compared to AVC like  deblocking with Random QP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E4 sub test anchor: 0,1% gain in LDHE, Others: 0.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jective quality similar as HM-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blocking modifications for IPCM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mit a seperate QP_PCM for IPCM bl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 : Further study in a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blocking for CU-Varying QP`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blo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IPCM bl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Deblocking for CU-Varying QP`S</a:t>
            </a:r>
            <a:br>
              <a:rPr sz="3900"/>
            </a:br>
            <a:br>
              <a:rPr sz="39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4345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10040" y="622440"/>
            <a:ext cx="2692440" cy="1137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2060640"/>
            <a:ext cx="835164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In HM-4.0: When sub LCU level delta QP enabled, then QP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y not be equal to QP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hanges to Deblocking Filter are proposed when sub LCU level delta QP enabl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Deblocking On/Off, Strong/Weak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32000" y="2147760"/>
                <a:ext cx="545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Ctabl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v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32000" y="3193920"/>
                <a:ext cx="4302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tabl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v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981000"/>
            <a:ext cx="8893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In On/off decision and Strong/Weak decision, tc and ß are derived                                     using  QP = Average of  QPA and QPB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Deblocking weak filter modif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4345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25560" y="622440"/>
            <a:ext cx="7056000" cy="1463760"/>
            <a:chOff x="925560" y="622440"/>
            <a:chExt cx="7056000" cy="1463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25560" y="622440"/>
              <a:ext cx="2692080" cy="11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85560" y="1903320"/>
              <a:ext cx="187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amples used to filt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382400" y="683640"/>
              <a:ext cx="1663560" cy="10015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5289480" y="622440"/>
              <a:ext cx="2692080" cy="11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317920" y="1903320"/>
              <a:ext cx="25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amples modified by filt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002280" y="683640"/>
              <a:ext cx="1182240" cy="10015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47600" y="2421000"/>
            <a:ext cx="261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Step1 : Calculation of value :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835360" y="2384280"/>
                <a:ext cx="2954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7360" y="2900520"/>
            <a:ext cx="452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Step 2:  Perform a second decision :   Filter only if</a:t>
            </a: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89640" y="2900520"/>
                <a:ext cx="6346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5132520" y="2900520"/>
            <a:ext cx="145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otherwise no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71560" y="3760920"/>
                <a:ext cx="14698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92640" y="3760920"/>
                <a:ext cx="14256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01800" y="3449520"/>
                <a:ext cx="14824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25280" y="4292640"/>
            <a:ext cx="299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Step 3:  Perform a third decis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880" y="4595760"/>
            <a:ext cx="183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If condi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3880" y="5600880"/>
                <a:ext cx="150012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60800" y="5600880"/>
                <a:ext cx="14432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700520" y="4611600"/>
            <a:ext cx="183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If condi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5234040"/>
                <a:ext cx="39387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853160" y="5234040"/>
                <a:ext cx="38671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397160" y="4905360"/>
                <a:ext cx="1206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275440" y="490536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397160" y="5133960"/>
            <a:ext cx="120636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40160" y="5133960"/>
            <a:ext cx="120672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8680" y="5511960"/>
            <a:ext cx="62532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43520" y="5511960"/>
            <a:ext cx="60336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81280" y="4824360"/>
            <a:ext cx="82224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11720" y="4809960"/>
            <a:ext cx="858960" cy="648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38440" y="4595760"/>
                <a:ext cx="12063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p</m:t>
                    </m:r>
                    <m:r>
                      <m:t xml:space="preserve">&lt;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A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1720" y="4581360"/>
                <a:ext cx="1219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B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59000" y="3301920"/>
                <a:ext cx="22417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ctabl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v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835280" y="3117960"/>
            <a:ext cx="1296720" cy="331560"/>
          </a:xfrm>
          <a:custGeom>
            <a:avLst/>
            <a:gdLst/>
            <a:ahLst/>
            <a:rect l="l" t="t" r="r" b="b"/>
            <a:pathLst>
              <a:path w="817" h="287">
                <a:moveTo>
                  <a:pt x="0" y="287"/>
                </a:moveTo>
                <a:cubicBezTo>
                  <a:pt x="91" y="158"/>
                  <a:pt x="182" y="30"/>
                  <a:pt x="318" y="15"/>
                </a:cubicBezTo>
                <a:cubicBezTo>
                  <a:pt x="454" y="0"/>
                  <a:pt x="635" y="98"/>
                  <a:pt x="817" y="196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44800" y="3259080"/>
            <a:ext cx="235080" cy="123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53160" y="3112920"/>
            <a:ext cx="279360" cy="189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bjective Results – Random QP assig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685800"/>
          <a:ext cx="4192560" cy="50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85800"/>
                    <a:ext cx="41925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23840" y="5778360"/>
            <a:ext cx="43927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Anchor - HM-4.0 with random QP assign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Tested- HM-4.0 with random QP assigment + Introduced  Deblocking modification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716360" y="685800"/>
          <a:ext cx="4176720" cy="5092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685800"/>
                    <a:ext cx="417672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716360" y="5821200"/>
            <a:ext cx="43927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Anchor - HM-4.0 with AVC like deblock- AVG(QPA,QPB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Tested- HM-4.0 with random QP assigment + Introduced  Deblocking modification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odified strong filter ope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99800"/>
            <a:ext cx="9055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p0’ = Clip1Y( p0  + Clip3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tcA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 -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t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 ( p2 + 2*p1 - 6*p0 + 2*q0 + q1 + 4 ) &gt;&gt; 3 )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p1’ = Clip1Y( p1 +  Clip3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 ( t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 -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t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 ( p2 -3*p1 + p0 + q0 + 2 ) &gt;&gt; 2 )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p2’ = Clip1Y( p2  + Clip3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 ( t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 -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t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 ( 2*p3  - 5*p2 + p1 + p0 + q0 + 4 ) &gt;&gt; 3 )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q0’ = Clip1Y( q0  +  Clip3(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tcB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 -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 tc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 ( p1 + 2*p0  - 6*q0 + 2*q1 + q2 + 4 ) &gt;&gt; 3 )))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q1’ = Clip1Y(q1   +  Clip3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 tc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 -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 tc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 ( p0 + q0  -3*q1 + q2 + 2 ) &gt;&gt; 2 )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r" pos="539640"/>
                <a:tab algn="r" pos="72072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q2’ = Clip1Y(q2   +  Clip3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 ( tc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 -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 tc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굴림"/>
              </a:rPr>
              <a:t>QP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굴림"/>
              </a:rPr>
              <a:t>),   ( p0 + q0 + q1  - 5*q2 + 2*q3 + 4 ) &gt;&gt; 3 ))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981000"/>
            <a:ext cx="756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parate individual tc’s are derived for adjacent blocks A (tcA) and B (tcB) and are  used in the strong filtering operation as follow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Objective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685800"/>
          <a:ext cx="3887640" cy="540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85800"/>
                    <a:ext cx="388764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750960" y="6218280"/>
            <a:ext cx="31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Random Anchor - Weak filter + Strong filter operation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643280" y="685800"/>
          <a:ext cx="4176720" cy="540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685800"/>
                    <a:ext cx="417672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94240" y="6218280"/>
            <a:ext cx="31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CE4 subtest 1 Anchor (with weak filter operations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PCM coded blocks: A separate QP (QP_PCM)) is considered while deriving the values tc and ß. QP_PCM can be transmitted in the slice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959200" y="2184480"/>
            <a:ext cx="2643120" cy="12762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1484280" y="2401920"/>
            <a:ext cx="148752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To the PCM-coded blocks, 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MS Mincho"/>
              </a:rPr>
              <a:t>QP_PCM is associate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5599080" y="2173320"/>
            <a:ext cx="148608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o the non PCM-coded blocks, t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ransmitted quantization parameter  QP         is associate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13080" y="29876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  <a:ea typeface="MS Mincho"/>
              </a:rPr>
              <a:t>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89600" y="2998800"/>
            <a:ext cx="22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  <a:ea typeface="MS Mincho"/>
              </a:rPr>
              <a:t>B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147600" y="0"/>
            <a:ext cx="838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eblocking for IPCM bloc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Anand.Kotra</cp:lastModifiedBy>
  <dcterms:modified xsi:type="dcterms:W3CDTF">2011-11-21T15:17:11Z</dcterms:modified>
  <cp:revision>1693</cp:revision>
  <dc:subject/>
  <dc:title>CE12: Results for decisions for deblocking </dc:title>
</cp:coreProperties>
</file>