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8F79-7C6C-4200-ACCC-08D2B7088D4A}" type="datetime5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31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FB8F-2222-4711-96A5-BC2B050A84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E42F-9D3D-4EDC-A2AA-32DDACA0601D}" type="datetime5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Jul 31, 2026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FC79-F5F0-4DA7-A598-6AA1F5066D28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41E2-5890-4AB7-A85A-984F8D99DBA5}" type="datetime5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Jul 31, 2026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F8DD-3F97-4867-86D0-CC3D57C19E56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C9DF-4579-479F-B204-63FCF1B21CF9}" type="datetime5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Jul 31, 2026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C7AC-47C2-4849-A9C4-723BC5B8F3FB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7817-82D4-4977-A9E9-20F5CF12E0B5}" type="datetime5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Jul 31, 2026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4F63-9CED-4CB4-92EF-65C764B74C57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7"/>
          <p:cNvSpPr/>
          <p:nvPr/>
        </p:nvSpPr>
        <p:spPr>
          <a:xfrm>
            <a:off x="7902360" y="6597720"/>
            <a:ext cx="107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G640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" name="Text Box 98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898B-6865-453C-84FF-DCF22C3140B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5" name="Picture 100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" name="Rectangle 10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44" name="Picture 109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0"/>
          <p:cNvSpPr/>
          <p:nvPr/>
        </p:nvSpPr>
        <p:spPr>
          <a:xfrm>
            <a:off x="152640" y="16020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G640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8496360" cy="23716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 CE12:Deblocking bug fix for CU-Varying QPs and IPCM blocks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24000" y="3568680"/>
            <a:ext cx="6120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Anand Kotra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, Matthias Narroschke, Thomas W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91040" y="6497640"/>
            <a:ext cx="501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7th JCT-VC meeting, Geneva 21.-30. November 2011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blocking for CU-Varying Q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bloc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IPCM bl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M4.0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hen CU-varying QPs are used, the QPs of two neighboring blocks may di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nly one of the QPs is used for deblocking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pproach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trol deblocking by both QPs as i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.264/MPEG-4 AV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Modifi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0160" indent="-38016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blocking On/Off-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40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se of average QP to de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160" indent="-38016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ong/Weak-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40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se of average QP to derive       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160" indent="-38016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ed tc-clipping in strong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40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ividual        based on the QP of each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1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160" indent="-38016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c-clipping in weak filter (p0,q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40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se of average QP to de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16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160" indent="-38016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n/Off-Decisions and tc-clipping in weak filter (p1,q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40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ividual        and        based on the QP of each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16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"/>
              <p:cNvSpPr txBox="1"/>
              <p:nvPr/>
            </p:nvSpPr>
            <p:spPr>
              <a:xfrm>
                <a:off x="4070520" y="1039680"/>
                <a:ext cx="3790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3"/>
              <p:cNvSpPr txBox="1"/>
              <p:nvPr/>
            </p:nvSpPr>
            <p:spPr>
              <a:xfrm>
                <a:off x="4133880" y="2205000"/>
                <a:ext cx="3157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"/>
              <p:cNvSpPr txBox="1"/>
              <p:nvPr/>
            </p:nvSpPr>
            <p:spPr>
              <a:xfrm>
                <a:off x="5056200" y="2249640"/>
                <a:ext cx="37944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2"/>
              <p:cNvSpPr txBox="1"/>
              <p:nvPr/>
            </p:nvSpPr>
            <p:spPr>
              <a:xfrm>
                <a:off x="2239920" y="3409920"/>
                <a:ext cx="316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4159080" y="4662360"/>
                <a:ext cx="316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2268360" y="5905440"/>
                <a:ext cx="316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5"/>
              <p:cNvSpPr txBox="1"/>
              <p:nvPr/>
            </p:nvSpPr>
            <p:spPr>
              <a:xfrm>
                <a:off x="3078000" y="5945040"/>
                <a:ext cx="3794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Objective Results – With class 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65040" y="633240"/>
          <a:ext cx="8218440" cy="4667400"/>
        </p:xfrm>
        <a:graphic>
          <a:graphicData uri="http://schemas.openxmlformats.org/drawingml/2006/table">
            <a:tbl>
              <a:tblPr/>
              <a:tblGrid>
                <a:gridCol w="767880"/>
                <a:gridCol w="645840"/>
                <a:gridCol w="595440"/>
                <a:gridCol w="660240"/>
                <a:gridCol w="218880"/>
                <a:gridCol w="840600"/>
                <a:gridCol w="790200"/>
                <a:gridCol w="761760"/>
                <a:gridCol w="218880"/>
                <a:gridCol w="872640"/>
                <a:gridCol w="658800"/>
                <a:gridCol w="831240"/>
                <a:gridCol w="356040"/>
              </a:tblGrid>
              <a:tr h="63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BD-Bit rate [%]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Encoder run time ratio [%]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Decoder run time ratio [%]</a:t>
                      </a: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-Rand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-AVC-Rand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+S-Rand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-HM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-AVC-HM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+S-HM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-HM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-AVC-HM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+S-HM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 HE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2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5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4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8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2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406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 LC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2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9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6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6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2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2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 HE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30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4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6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50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 LC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4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4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50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B HE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2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4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442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B LC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6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1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5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50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P HE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6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6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6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99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P LC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7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3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9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7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  <p:sp>
        <p:nvSpPr>
          <p:cNvPr id="109" name="Text Box 153"/>
          <p:cNvSpPr/>
          <p:nvPr/>
        </p:nvSpPr>
        <p:spPr>
          <a:xfrm>
            <a:off x="147600" y="5300640"/>
            <a:ext cx="8601120" cy="10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W-Rand : Weak filter modifications compared to HM-4.0 [ with Random QP assignment]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W-AVC-Rand : Weak filter modifications compared to AVC like deblocking [ with Random QP assignment]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W+S-Rand: Weak and strong filter </a:t>
            </a: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modifications compared to HM-4.0 [ with Random QP assignment]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W-CE4 : </a:t>
            </a: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Weak filter modifications compared to HM-4.0 [with CE4 subtest 1, psycho visual anchor)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M4.0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P=0 is used to deblock IPCM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PCM blocks may contain quantization noise and deblocking control by higher QP may be desi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pproach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ansmit slice lev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P_PCM, which is used for deblocking control of IPCM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67240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trol of deblocking filter by both Q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verage bit rate reduction when QPs assigned randomly at CU lev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ared to HM4.0: 0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ared to H.264/MPEG-4 AVC-like deblo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.1% in IHE,ILC, RA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.0% 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verage bit rate reduction when QPs assigned as in CE4 subtest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.1% in LD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.0% 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nsmission of a seperate QP_PCM for IPCM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re efficient deblocking of IPCM coded blocks in case they contain quantization 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: Inclusion into next version of HM/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Matthias Narroschke</dc:creator>
  <dc:description/>
  <dc:language>en-US</dc:language>
  <cp:lastModifiedBy>Anand.Kotra</cp:lastModifiedBy>
  <dcterms:modified xsi:type="dcterms:W3CDTF">2011-11-24T09:47:29Z</dcterms:modified>
  <cp:revision>1734</cp:revision>
  <dc:subject/>
  <dc:title>CE12: Results for decisions for deblocking </dc:title>
</cp:coreProperties>
</file>