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0236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63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6069-0A67-4DF0-8DEC-8AE5E06E533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64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496360" cy="23716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 CE12: Deblocking simplification and rounding optimization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24000" y="3568680"/>
            <a:ext cx="6120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nand Kotra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 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91040" y="6497640"/>
            <a:ext cx="50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November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ed disadvantage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e more „if“-operation necessary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&gt; Higher computational expense. May not be worth to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262080" y="1413000"/>
                <a:ext cx="84135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&gt;&gt;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&gt;&gt;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Title 1"/>
          <p:cNvSpPr/>
          <p:nvPr/>
        </p:nvSpPr>
        <p:spPr>
          <a:xfrm>
            <a:off x="147600" y="84240"/>
            <a:ext cx="838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Optimization: Symmetric quantization of „Delta“-Value by shift-operatr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Optimization: Symmetric quantization of „Delta“-Value by shift-ope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lution: Combine with subsequent clipping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seudo code of possible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176040" y="2349360"/>
            <a:ext cx="3959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delta1 = (9*(q0-p0) -3*(q1-p1)+8)&gt;&gt;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if (delta1&gt;t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 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delta1=tc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else if (delta1&lt;-t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delta1=-tc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826920" y="1700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  <a:ea typeface="Arial"/>
              </a:rPr>
              <a:t>HM4.0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5003640" y="2349360"/>
            <a:ext cx="3961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delta = 9*(q0-p0) -3*(q1-p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if (delta&gt;0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 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delta1=(delta+a)&gt;&gt;4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if (delta1&gt;t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 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delta1=tc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el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 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delta1=(delta+b)&gt;&gt;4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if (delta1&lt;-t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 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delta1=-tc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5656320" y="170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66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3" name="Straight Arrow Connector 12"/>
          <p:cNvCxnSpPr/>
          <p:nvPr/>
        </p:nvCxnSpPr>
        <p:spPr>
          <a:xfrm flipH="1">
            <a:off x="6443280" y="2997000"/>
            <a:ext cx="1301040" cy="1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44" name="TextBox 14"/>
          <p:cNvSpPr/>
          <p:nvPr/>
        </p:nvSpPr>
        <p:spPr>
          <a:xfrm>
            <a:off x="7740720" y="2852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Easy check“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5" name="Straight Arrow Connector 15"/>
          <p:cNvCxnSpPr/>
          <p:nvPr/>
        </p:nvCxnSpPr>
        <p:spPr>
          <a:xfrm flipH="1">
            <a:off x="6560640" y="3758760"/>
            <a:ext cx="130104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46" name="TextBox 16"/>
          <p:cNvSpPr/>
          <p:nvPr/>
        </p:nvSpPr>
        <p:spPr>
          <a:xfrm>
            <a:off x="7856640" y="3614760"/>
            <a:ext cx="12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Normal check“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7" name="Straight Arrow Connector 17"/>
          <p:cNvCxnSpPr/>
          <p:nvPr/>
        </p:nvCxnSpPr>
        <p:spPr>
          <a:xfrm flipH="1">
            <a:off x="6560640" y="5702040"/>
            <a:ext cx="130104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48" name="TextBox 18"/>
          <p:cNvSpPr/>
          <p:nvPr/>
        </p:nvSpPr>
        <p:spPr>
          <a:xfrm>
            <a:off x="7856640" y="5559480"/>
            <a:ext cx="12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Normal check“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9" name="Straight Arrow Connector 19"/>
          <p:cNvCxnSpPr/>
          <p:nvPr/>
        </p:nvCxnSpPr>
        <p:spPr>
          <a:xfrm flipH="1">
            <a:off x="1978920" y="2997000"/>
            <a:ext cx="130068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50" name="TextBox 20"/>
          <p:cNvSpPr/>
          <p:nvPr/>
        </p:nvSpPr>
        <p:spPr>
          <a:xfrm>
            <a:off x="3276720" y="2852640"/>
            <a:ext cx="125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Normal check“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1" name="Straight Arrow Connector 21"/>
          <p:cNvCxnSpPr/>
          <p:nvPr/>
        </p:nvCxnSpPr>
        <p:spPr>
          <a:xfrm flipH="1">
            <a:off x="1978920" y="4005000"/>
            <a:ext cx="130068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52" name="TextBox 22"/>
          <p:cNvSpPr/>
          <p:nvPr/>
        </p:nvSpPr>
        <p:spPr>
          <a:xfrm>
            <a:off x="3276720" y="3860640"/>
            <a:ext cx="125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„</a:t>
            </a: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Arial"/>
              </a:rPr>
              <a:t>Normal check“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Box 23"/>
          <p:cNvSpPr/>
          <p:nvPr/>
        </p:nvSpPr>
        <p:spPr>
          <a:xfrm>
            <a:off x="179280" y="6246720"/>
            <a:ext cx="31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HM4.0:  ~1.5 „Normal checks“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Box 24"/>
          <p:cNvSpPr/>
          <p:nvPr/>
        </p:nvSpPr>
        <p:spPr>
          <a:xfrm>
            <a:off x="4757760" y="6246720"/>
            <a:ext cx="42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Arial"/>
              </a:rPr>
              <a:t>Proposal:  1 „Normal check“, 1 „Easy check“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of a and b which are used in clipping operation are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&gt;&gt;4 , the values are a=6 and b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&gt;&gt;3, the values are a=2 and b=5 , &gt;&gt;3 case is used in the chroma part of deblo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&gt;&gt;1, the values are a=0 and b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tle 1"/>
          <p:cNvSpPr/>
          <p:nvPr/>
        </p:nvSpPr>
        <p:spPr>
          <a:xfrm>
            <a:off x="147600" y="84240"/>
            <a:ext cx="838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Optimization: Symmetric quantization of „Delta“-Value by shift-operatr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Optimization : Objective 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24000" y="685800"/>
          <a:ext cx="377316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85800"/>
                    <a:ext cx="377316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4643280" y="685800"/>
          <a:ext cx="4176720" cy="526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685800"/>
                    <a:ext cx="41767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971640" y="6040440"/>
            <a:ext cx="187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6040440"/>
            <a:ext cx="20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Only rounding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24360" y="6040440"/>
            <a:ext cx="280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Combined rounding and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lta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vantag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crease of parallel processing capabilities =&gt; Shorter critical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ables parallel filtering of p0, p1, q0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3%, 0.1%, gain for IHE, ILC, Other configurations: 0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jective quality similar as HM-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nding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mmetric rounding of delta after quan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added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1% gain in all LC configuations, 0.0% gain in other configu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jective quality similar as HM-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oss checked by Qualcomm – JCTVC-G3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 : Further study in a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blocking weak filter si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unding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HM-4.0 Deblocking weak fil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4345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25560" y="622440"/>
            <a:ext cx="7056000" cy="1463760"/>
            <a:chOff x="925560" y="622440"/>
            <a:chExt cx="7056000" cy="146376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925560" y="622440"/>
              <a:ext cx="2692080" cy="11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285560" y="1903320"/>
              <a:ext cx="187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amples used to filt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382400" y="683640"/>
              <a:ext cx="1663560" cy="10015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289480" y="622440"/>
              <a:ext cx="2692080" cy="11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317920" y="1903320"/>
              <a:ext cx="25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amples modified by filt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002280" y="683640"/>
              <a:ext cx="1182240" cy="10015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47600" y="2384280"/>
            <a:ext cx="5656320" cy="265320"/>
            <a:chOff x="147600" y="2384280"/>
            <a:chExt cx="5656320" cy="265320"/>
          </a:xfrm>
        </p:grpSpPr>
        <p:sp>
          <p:nvSpPr>
            <p:cNvPr id="99" name=""/>
            <p:cNvSpPr/>
            <p:nvPr/>
          </p:nvSpPr>
          <p:spPr>
            <a:xfrm>
              <a:off x="147600" y="2421000"/>
              <a:ext cx="261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Step1 : Calculation of value :</a:t>
              </a: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2835360" y="2384280"/>
                  <a:ext cx="29541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2849400" y="2649600"/>
              <a:ext cx="295452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360" y="2900520"/>
            <a:ext cx="452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Step 2:  Perform a second decision :   Filter only if</a:t>
            </a: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89640" y="2900520"/>
                <a:ext cx="6346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562640" y="3168720"/>
            <a:ext cx="72684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32520" y="2900520"/>
            <a:ext cx="145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otherwise no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71560" y="3760920"/>
                <a:ext cx="14698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192640" y="3760920"/>
                <a:ext cx="14256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01800" y="3449520"/>
                <a:ext cx="14824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341440" y="3168720"/>
            <a:ext cx="2683080" cy="712800"/>
          </a:xfrm>
          <a:custGeom>
            <a:avLst/>
            <a:gdLst/>
            <a:ahLst/>
            <a:rect l="l" t="t" r="r" b="b"/>
            <a:pathLst>
              <a:path w="1950" h="930">
                <a:moveTo>
                  <a:pt x="1950" y="0"/>
                </a:moveTo>
                <a:cubicBezTo>
                  <a:pt x="1852" y="219"/>
                  <a:pt x="1754" y="439"/>
                  <a:pt x="1542" y="590"/>
                </a:cubicBezTo>
                <a:cubicBezTo>
                  <a:pt x="1330" y="741"/>
                  <a:pt x="937" y="884"/>
                  <a:pt x="680" y="907"/>
                </a:cubicBezTo>
                <a:cubicBezTo>
                  <a:pt x="423" y="930"/>
                  <a:pt x="211" y="828"/>
                  <a:pt x="0" y="726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160" y="4292640"/>
            <a:ext cx="299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Step 3:  Perform a third decis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880" y="4595760"/>
            <a:ext cx="183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If condi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797120" y="4589640"/>
                <a:ext cx="8301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132600" y="4595760"/>
                <a:ext cx="8157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3360" y="5234040"/>
                <a:ext cx="41130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94280" y="5234040"/>
                <a:ext cx="404172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3880" y="5600880"/>
                <a:ext cx="150012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60800" y="5600880"/>
                <a:ext cx="14432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78240" y="4867200"/>
                <a:ext cx="843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0840" y="3713040"/>
            <a:ext cx="774720" cy="1521000"/>
          </a:xfrm>
          <a:custGeom>
            <a:avLst/>
            <a:gdLst/>
            <a:ahLst/>
            <a:rect l="l" t="t" r="r" b="b"/>
            <a:pathLst>
              <a:path w="324" h="1044">
                <a:moveTo>
                  <a:pt x="324" y="0"/>
                </a:moveTo>
                <a:cubicBezTo>
                  <a:pt x="169" y="253"/>
                  <a:pt x="14" y="507"/>
                  <a:pt x="7" y="681"/>
                </a:cubicBezTo>
                <a:cubicBezTo>
                  <a:pt x="0" y="855"/>
                  <a:pt x="139" y="949"/>
                  <a:pt x="279" y="1044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00520" y="4611600"/>
            <a:ext cx="183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If condi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5526000"/>
            <a:ext cx="84121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0040" y="2424240"/>
            <a:ext cx="2415960" cy="4572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3300"/>
                </a:solidFill>
                <a:latin typeface="Arial"/>
              </a:rPr>
              <a:t>Disadvantage: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ff3300"/>
                </a:solidFill>
                <a:latin typeface="Arial"/>
              </a:rPr>
              <a:t>Dependencies =&gt; Long critical pat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1840" y="2671920"/>
            <a:ext cx="217440" cy="247320"/>
          </a:xfrm>
          <a:custGeom>
            <a:avLst/>
            <a:gdLst/>
            <a:ahLst/>
            <a:rect l="l" t="t" r="r" b="b"/>
            <a:pathLst>
              <a:path w="590" h="227">
                <a:moveTo>
                  <a:pt x="0" y="0"/>
                </a:moveTo>
                <a:cubicBezTo>
                  <a:pt x="204" y="26"/>
                  <a:pt x="408" y="53"/>
                  <a:pt x="499" y="91"/>
                </a:cubicBezTo>
                <a:cubicBezTo>
                  <a:pt x="590" y="129"/>
                  <a:pt x="567" y="178"/>
                  <a:pt x="544" y="227"/>
                </a:cubicBezTo>
              </a:path>
            </a:pathLst>
          </a:custGeom>
          <a:noFill/>
          <a:ln w="1260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Deblocking weak filter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4345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25560" y="622440"/>
            <a:ext cx="7056000" cy="1463760"/>
            <a:chOff x="925560" y="622440"/>
            <a:chExt cx="7056000" cy="1463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925560" y="622440"/>
              <a:ext cx="2692080" cy="11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85560" y="1903320"/>
              <a:ext cx="187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amples used to filt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382400" y="683640"/>
              <a:ext cx="1663560" cy="10015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5289480" y="622440"/>
              <a:ext cx="2692080" cy="11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317920" y="1903320"/>
              <a:ext cx="25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amples modified by filt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002280" y="683640"/>
              <a:ext cx="1182240" cy="10015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47600" y="2421000"/>
            <a:ext cx="261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Step1 : Calculation of value :</a:t>
            </a: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35360" y="2384280"/>
                <a:ext cx="2954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360" y="2900520"/>
            <a:ext cx="452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Step 2:  Perform a second decision :   Filter only if</a:t>
            </a:r>
            <a:r>
              <a:rPr b="1" lang="de-DE" sz="1200" spc="-1" strike="noStrike" u="sng">
                <a:solidFill>
                  <a:srgbClr val="000066"/>
                </a:solidFill>
                <a:uFillTx/>
                <a:latin typeface="Arial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89640" y="2900520"/>
                <a:ext cx="6346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132520" y="2900520"/>
            <a:ext cx="145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otherwise no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871560" y="3760920"/>
                <a:ext cx="14698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92640" y="3760920"/>
                <a:ext cx="14256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01800" y="3449520"/>
                <a:ext cx="14824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25280" y="4292640"/>
            <a:ext cx="299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Step 3:  Perform a third decis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6880" y="4595760"/>
            <a:ext cx="183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If condi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797120" y="4589640"/>
                <a:ext cx="8301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132600" y="4595760"/>
                <a:ext cx="8157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23880" y="5600880"/>
                <a:ext cx="150012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60800" y="5600880"/>
                <a:ext cx="14432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278240" y="4867200"/>
                <a:ext cx="843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700520" y="4611600"/>
            <a:ext cx="183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If condi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46240" y="5878440"/>
            <a:ext cx="4757760" cy="84096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6600"/>
                </a:solidFill>
                <a:latin typeface="Arial"/>
              </a:rPr>
              <a:t>Solution:</a:t>
            </a:r>
            <a:br>
              <a:rPr sz="1000"/>
            </a:b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Second delta is independent from first del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6600"/>
                </a:solidFill>
                <a:latin typeface="Arial"/>
              </a:rPr>
              <a:t>Benefits:</a:t>
            </a:r>
            <a:br>
              <a:rPr sz="1000"/>
            </a:br>
            <a:r>
              <a:rPr b="1" lang="de-DE" sz="1000" spc="-1" strike="noStrike">
                <a:solidFill>
                  <a:srgbClr val="006600"/>
                </a:solidFill>
                <a:latin typeface="Arial"/>
              </a:rPr>
              <a:t>1. Increase of parallel processing capabilities =&gt; Shorter critical path</a:t>
            </a:r>
            <a:br>
              <a:rPr sz="1000"/>
            </a:br>
            <a:r>
              <a:rPr b="1" lang="de-DE" sz="1000" spc="-1" strike="noStrike">
                <a:solidFill>
                  <a:srgbClr val="006600"/>
                </a:solidFill>
                <a:latin typeface="Arial"/>
              </a:rPr>
              <a:t>2. Enabled parallel filtering of p0, p1, q0, q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11280" y="5234040"/>
                <a:ext cx="37940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932360" y="5234040"/>
                <a:ext cx="370692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623880" y="5511960"/>
            <a:ext cx="841212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06560" y="2620800"/>
            <a:ext cx="295452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41440" y="3181320"/>
            <a:ext cx="2481480" cy="579600"/>
          </a:xfrm>
          <a:custGeom>
            <a:avLst/>
            <a:gdLst/>
            <a:ahLst/>
            <a:rect l="l" t="t" r="r" b="b"/>
            <a:pathLst>
              <a:path w="1950" h="930">
                <a:moveTo>
                  <a:pt x="1950" y="0"/>
                </a:moveTo>
                <a:cubicBezTo>
                  <a:pt x="1852" y="219"/>
                  <a:pt x="1754" y="439"/>
                  <a:pt x="1542" y="590"/>
                </a:cubicBezTo>
                <a:cubicBezTo>
                  <a:pt x="1330" y="741"/>
                  <a:pt x="937" y="884"/>
                  <a:pt x="680" y="907"/>
                </a:cubicBezTo>
                <a:cubicBezTo>
                  <a:pt x="423" y="930"/>
                  <a:pt x="211" y="828"/>
                  <a:pt x="0" y="726"/>
                </a:cubicBezTo>
              </a:path>
            </a:pathLst>
          </a:custGeom>
          <a:noFill/>
          <a:ln w="19080">
            <a:solidFill>
              <a:srgbClr val="0066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41760" y="3173400"/>
            <a:ext cx="72720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0480" y="2643120"/>
            <a:ext cx="217440" cy="247680"/>
          </a:xfrm>
          <a:custGeom>
            <a:avLst/>
            <a:gdLst/>
            <a:ahLst/>
            <a:rect l="l" t="t" r="r" b="b"/>
            <a:pathLst>
              <a:path w="590" h="227">
                <a:moveTo>
                  <a:pt x="0" y="0"/>
                </a:moveTo>
                <a:cubicBezTo>
                  <a:pt x="204" y="26"/>
                  <a:pt x="408" y="53"/>
                  <a:pt x="499" y="91"/>
                </a:cubicBezTo>
                <a:cubicBezTo>
                  <a:pt x="590" y="129"/>
                  <a:pt x="567" y="178"/>
                  <a:pt x="544" y="227"/>
                </a:cubicBezTo>
              </a:path>
            </a:pathLst>
          </a:custGeom>
          <a:noFill/>
          <a:ln w="12600">
            <a:solidFill>
              <a:srgbClr val="0066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eblocking weak filter simplification – Objective 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42920" y="685800"/>
          <a:ext cx="6913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85800"/>
                    <a:ext cx="6913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ounding optim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quantized „Delta-Value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zation of „Delta-Value“ by shift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885960" y="2558880"/>
                <a:ext cx="48384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684360" y="5483160"/>
                <a:ext cx="6421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47600" y="685800"/>
            <a:ext cx="8385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Current HM-4.0 : Quantization of „Delta“- Value by shift-Oper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Quantization of „Delta“-Value by shift-operatr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7240" y="59976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ymmetric quantizer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7"/>
          <p:cNvCxnSpPr/>
          <p:nvPr/>
        </p:nvCxnSpPr>
        <p:spPr>
          <a:xfrm>
            <a:off x="212760" y="3852360"/>
            <a:ext cx="8749440" cy="108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8748720" y="3892680"/>
                <a:ext cx="2840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69" name="Straight Arrow Connector 10"/>
          <p:cNvCxnSpPr/>
          <p:nvPr/>
        </p:nvCxnSpPr>
        <p:spPr>
          <a:xfrm flipV="1">
            <a:off x="4814640" y="1029600"/>
            <a:ext cx="1080" cy="474876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0" name="Object 13"/>
              <p:cNvSpPr txBox="1"/>
              <p:nvPr/>
            </p:nvSpPr>
            <p:spPr>
              <a:xfrm>
                <a:off x="4932360" y="1125360"/>
                <a:ext cx="1951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Straight Connector 17"/>
          <p:cNvSpPr/>
          <p:nvPr/>
        </p:nvSpPr>
        <p:spPr>
          <a:xfrm flipV="1">
            <a:off x="5180040" y="3203280"/>
            <a:ext cx="0" cy="6490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Straight Connector 19"/>
          <p:cNvSpPr/>
          <p:nvPr/>
        </p:nvSpPr>
        <p:spPr>
          <a:xfrm flipV="1">
            <a:off x="5937120" y="255564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Straight Connector 21"/>
          <p:cNvSpPr/>
          <p:nvPr/>
        </p:nvSpPr>
        <p:spPr>
          <a:xfrm>
            <a:off x="5180040" y="311796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Straight Connector 22"/>
          <p:cNvSpPr/>
          <p:nvPr/>
        </p:nvSpPr>
        <p:spPr>
          <a:xfrm flipV="1">
            <a:off x="6692760" y="1908000"/>
            <a:ext cx="0" cy="6480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Straight Connector 23"/>
          <p:cNvSpPr/>
          <p:nvPr/>
        </p:nvSpPr>
        <p:spPr>
          <a:xfrm>
            <a:off x="5937120" y="247032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Straight Connector 24"/>
          <p:cNvSpPr/>
          <p:nvPr/>
        </p:nvSpPr>
        <p:spPr>
          <a:xfrm>
            <a:off x="6692760" y="190800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Straight Connector 25"/>
          <p:cNvSpPr/>
          <p:nvPr/>
        </p:nvSpPr>
        <p:spPr>
          <a:xfrm flipH="1">
            <a:off x="2371680" y="579600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Straight Connector 26"/>
          <p:cNvSpPr/>
          <p:nvPr/>
        </p:nvSpPr>
        <p:spPr>
          <a:xfrm flipH="1">
            <a:off x="3128760" y="514836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Straight Connector 27"/>
          <p:cNvSpPr/>
          <p:nvPr/>
        </p:nvSpPr>
        <p:spPr>
          <a:xfrm flipV="1">
            <a:off x="3021120" y="514800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Straight Connector 28"/>
          <p:cNvSpPr/>
          <p:nvPr/>
        </p:nvSpPr>
        <p:spPr>
          <a:xfrm flipH="1">
            <a:off x="3884400" y="450072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Straight Connector 29"/>
          <p:cNvSpPr/>
          <p:nvPr/>
        </p:nvSpPr>
        <p:spPr>
          <a:xfrm flipV="1">
            <a:off x="3776760" y="450036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Straight Connector 30"/>
          <p:cNvSpPr/>
          <p:nvPr/>
        </p:nvSpPr>
        <p:spPr>
          <a:xfrm flipV="1">
            <a:off x="4532400" y="3766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1"/>
              <p:cNvSpPr txBox="1"/>
              <p:nvPr/>
            </p:nvSpPr>
            <p:spPr>
              <a:xfrm>
                <a:off x="5043600" y="3807000"/>
                <a:ext cx="32040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3"/>
              <p:cNvSpPr txBox="1"/>
              <p:nvPr/>
            </p:nvSpPr>
            <p:spPr>
              <a:xfrm>
                <a:off x="5854680" y="3892680"/>
                <a:ext cx="301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4"/>
              <p:cNvSpPr txBox="1"/>
              <p:nvPr/>
            </p:nvSpPr>
            <p:spPr>
              <a:xfrm>
                <a:off x="6588000" y="3892680"/>
                <a:ext cx="3384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5"/>
              <p:cNvSpPr txBox="1"/>
              <p:nvPr/>
            </p:nvSpPr>
            <p:spPr>
              <a:xfrm>
                <a:off x="4235400" y="3603600"/>
                <a:ext cx="480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3452760" y="3602160"/>
                <a:ext cx="4618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2662200" y="3602160"/>
                <a:ext cx="4795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4"/>
              <p:cNvSpPr txBox="1"/>
              <p:nvPr/>
            </p:nvSpPr>
            <p:spPr>
              <a:xfrm>
                <a:off x="4572000" y="3067200"/>
                <a:ext cx="12384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5"/>
              <p:cNvSpPr txBox="1"/>
              <p:nvPr/>
            </p:nvSpPr>
            <p:spPr>
              <a:xfrm>
                <a:off x="4545000" y="2395440"/>
                <a:ext cx="177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8"/>
              <p:cNvSpPr txBox="1"/>
              <p:nvPr/>
            </p:nvSpPr>
            <p:spPr>
              <a:xfrm>
                <a:off x="4579920" y="1668600"/>
                <a:ext cx="1602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0"/>
              <p:cNvSpPr txBox="1"/>
              <p:nvPr/>
            </p:nvSpPr>
            <p:spPr>
              <a:xfrm>
                <a:off x="4492800" y="4356000"/>
                <a:ext cx="2822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2"/>
              <p:cNvSpPr txBox="1"/>
              <p:nvPr/>
            </p:nvSpPr>
            <p:spPr>
              <a:xfrm>
                <a:off x="4483080" y="5003640"/>
                <a:ext cx="3189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6"/>
              <p:cNvSpPr txBox="1"/>
              <p:nvPr/>
            </p:nvSpPr>
            <p:spPr>
              <a:xfrm>
                <a:off x="4468680" y="5641920"/>
                <a:ext cx="3193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TextBox 37"/>
          <p:cNvSpPr/>
          <p:nvPr/>
        </p:nvSpPr>
        <p:spPr>
          <a:xfrm>
            <a:off x="312840" y="6002280"/>
            <a:ext cx="88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=&gt; In the case of a typically symmetric probability distribution of the 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     unquantized delta, the quantizer generates an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8"/>
              <p:cNvSpPr txBox="1"/>
              <p:nvPr/>
            </p:nvSpPr>
            <p:spPr>
              <a:xfrm>
                <a:off x="6370560" y="6302520"/>
                <a:ext cx="14558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−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" y="8388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Optimization: Symmetric quantization of „Delta“-Value by shift-ope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quantized „Delta-Value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quantization of „Delta-Value“ by shift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885960" y="1744560"/>
                <a:ext cx="48384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262080" y="4189320"/>
                <a:ext cx="84135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&gt;&gt;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&gt;&gt;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2462040" y="5589720"/>
                <a:ext cx="885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" y="55440"/>
            <a:ext cx="8385120" cy="4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Optimization: Quantization of „Delta“-Value by shift-operatr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7240" y="59976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mmetric quantizer characteristic for 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7"/>
          <p:cNvCxnSpPr/>
          <p:nvPr/>
        </p:nvCxnSpPr>
        <p:spPr>
          <a:xfrm>
            <a:off x="212760" y="3695400"/>
            <a:ext cx="8749440" cy="108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8748720" y="3735360"/>
                <a:ext cx="2840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06" name="Straight Arrow Connector 10"/>
          <p:cNvCxnSpPr/>
          <p:nvPr/>
        </p:nvCxnSpPr>
        <p:spPr>
          <a:xfrm flipV="1">
            <a:off x="4814640" y="958320"/>
            <a:ext cx="1080" cy="474912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07" name="Object 13"/>
              <p:cNvSpPr txBox="1"/>
              <p:nvPr/>
            </p:nvSpPr>
            <p:spPr>
              <a:xfrm>
                <a:off x="4932360" y="968400"/>
                <a:ext cx="1951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Straight Connector 17"/>
          <p:cNvSpPr/>
          <p:nvPr/>
        </p:nvSpPr>
        <p:spPr>
          <a:xfrm flipV="1">
            <a:off x="5180040" y="3046320"/>
            <a:ext cx="0" cy="6494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Straight Connector 19"/>
          <p:cNvSpPr/>
          <p:nvPr/>
        </p:nvSpPr>
        <p:spPr>
          <a:xfrm flipV="1">
            <a:off x="5937120" y="239832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Straight Connector 21"/>
          <p:cNvSpPr/>
          <p:nvPr/>
        </p:nvSpPr>
        <p:spPr>
          <a:xfrm>
            <a:off x="5180040" y="304632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Straight Connector 22"/>
          <p:cNvSpPr/>
          <p:nvPr/>
        </p:nvSpPr>
        <p:spPr>
          <a:xfrm flipV="1">
            <a:off x="6692760" y="1750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Straight Connector 23"/>
          <p:cNvSpPr/>
          <p:nvPr/>
        </p:nvSpPr>
        <p:spPr>
          <a:xfrm>
            <a:off x="5937120" y="239868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Straight Connector 24"/>
          <p:cNvSpPr/>
          <p:nvPr/>
        </p:nvSpPr>
        <p:spPr>
          <a:xfrm>
            <a:off x="6692760" y="175104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Straight Connector 25"/>
          <p:cNvSpPr/>
          <p:nvPr/>
        </p:nvSpPr>
        <p:spPr>
          <a:xfrm flipH="1">
            <a:off x="2268360" y="563868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Straight Connector 26"/>
          <p:cNvSpPr/>
          <p:nvPr/>
        </p:nvSpPr>
        <p:spPr>
          <a:xfrm flipH="1">
            <a:off x="3024000" y="49910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Straight Connector 27"/>
          <p:cNvSpPr/>
          <p:nvPr/>
        </p:nvSpPr>
        <p:spPr>
          <a:xfrm flipV="1">
            <a:off x="2916360" y="4990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3779640" y="434340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Straight Connector 29"/>
          <p:cNvSpPr/>
          <p:nvPr/>
        </p:nvSpPr>
        <p:spPr>
          <a:xfrm flipV="1">
            <a:off x="3672000" y="434304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Straight Connector 30"/>
          <p:cNvSpPr/>
          <p:nvPr/>
        </p:nvSpPr>
        <p:spPr>
          <a:xfrm flipV="1">
            <a:off x="4427640" y="369540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31"/>
              <p:cNvSpPr txBox="1"/>
              <p:nvPr/>
            </p:nvSpPr>
            <p:spPr>
              <a:xfrm>
                <a:off x="5043600" y="3735360"/>
                <a:ext cx="3204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3"/>
              <p:cNvSpPr txBox="1"/>
              <p:nvPr/>
            </p:nvSpPr>
            <p:spPr>
              <a:xfrm>
                <a:off x="5854680" y="3735360"/>
                <a:ext cx="301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34"/>
              <p:cNvSpPr txBox="1"/>
              <p:nvPr/>
            </p:nvSpPr>
            <p:spPr>
              <a:xfrm>
                <a:off x="6588000" y="3735360"/>
                <a:ext cx="3384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5"/>
              <p:cNvSpPr txBox="1"/>
              <p:nvPr/>
            </p:nvSpPr>
            <p:spPr>
              <a:xfrm>
                <a:off x="4129200" y="3446640"/>
                <a:ext cx="4809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3346560" y="3444840"/>
                <a:ext cx="4618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2556000" y="3444840"/>
                <a:ext cx="4791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4"/>
              <p:cNvSpPr txBox="1"/>
              <p:nvPr/>
            </p:nvSpPr>
            <p:spPr>
              <a:xfrm>
                <a:off x="4572000" y="29098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5"/>
              <p:cNvSpPr txBox="1"/>
              <p:nvPr/>
            </p:nvSpPr>
            <p:spPr>
              <a:xfrm>
                <a:off x="4545000" y="2238480"/>
                <a:ext cx="177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8"/>
              <p:cNvSpPr txBox="1"/>
              <p:nvPr/>
            </p:nvSpPr>
            <p:spPr>
              <a:xfrm>
                <a:off x="4579920" y="1511280"/>
                <a:ext cx="1602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0"/>
              <p:cNvSpPr txBox="1"/>
              <p:nvPr/>
            </p:nvSpPr>
            <p:spPr>
              <a:xfrm>
                <a:off x="4492800" y="4199040"/>
                <a:ext cx="2822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2"/>
              <p:cNvSpPr txBox="1"/>
              <p:nvPr/>
            </p:nvSpPr>
            <p:spPr>
              <a:xfrm>
                <a:off x="4483080" y="4846680"/>
                <a:ext cx="3189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6"/>
              <p:cNvSpPr txBox="1"/>
              <p:nvPr/>
            </p:nvSpPr>
            <p:spPr>
              <a:xfrm>
                <a:off x="4468680" y="5484960"/>
                <a:ext cx="31932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8"/>
              <p:cNvSpPr txBox="1"/>
              <p:nvPr/>
            </p:nvSpPr>
            <p:spPr>
              <a:xfrm>
                <a:off x="6372360" y="6126120"/>
                <a:ext cx="1455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−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Box 39"/>
          <p:cNvSpPr/>
          <p:nvPr/>
        </p:nvSpPr>
        <p:spPr>
          <a:xfrm>
            <a:off x="179280" y="5810400"/>
            <a:ext cx="88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  <a:ea typeface="Arial"/>
              </a:rPr>
              <a:t>=&gt; In the case of a typically symmetric probability distribution of the </a:t>
            </a:r>
            <a:br>
              <a:rPr sz="1800"/>
            </a:br>
            <a:r>
              <a:rPr b="1" lang="de-DE" sz="1800" spc="-1" strike="noStrike">
                <a:solidFill>
                  <a:srgbClr val="00b050"/>
                </a:solidFill>
                <a:latin typeface="Arial"/>
                <a:ea typeface="Arial"/>
              </a:rPr>
              <a:t>     unquantized delta, the quantizer generates no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Anand.Kotra</cp:lastModifiedBy>
  <dcterms:modified xsi:type="dcterms:W3CDTF">2011-11-21T10:38:19Z</dcterms:modified>
  <cp:revision>1675</cp:revision>
  <dc:subject/>
  <dc:title>CE12: Results for decisions for deblocking </dc:title>
</cp:coreProperties>
</file>