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EF6-3EFA-4D5D-A32C-B93D65A5F96D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0F47-9E21-4127-8B0E-9B887707B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BC9-C58C-436B-9D46-79EBE75BCAA5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3F3-602C-4FCE-B84B-CCCA50849106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Numbering -&gt; 3 separate items are being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AE80-11CA-4559-8659-E68AB70089FD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1CA7-3C35-4F52-A9F0-E699D91445EC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dvantage software cleanup and reduction of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D53-BF74-44E1-9604-0AAC734AEB89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BF57-04F6-42B0-BF46-8448370BEDF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sign BS values and then its possible to use the equation in th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t with G174, change this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308-3360-4AFF-A1B2-694C9168273A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203F-381B-4D7C-9425-D6AA30983E4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– software clean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638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86C9-AD97-48CA-B203-37C8EADFF8D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638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496360" cy="23716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 CE12: Deblocking boundary strength and filtering process simplifications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24000" y="3568680"/>
            <a:ext cx="6120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nand Kotra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HM4.0 compliant WD and software 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-assignment of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ean Tc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moval of processing steps for B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-assignment of B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Picture6"/>
          <p:cNvPicPr/>
          <p:nvPr/>
        </p:nvPicPr>
        <p:blipFill>
          <a:blip r:embed="rId1"/>
          <a:stretch/>
        </p:blipFill>
        <p:spPr>
          <a:xfrm>
            <a:off x="344520" y="620640"/>
            <a:ext cx="8601120" cy="4608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1725480" y="509580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M-4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516720" y="509580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47600" y="5570640"/>
            <a:ext cx="8996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b050"/>
                </a:solidFill>
                <a:latin typeface="Arial"/>
              </a:rPr>
              <a:t>Compliant with HM-4.0 </a:t>
            </a:r>
            <a:br>
              <a:rPr sz="2400"/>
            </a:br>
            <a:r>
              <a:rPr b="1" lang="de-DE" sz="2400" spc="-1" strike="noStrike">
                <a:solidFill>
                  <a:srgbClr val="00b050"/>
                </a:solidFill>
                <a:latin typeface="Arial"/>
              </a:rPr>
              <a:t>since BS=3,4 as well as BS=1,2 are not further distinguished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lean Tc deriv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" y="685800"/>
            <a:ext cx="8996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147600" y="620640"/>
            <a:ext cx="8685360" cy="259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Current HM- 4.0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c (treshold) is derived as follows: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tep1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f (BS &gt; 2) then </a:t>
            </a:r>
            <a:r>
              <a:rPr b="1" i="1" lang="de-DE" sz="1800" spc="-1" strike="noStrike">
                <a:solidFill>
                  <a:srgbClr val="000066"/>
                </a:solidFill>
                <a:latin typeface="Arial"/>
              </a:rPr>
              <a:t>tcoffset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=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se </a:t>
            </a:r>
            <a:r>
              <a:rPr b="1" i="1" lang="de-DE" sz="1800" spc="-1" strike="noStrike">
                <a:solidFill>
                  <a:srgbClr val="000066"/>
                </a:solidFill>
                <a:latin typeface="Arial"/>
              </a:rPr>
              <a:t>tcoffset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tep2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TC = clip3(0, MAX_QP + 4, QP 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coff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>
            <a:off x="3995640" y="3503520"/>
            <a:ext cx="432000" cy="573120"/>
          </a:xfrm>
          <a:prstGeom prst="downArrow">
            <a:avLst>
              <a:gd name="adj1" fmla="val 50000"/>
              <a:gd name="adj2" fmla="val 33167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160200" y="4282920"/>
            <a:ext cx="8672760" cy="217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b050"/>
                </a:solidFill>
                <a:uFillTx/>
                <a:latin typeface="Arial"/>
              </a:rPr>
              <a:t>Proposal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c (treshold) is derived as follows: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tep1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TC = clip3(0, MAX_QP+ 4, QP+ bS-1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427640" y="3384720"/>
            <a:ext cx="4368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Unnecessary step1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emoved</a:t>
            </a:r>
            <a:br>
              <a:rPr sz="2400"/>
            </a:br>
            <a:r>
              <a:rPr b="1" lang="de-DE" sz="2400" spc="-1" strike="noStrike" u="sng">
                <a:solidFill>
                  <a:srgbClr val="00b050"/>
                </a:solidFill>
                <a:uFillTx/>
                <a:latin typeface="Arial"/>
              </a:rPr>
              <a:t>(Compliant with HM4.0)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val of unnecessary processing steps for BS=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7600" y="685800"/>
            <a:ext cx="8685360" cy="184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Current HM- 4.0 and WD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c, ß and other thresholds are calculated even when BS=0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60200" y="3860640"/>
            <a:ext cx="86727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b050"/>
                </a:solidFill>
                <a:uFillTx/>
                <a:latin typeface="Arial"/>
              </a:rPr>
              <a:t>Proposal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 not calculate Tc, ß and other thresholds when BS=0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Frequency: &gt;50%)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3995640" y="3071880"/>
            <a:ext cx="432000" cy="573120"/>
          </a:xfrm>
          <a:prstGeom prst="downArrow">
            <a:avLst>
              <a:gd name="adj1" fmla="val 50000"/>
              <a:gd name="adj2" fmla="val 33167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4164120" y="3029040"/>
            <a:ext cx="4871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Unnecessary processing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removed</a:t>
            </a:r>
            <a:br>
              <a:rPr sz="2000"/>
            </a:br>
            <a:r>
              <a:rPr b="1" lang="de-DE" sz="2000" spc="-1" strike="noStrike" u="sng">
                <a:solidFill>
                  <a:srgbClr val="00b050"/>
                </a:solidFill>
                <a:uFillTx/>
                <a:latin typeface="Arial"/>
              </a:rPr>
              <a:t>(Compliant with HM4.0)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WD and software 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-assignment of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ean Tc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moval of processing steps for B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eanup of WD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uced operations in de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iant with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binable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adjustment in slice leve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JCTVC-G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ed by Qualcomm – JCTVC-G3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next version of WD and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Anand.Kotra</cp:lastModifiedBy>
  <dcterms:modified xsi:type="dcterms:W3CDTF">2011-11-23T15:57:04Z</dcterms:modified>
  <cp:revision>1707</cp:revision>
  <dc:subject/>
  <dc:title>CE12: Results for decisions for deblocking </dc:title>
</cp:coreProperties>
</file>