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8F72-A87A-44B2-9CAF-8DE17697A0F7}" type="datetime5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162-716E-4000-A7E1-490ABE7D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Numbering -&gt; 3 separate items are being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e.g. JCTVC-G75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JCTVC-G757 – On software complexity by Frank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dvantage software cleanup and reduction of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sign BS values and then its possible to use the equation in th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t with G174, change this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– software clean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3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4BD-AB85-44DD-9F52-C844A4FE24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3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 Deblocking boundary strength and filtering process simplifications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) Boundary Strength (BS)  simp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) Tc Derivation simp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) Speedup of deblocking when B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Reference: HM4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urrent deblocking – Still complex ( e.g. JCTVC-G7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umes 14 - 20% of total decod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st time sp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eriving BS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ter on/off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ng/Weak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ree simplifications  pro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ed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ing draft and HM-4.0 clean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1) BS derivation simplif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4520" y="620640"/>
            <a:ext cx="8601120" cy="460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25480" y="491976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M-4.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4684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5369040"/>
            <a:ext cx="81882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-Edge check removed for Intra bloc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S values reassigned =&gt; BS=3 for Intra, BS=[0,l] for Inter bloc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Result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Compliant with HM-4.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Software cleanup and reduction of cycles in BS deriv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2) Tc derivation simplif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00" y="685800"/>
            <a:ext cx="8996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00" y="685800"/>
            <a:ext cx="8685360" cy="245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urrent HM- 4.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 (treshold) is derived as follow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1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f (BS &gt; 2) then </a:t>
            </a:r>
            <a:r>
              <a:rPr b="1" i="1" lang="de-DE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=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se </a:t>
            </a:r>
            <a:r>
              <a:rPr b="1" i="1" lang="de-DE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2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TC = clip3(0, MAX_QP + 4, QP 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coff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6480" y="3139920"/>
            <a:ext cx="432000" cy="573120"/>
          </a:xfrm>
          <a:prstGeom prst="downArrow">
            <a:avLst>
              <a:gd name="adj1" fmla="val 50000"/>
              <a:gd name="adj2" fmla="val 331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200" y="3743280"/>
            <a:ext cx="8672760" cy="12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Propos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 (treshold) is derived as follow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tep1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TC = clip3(0, MAX_QP+ 4, QP+ bS-1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19400" y="3236760"/>
            <a:ext cx="290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520" y="5229360"/>
            <a:ext cx="818820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Result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Compliant with HM-4.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Reduction of cycles in Tc deriv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posal also adaptable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blocking filter parameter adjustment in slice level  (G174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TC = clip3(0, MAX_QP+ 4, (QP+ bS-1 + Transmitted_offset)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2057400"/>
            <a:ext cx="4803840" cy="685800"/>
          </a:xfrm>
          <a:prstGeom prst="wedgeRoundRectCallout">
            <a:avLst>
              <a:gd name="adj1" fmla="val 18175"/>
              <a:gd name="adj2" fmla="val -81944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BS value leads only to two different states in deblock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Reassign BS values as shown in last sli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3) Speedup when BS=0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00" y="685800"/>
            <a:ext cx="8685360" cy="235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urrent HM- 4.0 and Working Draf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LumaEdge filtering for each edge the following operations are performed even w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S=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iving Tc, ß and other Threshol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s spent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pporx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17 cyc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roma edge filter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pporx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) 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9 cyc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05240" y="3016080"/>
            <a:ext cx="432000" cy="363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200" y="3465360"/>
            <a:ext cx="8672760" cy="92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Propos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o not calculate Tc, ß and other thresholds when BS=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4520" y="5013360"/>
            <a:ext cx="81882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sult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ompliant with HM-4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oftware speedup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peedup when BS=0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13744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20640"/>
                    <a:ext cx="8137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47600" y="5084640"/>
            <a:ext cx="87487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- Axis : (Edges with BS=0) / (Total Edges) * 10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aph plotted by considering all the video sequences in common test conditions (F90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re than 50% edges with BS=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blocking in HM-4.0 stil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me spent in BS derivation, filter on/off, strong/weak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e simpl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-Edge check removal in BS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coffset removal in Tc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edup by not calculating tc,ß and other thresholds when BS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 : Compliant with HM-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vantage : Cleanup and speedup in de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ges in HM-4.0 source code : Very mi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Qualcomm – JCTVC-G3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: Inclusion into next version of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1T10:25:24Z</dcterms:modified>
  <cp:revision>1667</cp:revision>
  <dc:subject/>
  <dc:title>CE12: Results for decisions for deblocking </dc:title>
</cp:coreProperties>
</file>