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0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909-C375-465D-B711-D4078F81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361-4872-4724-AC67-C65923FC70B8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A9C-C631-4D54-8F0B-D71732A4A4E1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36F-68CC-4FB1-B1CB-D882F5EC7229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7FF9CE25-DAB8-4DAC-A3A5-1A2907BCCA5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1422360" y="0"/>
            <a:ext cx="98424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2368440"/>
            <a:ext cx="835164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evel restrictions on tiles for line buffer reduc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JCTVC-G618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  <a:ea typeface="宋体"/>
              </a:rPr>
              <a:t>Andrey Norkin, Rickard Sjöber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607000" y="1359000"/>
            <a:ext cx="313056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Currently, many proposals in in-loop filtering address line buffer reduc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ALF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SAO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hor. LCU boundary for deblock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Line-buffer reduction methods typically introduce irregularities in in-loop filtering (like padding or using different filters on hor. LCU boundary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ubjective quality may be affect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080" y="1311840"/>
            <a:ext cx="4715280" cy="2357280"/>
            <a:chOff x="514080" y="1311840"/>
            <a:chExt cx="4715280" cy="2357280"/>
          </a:xfrm>
        </p:grpSpPr>
        <p:sp>
          <p:nvSpPr>
            <p:cNvPr id="95" name=""/>
            <p:cNvSpPr/>
            <p:nvPr/>
          </p:nvSpPr>
          <p:spPr>
            <a:xfrm>
              <a:off x="514080" y="1311840"/>
              <a:ext cx="4714920" cy="235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4080" y="131184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080" y="164880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080" y="1985400"/>
              <a:ext cx="4679640" cy="26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080" y="2322360"/>
              <a:ext cx="2357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080" y="265968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080" y="2995920"/>
              <a:ext cx="235764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080" y="333216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32840" y="131184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2840" y="198072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72080" y="2322360"/>
              <a:ext cx="2357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2080" y="265968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72080" y="2995920"/>
              <a:ext cx="23572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72080" y="333216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83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46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600" y="1311840"/>
              <a:ext cx="144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028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5616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42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080" y="1311840"/>
              <a:ext cx="415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0320" y="1311840"/>
              <a:ext cx="404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080" y="16488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80" y="19854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4080" y="2255040"/>
              <a:ext cx="2357640" cy="6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15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5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3584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8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0320" y="1311840"/>
              <a:ext cx="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88080" y="2266920"/>
              <a:ext cx="7092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1520" y="2481480"/>
              <a:ext cx="8582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01560" y="1551600"/>
              <a:ext cx="687600" cy="4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3800" y="2624400"/>
              <a:ext cx="858960" cy="64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1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2840" y="2236320"/>
              <a:ext cx="2357640" cy="65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816280" y="1628640"/>
            <a:ext cx="0" cy="4953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22360" y="3924360"/>
            <a:ext cx="4860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To decrease a number of memory accesses (esp. in hardware) in-loop filtering is done in LCU order after decoding the LCU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everal bottom lines in LCU are kept in on-chip memory (line buffer) until pixels in next LCU to bottom are available to in-loop filt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Currently, 8 lines need to be kept in line buffer (vs 4 lines in H.264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Resolutions 4Kx2K – 4 times larger line buffer than in H.264 H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posed solution – mandate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75240" y="1314360"/>
            <a:ext cx="7047000" cy="4383720"/>
            <a:chOff x="975240" y="1314360"/>
            <a:chExt cx="7047000" cy="4383720"/>
          </a:xfrm>
        </p:grpSpPr>
        <p:sp>
          <p:nvSpPr>
            <p:cNvPr id="135" name=""/>
            <p:cNvSpPr/>
            <p:nvPr/>
          </p:nvSpPr>
          <p:spPr>
            <a:xfrm>
              <a:off x="975240" y="1918440"/>
              <a:ext cx="7046640" cy="35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482000" y="1742400"/>
              <a:ext cx="16200" cy="39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5240" y="1918440"/>
              <a:ext cx="3422520" cy="502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5240" y="2421360"/>
              <a:ext cx="3422520" cy="50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5240" y="2925360"/>
              <a:ext cx="3422520" cy="402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524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524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524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524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7760" y="191844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8920" y="242136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7760" y="292536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892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892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892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892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014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512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0912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276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56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207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5240" y="1918440"/>
              <a:ext cx="620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7800" y="1918440"/>
              <a:ext cx="60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95200" y="1918440"/>
              <a:ext cx="60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6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5240" y="2421360"/>
              <a:ext cx="603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7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5240" y="2925360"/>
              <a:ext cx="603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4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5240" y="3328560"/>
              <a:ext cx="3523320" cy="9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836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3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960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8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80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7800" y="1918440"/>
              <a:ext cx="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7760" y="1918440"/>
              <a:ext cx="100800" cy="1509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1160" y="1314360"/>
              <a:ext cx="19119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Vert. tile boundary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72320" y="1314360"/>
              <a:ext cx="9064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Tile #1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1200" y="3345840"/>
              <a:ext cx="1065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02800" y="3666600"/>
              <a:ext cx="12830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8440" y="2383200"/>
              <a:ext cx="2244600" cy="106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Column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Times New Roman"/>
                </a:rPr>
                <a:t>(saved in the memory)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82360" y="2704680"/>
              <a:ext cx="85572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0880" y="2276280"/>
              <a:ext cx="96264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48480" y="3880800"/>
              <a:ext cx="128304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692360" y="135900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Times New Roman"/>
              </a:rPr>
              <a:t>Tile #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5950080"/>
            <a:ext cx="72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clude restriction on maximum tile width in level defini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he example of level restriction on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1" name="Rectangle 259"/>
          <p:cNvSpPr/>
          <p:nvPr/>
        </p:nvSpPr>
        <p:spPr>
          <a:xfrm>
            <a:off x="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50920" y="1403280"/>
          <a:ext cx="6750000" cy="1137960"/>
        </p:xfrm>
        <a:graphic>
          <a:graphicData uri="http://schemas.openxmlformats.org/drawingml/2006/table">
            <a:tbl>
              <a:tblPr/>
              <a:tblGrid>
                <a:gridCol w="1324080"/>
                <a:gridCol w="1780920"/>
                <a:gridCol w="1710000"/>
                <a:gridCol w="1935000"/>
              </a:tblGrid>
              <a:tr h="70776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 Tile Width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In 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 Tile Width In 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 Tile Height In 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Z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197000" y="3390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  <a:ea typeface="Times New Roman"/>
              </a:rPr>
              <a:t>Alternativel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50920" y="3878280"/>
          <a:ext cx="6028920" cy="1440720"/>
        </p:xfrm>
        <a:graphic>
          <a:graphicData uri="http://schemas.openxmlformats.org/drawingml/2006/table">
            <a:tbl>
              <a:tblPr/>
              <a:tblGrid>
                <a:gridCol w="1672560"/>
                <a:gridCol w="2197440"/>
                <a:gridCol w="2158920"/>
              </a:tblGrid>
              <a:tr h="89640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 Tile Width In 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 Tile Border In 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197000" y="5566320"/>
            <a:ext cx="48020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  <a:ea typeface="Times New Roman"/>
              </a:rPr>
              <a:t>where MinTileBorder is equal to MinTileHeightInLCU + MinTileWidthInLCU</a:t>
            </a:r>
            <a:r>
              <a:rPr b="0" lang="en-US" sz="1100" spc="-1" strike="noStrike">
                <a:solidFill>
                  <a:srgbClr val="58585a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513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evel limits on tile siz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is means that use of multiple tiles in pictures would be mandated for certain level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reduce line buffer without any modifications to in-loop filters struct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iles will have no impact on subjective quality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also be used together with any other proposals reducing line buffers (reducing line buffer size even mor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imitations on tile size into HEVC levels definitions and begin work on determining required limits for tile size related to line buffer siz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work should begin now since it is directly related to in-loop filters structure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ignment with line buffer reduction in in-loop filtering is requir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1-11-26T17:54:41Z</dcterms:modified>
  <cp:revision>66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