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4DF66-4B27-405A-B810-7DEF0193C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1FB5-B354-4530-8484-283106786E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2397-EAA5-4411-A0E3-115E162F3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D353-9814-49C4-BC95-A6A85771F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AD22-114A-4D03-81D3-85B6D2E0F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B820-AAB3-4B88-B292-37319A611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EA08-3784-46E8-B63A-0ABF7C2E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2B805-AF01-417D-8E00-FACAB8B4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6AC63-DDB3-4ABE-89B8-29EAE38D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588D6-5F62-408F-9A4F-28F11D59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E15B-EFC3-46CB-B011-DA5ADB46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5E3D7-5004-404D-8348-0FE1382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F8A30-44AB-4A23-A69A-141635F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7F97-775A-4D13-88E8-1B027E5E7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DBB4-4877-427C-99F7-992EB8C9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5176-31E1-4C58-98FE-9E7F4B8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DE604-9436-4DD1-9B70-91E9FFD0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A645A-8D70-4B49-A62F-BFF86CE3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781A9-53B0-4BB9-BC66-5A44AD8D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43FD-147B-4553-BCE9-81F7B98E5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1D62-D429-43C1-BCEF-86EB16BB1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E246-E0E3-46C6-A865-20D03D961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3F4B-15DC-4D86-A348-BF3A47657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E21C-B9AC-46F7-A832-BF824EA82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92CA-A6A6-42AD-BD18-310A34EAB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CC20-F1D1-4719-B12A-18BBD7AC6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6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8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9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E14E22C7-CFA2-4351-B336-83F077E44DD5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89360BC4-94AD-40B1-A388-037C7E8EE864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ified Deblocking and SAO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G608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ndrew Segall and Jie Zhao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propose to modify SAO classification proces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ur benefits and goa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nify SAO and deblock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able addition of SAO offset as soon as pixel is deblock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mbine SAO and parallel deblocking proces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st of the present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llustrate the problem first, then present our proposed method and result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blem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6661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 current HEVC design, SAO and deblocking are sequential operations at the deco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blocking filter in HM4.0 applies deblocking filter on 8x8 or larger block boundar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blocking along horizontal boundaries can be done in parall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blocking along vertical boundaries can be done in parall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O then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major reason for the serial process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assification for EO types requires output from neighboring colum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096400" y="2222640"/>
            <a:ext cx="55292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posed Method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5184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ur proposa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horizontal deblocked pixels in SAO classification in EO typ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spcBef>
                <a:spcPts val="7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nefit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move the dependency of SAO category classification on full deblocked pixel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AO offset calculated at the same time as vertical deblocking operation.  Thus, SAO offset can be added during vertical deblocking oper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rge SAO process and deblocking process.  This includes maintaining parallel deblocking desig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spcBef>
                <a:spcPts val="6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posed Method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275840"/>
            <a:ext cx="12436560" cy="10796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low shows the flowcharts of existing method in HM4.0 and proposed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05640" y="2305080"/>
            <a:ext cx="3703680" cy="397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47720" y="6570720"/>
            <a:ext cx="47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sting deblocking and SAO flowchart in HM4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671240" y="6607080"/>
            <a:ext cx="491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osed deblocking and SAO flowchart in HM4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22680" y="2192400"/>
            <a:ext cx="2546280" cy="4262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04840" y="7245360"/>
            <a:ext cx="12436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ahoma"/>
              </a:rPr>
              <a:t>Note: Suitable for picture based processing, LCU based processing and combination with line buffer reduction technique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5457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e Horizontal Deblocked Pixels in EO type SAO classific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mon test Configur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verage Impact on BD r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ntra (HE &amp; LC):               0.1%, 0.1%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Random access (HE&amp;LC):  0.1%, 0.1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Low delay B (HE&amp;LC):       0.0%,  0.1%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58000" y="1434960"/>
            <a:ext cx="525636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6960" y="1250640"/>
            <a:ext cx="13052520" cy="5460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9440" indent="-649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presented a technique to unify SAO and de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adding SAO offset immediately after a pixel is deblo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rge SAO into Parallel de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act on average B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 (both HE and LC)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1, 0.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 (both HE and LC)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1, 0.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elay B (both HE and LC)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0, 0.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verified by Panaso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to adopt this technique to H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JCTVC-F275</cp:lastModifiedBy>
  <dcterms:modified xsi:type="dcterms:W3CDTF">2011-11-24T08:21:54Z</dcterms:modified>
  <cp:revision>676</cp:revision>
  <dc:subject/>
  <dc:title>PowerPoint Presentation</dc:title>
</cp:coreProperties>
</file>