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192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2192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7D6C-9AE5-4391-A006-41C25C5731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m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8AF5-205B-4361-ACAE-71F4F4D57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B48A-EDBA-4663-99C5-3C54932B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C5BE-1322-4C66-88B5-995682A37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9D0A-0A40-4148-BB86-0BDCAFBCF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2ABB-8F59-4C88-8B3A-A19D590F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BB3A-643E-41C2-9BA4-208B7328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8DF8-E5EA-43CC-9362-2CCC9ACF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A7D4-E95C-4BF3-8961-C59809FC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D282-70DA-4097-8385-A876CBEB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675C-BB2E-4E68-99EF-7C961611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285C-5A5E-419D-A970-A60AEE2A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9F6E-BCE9-4944-9495-D3DDD5AA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3B2C-39C1-4DAD-954C-F8FF3C158E41}" type="datetime">
              <a:rPr b="0" lang="pl-PL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D7CE-05D3-4DA0-8F89-A577AD2A5D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  <a:ea typeface="Arial"/>
              </a:rPr>
              <a:t>JCTVC-G582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Arial"/>
                <a:ea typeface="Arial"/>
              </a:rPr>
              <a:t>Multiview HEVC – experimental resul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95008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95959"/>
                </a:solidFill>
                <a:latin typeface="Calibri"/>
              </a:rPr>
              <a:t>Chair of </a:t>
            </a:r>
            <a:r>
              <a:rPr b="0" lang="pl-PL" sz="2200" spc="-1" strike="noStrike">
                <a:solidFill>
                  <a:srgbClr val="595959"/>
                </a:solidFill>
                <a:latin typeface="Calibri"/>
              </a:rPr>
              <a:t>M</a:t>
            </a:r>
            <a:r>
              <a:rPr b="0" lang="en-GB" sz="2200" spc="-1" strike="noStrike">
                <a:solidFill>
                  <a:srgbClr val="595959"/>
                </a:solidFill>
                <a:latin typeface="Calibri"/>
              </a:rPr>
              <a:t>ultimedia </a:t>
            </a:r>
            <a:r>
              <a:rPr b="0" lang="pl-PL" sz="2200" spc="-1" strike="noStrike">
                <a:solidFill>
                  <a:srgbClr val="595959"/>
                </a:solidFill>
                <a:latin typeface="Calibri"/>
              </a:rPr>
              <a:t>T</a:t>
            </a:r>
            <a:r>
              <a:rPr b="0" lang="en-GB" sz="2200" spc="-1" strike="noStrike">
                <a:solidFill>
                  <a:srgbClr val="595959"/>
                </a:solidFill>
                <a:latin typeface="Calibri"/>
              </a:rPr>
              <a:t>elecommunications and </a:t>
            </a:r>
            <a:r>
              <a:rPr b="0" lang="pl-PL" sz="2200" spc="-1" strike="noStrike">
                <a:solidFill>
                  <a:srgbClr val="595959"/>
                </a:solidFill>
                <a:latin typeface="Calibri"/>
              </a:rPr>
              <a:t>M</a:t>
            </a:r>
            <a:r>
              <a:rPr b="0" lang="en-GB" sz="2200" spc="-1" strike="noStrike">
                <a:solidFill>
                  <a:srgbClr val="595959"/>
                </a:solidFill>
                <a:latin typeface="Calibri"/>
              </a:rPr>
              <a:t>icroelectroni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95959"/>
                </a:solidFill>
                <a:latin typeface="Calibri"/>
              </a:rPr>
              <a:t>Poznan University of Technolo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Łącznik prosty 5"/>
          <p:cNvSpPr/>
          <p:nvPr/>
        </p:nvSpPr>
        <p:spPr>
          <a:xfrm>
            <a:off x="0" y="44280"/>
            <a:ext cx="9144000" cy="0"/>
          </a:xfrm>
          <a:prstGeom prst="line">
            <a:avLst/>
          </a:prstGeom>
          <a:ln w="101520">
            <a:solidFill>
              <a:srgbClr val="1c5e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Łącznik prosty 6"/>
          <p:cNvSpPr/>
          <p:nvPr/>
        </p:nvSpPr>
        <p:spPr>
          <a:xfrm>
            <a:off x="0" y="5950080"/>
            <a:ext cx="9144000" cy="0"/>
          </a:xfrm>
          <a:prstGeom prst="line">
            <a:avLst/>
          </a:prstGeom>
          <a:ln w="38160">
            <a:solidFill>
              <a:srgbClr val="1c5e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14200" y="333360"/>
            <a:ext cx="2533680" cy="1238400"/>
          </a:xfrm>
          <a:prstGeom prst="rect">
            <a:avLst/>
          </a:prstGeom>
          <a:ln w="0">
            <a:noFill/>
          </a:ln>
        </p:spPr>
      </p:pic>
      <p:sp>
        <p:nvSpPr>
          <p:cNvPr id="53" name="Podtytuł 4"/>
          <p:cNvSpPr/>
          <p:nvPr/>
        </p:nvSpPr>
        <p:spPr>
          <a:xfrm>
            <a:off x="0" y="501336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arek Domański     Tomasz Grajek     Damian Karwowski     Krzysztof Klimaszews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acek Konieczny     Maciej Kurc     Adam Łuczak     Robert Ratajczak     Jakub Sia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lgierd Stankiewicz    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Jakub Stankowsk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   Krzysztof Weg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Łącznik prosty 6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38160">
            <a:solidFill>
              <a:srgbClr val="1c5e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Łącznik prosty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1c5e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ultiview HEV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ding scheme similar to MV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M 3.0 ba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ase view compliant with HEV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inim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u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nterference in software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asy portable to higher HM ver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 additional complexity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rely additional reference frames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Łącznik prosty 10"/>
          <p:cNvSpPr/>
          <p:nvPr/>
        </p:nvSpPr>
        <p:spPr>
          <a:xfrm>
            <a:off x="0" y="44280"/>
            <a:ext cx="9144000" cy="0"/>
          </a:xfrm>
          <a:prstGeom prst="line">
            <a:avLst/>
          </a:prstGeom>
          <a:ln w="101520">
            <a:solidFill>
              <a:srgbClr val="1c5e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Łącznik prosty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1c5e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Coding sche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ding scheme similar to MV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nter-view predi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nter-view reference frames on reference 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Łącznik prosty 10"/>
          <p:cNvSpPr/>
          <p:nvPr/>
        </p:nvSpPr>
        <p:spPr>
          <a:xfrm>
            <a:off x="0" y="44280"/>
            <a:ext cx="9144000" cy="0"/>
          </a:xfrm>
          <a:prstGeom prst="line">
            <a:avLst/>
          </a:prstGeom>
          <a:ln w="101520">
            <a:solidFill>
              <a:srgbClr val="1c5e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8" descr="C:\Users\jstankowski\Documents\Artykuły\JCT-VC Genewa 11_2011\img_3v_2.wmf"/>
          <p:cNvPicPr/>
          <p:nvPr/>
        </p:nvPicPr>
        <p:blipFill>
          <a:blip r:embed="rId1"/>
          <a:stretch/>
        </p:blipFill>
        <p:spPr>
          <a:xfrm>
            <a:off x="830160" y="3500280"/>
            <a:ext cx="748692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Łącznik prosty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1c5e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Test sequen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41264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Sequences from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all for Proposals (CfP) on 3D Video Coding (3DV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Two class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Class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2 natural and 2 synthetic (render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FullHD (1920x1088) resol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25 F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Class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natural sequ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XGA (1024x768) resol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30 F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Łącznik prosty 10"/>
          <p:cNvSpPr/>
          <p:nvPr/>
        </p:nvSpPr>
        <p:spPr>
          <a:xfrm>
            <a:off x="0" y="44280"/>
            <a:ext cx="9144000" cy="0"/>
          </a:xfrm>
          <a:prstGeom prst="line">
            <a:avLst/>
          </a:prstGeom>
          <a:ln w="101520">
            <a:solidFill>
              <a:srgbClr val="1c5e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C:\Users\jstankowski\Documents\Artykuły\JCT-VC Genewa 11_2011\Poznan_Street_00_1920x1088_tex_cam03_0000.bmp"/>
          <p:cNvPicPr/>
          <p:nvPr/>
        </p:nvPicPr>
        <p:blipFill>
          <a:blip r:embed="rId1"/>
          <a:stretch/>
        </p:blipFill>
        <p:spPr>
          <a:xfrm>
            <a:off x="5940360" y="2708280"/>
            <a:ext cx="1440000" cy="816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jstankowski\Documents\Artykuły\JCT-VC Genewa 11_2011\Poznan_Hall2_00_1920x1088_tex_cam06_0161.bmp"/>
          <p:cNvPicPr/>
          <p:nvPr/>
        </p:nvPicPr>
        <p:blipFill>
          <a:blip r:embed="rId2"/>
          <a:stretch/>
        </p:blipFill>
        <p:spPr>
          <a:xfrm>
            <a:off x="7451640" y="2708280"/>
            <a:ext cx="1441440" cy="816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C:\Users\jstankowski\Documents\Artykuły\JCT-VC Genewa 11_2011\Dancer_00_1920x1088_tex_cam02_0000.bmp"/>
          <p:cNvPicPr/>
          <p:nvPr/>
        </p:nvPicPr>
        <p:blipFill>
          <a:blip r:embed="rId3"/>
          <a:stretch/>
        </p:blipFill>
        <p:spPr>
          <a:xfrm>
            <a:off x="7448400" y="3548160"/>
            <a:ext cx="1440000" cy="815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jstankowski\Documents\Artykuły\JCT-VC Genewa 11_2011\balloons_00_1024x768_tex_cam03_0000.bmp"/>
          <p:cNvPicPr/>
          <p:nvPr/>
        </p:nvPicPr>
        <p:blipFill>
          <a:blip r:embed="rId4"/>
          <a:stretch/>
        </p:blipFill>
        <p:spPr>
          <a:xfrm>
            <a:off x="5940360" y="4675320"/>
            <a:ext cx="1089000" cy="815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Users\jstankowski\Documents\Artykuły\JCT-VC Genewa 11_2011\lovebird1_00_1024x768_tex_cam06_0000.bmp"/>
          <p:cNvPicPr/>
          <p:nvPr/>
        </p:nvPicPr>
        <p:blipFill>
          <a:blip r:embed="rId5"/>
          <a:stretch/>
        </p:blipFill>
        <p:spPr>
          <a:xfrm>
            <a:off x="7093080" y="5516640"/>
            <a:ext cx="1089000" cy="817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C:\Users\jstankowski\Documents\Artykuły\JCT-VC Genewa 11_2011\Newspaper_00_1024x768_tex_cam04_0000.bmp"/>
          <p:cNvPicPr/>
          <p:nvPr/>
        </p:nvPicPr>
        <p:blipFill>
          <a:blip r:embed="rId6"/>
          <a:stretch/>
        </p:blipFill>
        <p:spPr>
          <a:xfrm>
            <a:off x="5940360" y="5516640"/>
            <a:ext cx="1089000" cy="817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C:\Users\jstankowski\Documents\Artykuły\JCT-VC Genewa 11_2011\kendo_00_1024x768_tex_cam03_0000.bmp"/>
          <p:cNvPicPr/>
          <p:nvPr/>
        </p:nvPicPr>
        <p:blipFill>
          <a:blip r:embed="rId7"/>
          <a:stretch/>
        </p:blipFill>
        <p:spPr>
          <a:xfrm>
            <a:off x="7093080" y="4675320"/>
            <a:ext cx="1089000" cy="815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C:\Users\jstankowski\Documents\Artykuły\JCT-VC Genewa 11_2011\GT_Fly_00_1920x1088_tex_cam02_0134.bmp"/>
          <p:cNvPicPr/>
          <p:nvPr/>
        </p:nvPicPr>
        <p:blipFill>
          <a:blip r:embed="rId8"/>
          <a:stretch/>
        </p:blipFill>
        <p:spPr>
          <a:xfrm>
            <a:off x="5940360" y="3548160"/>
            <a:ext cx="1440000" cy="8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Łącznik prosty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1c5e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Coding scenari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Łącznik prosty 10"/>
          <p:cNvSpPr/>
          <p:nvPr/>
        </p:nvSpPr>
        <p:spPr>
          <a:xfrm>
            <a:off x="0" y="44280"/>
            <a:ext cx="9144000" cy="0"/>
          </a:xfrm>
          <a:prstGeom prst="line">
            <a:avLst/>
          </a:prstGeom>
          <a:ln w="101520">
            <a:solidFill>
              <a:srgbClr val="1c5e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all for Proposals (CfP) on 3D Video Coding (3DV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-view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reoscopic pair of vie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ntended to display on stereoscopic mon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view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ntended to use in auto-stereoscopic displ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7" descr="C:\Users\jstankowski\Documents\Artykuły\JCT-VC Genewa 11_2011\img_2v_2.wmf"/>
          <p:cNvPicPr/>
          <p:nvPr/>
        </p:nvPicPr>
        <p:blipFill>
          <a:blip r:embed="rId1"/>
          <a:stretch/>
        </p:blipFill>
        <p:spPr>
          <a:xfrm>
            <a:off x="108000" y="4581360"/>
            <a:ext cx="4392720" cy="1151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C:\Users\jstankowski\Documents\Artykuły\JCT-VC Genewa 11_2011\img_3v_2.wmf"/>
          <p:cNvPicPr/>
          <p:nvPr/>
        </p:nvPicPr>
        <p:blipFill>
          <a:blip r:embed="rId2"/>
          <a:stretch/>
        </p:blipFill>
        <p:spPr>
          <a:xfrm>
            <a:off x="4578480" y="4581360"/>
            <a:ext cx="4457520" cy="1727280"/>
          </a:xfrm>
          <a:prstGeom prst="rect">
            <a:avLst/>
          </a:prstGeom>
          <a:ln w="0">
            <a:noFill/>
          </a:ln>
        </p:spPr>
      </p:pic>
      <p:sp>
        <p:nvSpPr>
          <p:cNvPr id="86" name="pole tekstowe 1"/>
          <p:cNvSpPr/>
          <p:nvPr/>
        </p:nvSpPr>
        <p:spPr>
          <a:xfrm>
            <a:off x="108000" y="6308640"/>
            <a:ext cx="439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2-view c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ole tekstowe 9"/>
          <p:cNvSpPr/>
          <p:nvPr/>
        </p:nvSpPr>
        <p:spPr>
          <a:xfrm>
            <a:off x="4643280" y="6308640"/>
            <a:ext cx="439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3-view c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Łącznik prosty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1c5e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79280" y="2060640"/>
          <a:ext cx="8785440" cy="4098960"/>
        </p:xfrm>
        <a:graphic>
          <a:graphicData uri="http://schemas.openxmlformats.org/drawingml/2006/table">
            <a:tbl>
              <a:tblPr/>
              <a:tblGrid>
                <a:gridCol w="1255680"/>
                <a:gridCol w="1254240"/>
                <a:gridCol w="1255680"/>
                <a:gridCol w="1254240"/>
                <a:gridCol w="1255680"/>
                <a:gridCol w="1254240"/>
                <a:gridCol w="1255680"/>
              </a:tblGrid>
              <a:tr h="696960">
                <a:tc gridSpan="7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75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rformance of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multiview HEVC 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pared to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simulcast HEVC 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HM 3.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4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-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view c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-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view c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5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6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7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6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5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5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5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5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2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5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ver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9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3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-22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-2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-21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-3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-2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-29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5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c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c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Łącznik prosty 10"/>
          <p:cNvSpPr/>
          <p:nvPr/>
        </p:nvSpPr>
        <p:spPr>
          <a:xfrm>
            <a:off x="0" y="44280"/>
            <a:ext cx="9144000" cy="0"/>
          </a:xfrm>
          <a:prstGeom prst="line">
            <a:avLst/>
          </a:prstGeom>
          <a:ln w="101520">
            <a:solidFill>
              <a:srgbClr val="1c5e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Łącznik prosty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1c5e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Views and sequences details</a:t>
            </a:r>
            <a:br>
              <a:rPr sz="4000"/>
            </a:b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3-view c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Łącznik prosty 10"/>
          <p:cNvSpPr/>
          <p:nvPr/>
        </p:nvSpPr>
        <p:spPr>
          <a:xfrm>
            <a:off x="0" y="44280"/>
            <a:ext cx="9144000" cy="0"/>
          </a:xfrm>
          <a:prstGeom prst="line">
            <a:avLst/>
          </a:prstGeom>
          <a:ln w="101520">
            <a:solidFill>
              <a:srgbClr val="1c5e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50920" y="1557360"/>
          <a:ext cx="8642160" cy="4967280"/>
        </p:xfrm>
        <a:graphic>
          <a:graphicData uri="http://schemas.openxmlformats.org/drawingml/2006/table">
            <a:tbl>
              <a:tblPr/>
              <a:tblGrid>
                <a:gridCol w="1800000"/>
                <a:gridCol w="1140120"/>
                <a:gridCol w="1141200"/>
                <a:gridCol w="1139760"/>
                <a:gridCol w="1139760"/>
                <a:gridCol w="1141560"/>
                <a:gridCol w="1139760"/>
              </a:tblGrid>
              <a:tr h="619200">
                <a:tc gridSpan="7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rformance of 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ultiview HEVC 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pared to 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mulcast HEVC 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HM 3.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1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-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dependent vi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-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n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dependent vi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znan_Hall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7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znan_Stre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7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1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ndo_Danc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5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4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7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T_F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8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9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9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8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en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9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7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llo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5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7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7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vebir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6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3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2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7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wspap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6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ver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1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8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1T15:52:42Z</dcterms:created>
  <dc:creator>Jakub Stankowski</dc:creator>
  <dc:description/>
  <dc:language>en-US</dc:language>
  <cp:lastModifiedBy>Jakub Stankowski</cp:lastModifiedBy>
  <cp:lastPrinted>2011-10-10T08:41:09Z</cp:lastPrinted>
  <dcterms:modified xsi:type="dcterms:W3CDTF">2011-11-18T19:21:36Z</dcterms:modified>
  <cp:revision>96</cp:revision>
  <dc:subject/>
  <dc:title>3D Television</dc:title>
</cp:coreProperties>
</file>