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G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5080" y="693720"/>
            <a:ext cx="8460000" cy="2401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JCTVC-G575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Transform Skip Mo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JCTVC-G57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Transform skipping dependant on block parameters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823104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rta Mr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rea Gabriellini, David Fly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lenn Van Wallendael, Jan De Cock, Rik Van de W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hent Univers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Transform Skip Mode (TSM)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125000"/>
            <a:ext cx="3240000" cy="4969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Transform Skip Mode (TSM)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defines transform skip in one or both directions on which a transform would be applied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applied on motion compensated block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decided on TU-level during RD search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encoder assigns one of four TS mod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hoice signalled to the decoder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"/>
          <p:cNvGraphicFramePr/>
          <p:nvPr/>
        </p:nvGraphicFramePr>
        <p:xfrm>
          <a:off x="3778200" y="1270080"/>
          <a:ext cx="5334120" cy="139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270080"/>
                    <a:ext cx="5334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78200" y="2637000"/>
          <a:ext cx="5473800" cy="847440"/>
        </p:xfrm>
        <a:graphic>
          <a:graphicData uri="http://schemas.openxmlformats.org/drawingml/2006/table">
            <a:tbl>
              <a:tblPr/>
              <a:tblGrid>
                <a:gridCol w="1368360"/>
                <a:gridCol w="1368720"/>
                <a:gridCol w="1368360"/>
                <a:gridCol w="1368360"/>
              </a:tblGrid>
              <a:tr h="8474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D transform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onal s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s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tical s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columns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isontal s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ransform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gonal s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29080" y="3933720"/>
          <a:ext cx="3745080" cy="2075040"/>
        </p:xfrm>
        <a:graphic>
          <a:graphicData uri="http://schemas.openxmlformats.org/drawingml/2006/table">
            <a:tbl>
              <a:tblPr/>
              <a:tblGrid>
                <a:gridCol w="1108080"/>
                <a:gridCol w="1109880"/>
                <a:gridCol w="1527120"/>
              </a:tblGrid>
              <a:tr h="612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ransform Skip Mo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D D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r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colum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rans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6840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mplementation (encoder and decoder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520" y="909720"/>
            <a:ext cx="8512200" cy="33112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63000"/>
          </a:bodyPr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applied on TU-level; TSM choice is signalled on TU basis; luma and chroma share the same TSM choic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ompatible with HM-4.x core transform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main transform functions (void partialButterflyN( )) are left unchanged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16 bit intermediate data representation is preserved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1D (row or column) transform skip requires a transpos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level of signal adjusted at quantis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uiQ' =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uiQ </a:t>
            </a:r>
            <a:r>
              <a:rPr b="0" lang="en-GB" sz="1400" spc="-1" strike="noStrike">
                <a:solidFill>
                  <a:srgbClr val="808080"/>
                </a:solidFill>
                <a:latin typeface="Symbol"/>
                <a:ea typeface="Symbol"/>
              </a:rPr>
              <a:t>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bscale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)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&gt;&gt; bshift,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caling factors derived from the table which depends on the row / column siz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hift depends on corresponding skipped transform internal shif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design has been verified using AHG7 tools for transform dynamic rang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8080"/>
              </a:solidFill>
              <a:latin typeface="Arial"/>
            </a:endParaRPr>
          </a:p>
          <a:p>
            <a:pPr marL="194760" indent="-1918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oefficients scanning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HM for TS0 and TS2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vertical for TS1 (transform on rows skipped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horizontal for TS2 (transform on columns skipped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17960" indent="-1576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32000" y="4011480"/>
          <a:ext cx="3240360" cy="42732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9080"/>
                <a:gridCol w="647640"/>
                <a:gridCol w="64800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itial implementation of TSM in HM-4.0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28720" y="909360"/>
            <a:ext cx="453564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SM in HM-4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ased on F077 / F77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upport for RQT / NSQT add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SQT bug fix added (#223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vailable from http://hevc.kw.bbc.co.uk/git/w/jctvc-hm/jctvc-hm-tsm.g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is set of resut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"TSM macro" commit + NSQT bug fix + NSQT 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2360" y="909720"/>
          <a:ext cx="3287880" cy="5257800"/>
        </p:xfrm>
        <a:graphic>
          <a:graphicData uri="http://schemas.openxmlformats.org/drawingml/2006/table">
            <a:tbl>
              <a:tblPr/>
              <a:tblGrid>
                <a:gridCol w="557280"/>
                <a:gridCol w="455760"/>
                <a:gridCol w="455400"/>
                <a:gridCol w="453960"/>
                <a:gridCol w="455760"/>
                <a:gridCol w="453960"/>
                <a:gridCol w="455760"/>
              </a:tblGrid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TSM on 4x4 blocks only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52360" y="861840"/>
            <a:ext cx="4969080" cy="50882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96000"/>
          </a:bodyPr>
          <a:p>
            <a:pPr marL="297000" indent="-292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results from JCTVC-G577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G577 proposes separating 4x4 blocks from larger blocks, for TS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under all conditions 4x4 blocks have TSM option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larger blocks use TSM options if a higher level parameter (SPS) allows i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297000" indent="-292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 marL="297000" indent="-292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presented results include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SM branch with adaptive scans supporting horizontal and vertical scans for non-square block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SM for 4x4 block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808080"/>
              </a:solidFill>
              <a:latin typeface="Arial"/>
            </a:endParaRPr>
          </a:p>
          <a:p>
            <a:pPr marL="297000" indent="-292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statistics for 4x4 blocks (all ra and ldB points averaged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2D: 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55 %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ver. skip: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23 %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hor. skip: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 %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36840" indent="-240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full skip: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 8 %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2360" y="909720"/>
          <a:ext cx="3287880" cy="5273640"/>
        </p:xfrm>
        <a:graphic>
          <a:graphicData uri="http://schemas.openxmlformats.org/drawingml/2006/table">
            <a:tbl>
              <a:tblPr/>
              <a:tblGrid>
                <a:gridCol w="557280"/>
                <a:gridCol w="455760"/>
                <a:gridCol w="455400"/>
                <a:gridCol w="453960"/>
                <a:gridCol w="455760"/>
                <a:gridCol w="453960"/>
                <a:gridCol w="455760"/>
              </a:tblGrid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,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,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,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TSM for non-default settings (TSM on all blocks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89440" y="909360"/>
            <a:ext cx="402912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SM on all motion compensated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chor and teste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SQT bug-fix (#223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xN inter CU partitioning "on"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QT set to level 1 ("off") for inter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2360" y="907920"/>
          <a:ext cx="3287880" cy="5257800"/>
        </p:xfrm>
        <a:graphic>
          <a:graphicData uri="http://schemas.openxmlformats.org/drawingml/2006/table">
            <a:tbl>
              <a:tblPr/>
              <a:tblGrid>
                <a:gridCol w="557280"/>
                <a:gridCol w="455760"/>
                <a:gridCol w="455400"/>
                <a:gridCol w="453960"/>
                <a:gridCol w="455760"/>
                <a:gridCol w="453960"/>
                <a:gridCol w="455760"/>
              </a:tblGrid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fc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TSM for non-default settings (TSM on 4x4 blocks only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89440" y="909360"/>
            <a:ext cx="402912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SM on 4x4 blocks on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chor and teste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SQT bug-fix (#223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xN inter CU partitioning "on"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QT set to level 1 ("off") for inter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2360" y="907920"/>
          <a:ext cx="3287880" cy="5257800"/>
        </p:xfrm>
        <a:graphic>
          <a:graphicData uri="http://schemas.openxmlformats.org/drawingml/2006/table">
            <a:tbl>
              <a:tblPr/>
              <a:tblGrid>
                <a:gridCol w="557280"/>
                <a:gridCol w="455760"/>
                <a:gridCol w="455400"/>
                <a:gridCol w="453960"/>
                <a:gridCol w="455760"/>
                <a:gridCol w="453960"/>
                <a:gridCol w="455760"/>
              </a:tblGrid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(no 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1080" y="909360"/>
            <a:ext cx="864072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97000"/>
          </a:bodyPr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ransform skipp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software is available - studied and improved during this cycl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under common conditions TSM gives up to -5.1 % gain on class F and up to -0.7 % for classes A to 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decoder lighter because of skipp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overall highly beneficial for different applications that use mix of camera captured content and graphic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382760" indent="-1954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one tool that handles both types of conten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review joint TSM proposal JCTVC-G1003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light package containing small set of additional tools to support TS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dopt integrated approach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we would like to thank our cross-checker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CTVC-G894 by Motorola Mobilit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CTVC-G908 by Qualcom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CTVC-G933 by Samsu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CTVC-G971 by Huawei / HiSilic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989640" indent="-196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43320" indent="-2430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</dc:creator>
  <dc:description/>
  <dc:language>en-US</dc:language>
  <cp:lastModifiedBy>martam</cp:lastModifiedBy>
  <dcterms:modified xsi:type="dcterms:W3CDTF">2011-11-26T08:47:08Z</dcterms:modified>
  <cp:revision>70</cp:revision>
  <dc:subject/>
  <dc:title>jctvc</dc:title>
</cp:coreProperties>
</file>