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902360" y="659772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G574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5CFB-75C4-45E6-B718-C50A3A615C1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52640" y="16020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G574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0360" y="2069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E12 Subtest 5: Deblocking filter using adaptive weighting factor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09280" y="2997360"/>
            <a:ext cx="6435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, Ann-Kathrin Seif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91040" y="6497640"/>
            <a:ext cx="501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7th JCT-VC meeting, Geneva 21.-30. November 2011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ubjective results for subjective esti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Object 8"/>
          <p:cNvGraphicFramePr/>
          <p:nvPr/>
        </p:nvGraphicFramePr>
        <p:xfrm>
          <a:off x="1563840" y="1376280"/>
          <a:ext cx="279072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3840" y="1376280"/>
                    <a:ext cx="27907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7"/>
          <p:cNvGraphicFramePr/>
          <p:nvPr/>
        </p:nvGraphicFramePr>
        <p:xfrm>
          <a:off x="4753080" y="1365120"/>
          <a:ext cx="2739960" cy="449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3080" y="1365120"/>
                    <a:ext cx="273996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10"/>
          <p:cNvSpPr/>
          <p:nvPr/>
        </p:nvSpPr>
        <p:spPr>
          <a:xfrm>
            <a:off x="4114440" y="3424320"/>
            <a:ext cx="91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1131840" y="5861160"/>
            <a:ext cx="365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HM4.0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356000" y="5861160"/>
            <a:ext cx="365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JCTVC-G574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979640" y="836640"/>
            <a:ext cx="518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eHorses, LD HE, QP42, Frame 195</a:t>
            </a:r>
            <a:r>
              <a:rPr b="1" lang="de-DE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6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of adaptive weighting factors in the deblocking filter to adapt to varying sign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of weighting factors by minimization of mean squared reconstru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and transmission of estimated weigh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compared to HM4.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jective estimation: 0.3% bit rate reduction i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jective estimation: 0.1% bit rate reduction in ave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creased subjectiv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proximately same 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Inclusion into next version of WD and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22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locking filter using adaptive weigh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imation of weigh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2251"/>
              </a:spcBef>
              <a:spcAft>
                <a:spcPts val="2251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Deblocking filter according to HM4.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blocking of a reconstructed sample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alue by which a sample value is modifie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generated by a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xe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=&gt; No adaptation to varying signal statistic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5789520" y="644400"/>
                <a:ext cx="428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894040" y="1447920"/>
                <a:ext cx="19508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669960" y="2325600"/>
                <a:ext cx="460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379440" y="4375080"/>
                <a:ext cx="460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locking filter using adaptive weighting facto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ptation to varying signal statistics by adaptive weighting factor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uminance: Individual weigh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ong and weak 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tance to block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rominance: No weigh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2843280" y="2060640"/>
                <a:ext cx="2392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AutoShape 8"/>
          <p:cNvSpPr/>
          <p:nvPr/>
        </p:nvSpPr>
        <p:spPr>
          <a:xfrm>
            <a:off x="4376880" y="4292640"/>
            <a:ext cx="287280" cy="649080"/>
          </a:xfrm>
          <a:custGeom>
            <a:avLst/>
            <a:gdLst>
              <a:gd name="textAreaLeft" fmla="*/ 0 w 287280"/>
              <a:gd name="textAreaRight" fmla="*/ 103680 w 287280"/>
              <a:gd name="textAreaTop" fmla="*/ 14760 h 649080"/>
              <a:gd name="textAreaBottom" fmla="*/ 634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0"/>
                  <a:pt x="10800" y="1599"/>
                </a:cubicBezTo>
                <a:lnTo>
                  <a:pt x="10800" y="9201"/>
                </a:lnTo>
                <a:cubicBezTo>
                  <a:pt x="10800" y="10001"/>
                  <a:pt x="16200" y="10800"/>
                  <a:pt x="21600" y="10800"/>
                </a:cubicBezTo>
                <a:cubicBezTo>
                  <a:pt x="16200" y="10800"/>
                  <a:pt x="10800" y="11600"/>
                  <a:pt x="10800" y="12399"/>
                </a:cubicBezTo>
                <a:lnTo>
                  <a:pt x="10800" y="20001"/>
                </a:lnTo>
                <a:cubicBezTo>
                  <a:pt x="10800" y="208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799160" y="4449600"/>
            <a:ext cx="324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otal: 5 weighting factors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1476360" y="1135080"/>
                <a:ext cx="393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imation of weighting fact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estimation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ation of mean squared error (MSE) for all s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ive estimation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ation of MSE for subjective important s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2195640" y="1631880"/>
                <a:ext cx="5040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p>
                                            <m:r>
                                              <m:t xml:space="preserve">'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α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Δ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Rectangle 11"/>
          <p:cNvSpPr/>
          <p:nvPr/>
        </p:nvSpPr>
        <p:spPr>
          <a:xfrm>
            <a:off x="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203040" y="4305240"/>
                <a:ext cx="8893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3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2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2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3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" name="Rectangle 15"/>
          <p:cNvSpPr/>
          <p:nvPr/>
        </p:nvSpPr>
        <p:spPr>
          <a:xfrm>
            <a:off x="0" y="517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4"/>
              <p:cNvSpPr txBox="1"/>
              <p:nvPr/>
            </p:nvSpPr>
            <p:spPr>
              <a:xfrm>
                <a:off x="203040" y="5002200"/>
                <a:ext cx="88934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3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2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p</m:t>
                              </m:r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1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2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q</m:t>
                              </m:r>
                              <m:sSub>
                                <m:e>
                                  <m:r>
                                    <m:t xml:space="preserve">3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Rectangle 17"/>
          <p:cNvSpPr/>
          <p:nvPr/>
        </p:nvSpPr>
        <p:spPr>
          <a:xfrm>
            <a:off x="0" y="52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6"/>
              <p:cNvSpPr txBox="1"/>
              <p:nvPr/>
            </p:nvSpPr>
            <p:spPr>
              <a:xfrm>
                <a:off x="196920" y="5743440"/>
                <a:ext cx="2143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Box 1"/>
          <p:cNvSpPr/>
          <p:nvPr/>
        </p:nvSpPr>
        <p:spPr>
          <a:xfrm>
            <a:off x="2484360" y="574056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=&gt; Considered as subjective important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ding of estimated weighting fact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ization with step size of 1/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ding of the 5 quantized weighting 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lice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arithmetic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bjective results for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bjective esti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1125360"/>
          <a:ext cx="7993080" cy="4743720"/>
        </p:xfrm>
        <a:graphic>
          <a:graphicData uri="http://schemas.openxmlformats.org/drawingml/2006/table">
            <a:tbl>
              <a:tblPr/>
              <a:tblGrid>
                <a:gridCol w="1684080"/>
                <a:gridCol w="1122480"/>
                <a:gridCol w="982800"/>
                <a:gridCol w="1122120"/>
                <a:gridCol w="982800"/>
                <a:gridCol w="1235160"/>
                <a:gridCol w="863640"/>
              </a:tblGrid>
              <a:tr h="96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Configuration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BD-Bit rate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Encoder run time ratio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ecoder run time ratio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on  QP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gh QP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on  QP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gh QP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on  QP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gh QP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4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3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3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5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3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1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bjective results for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ubjective esti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125360"/>
          <a:ext cx="7993080" cy="4743720"/>
        </p:xfrm>
        <a:graphic>
          <a:graphicData uri="http://schemas.openxmlformats.org/drawingml/2006/table">
            <a:tbl>
              <a:tblPr/>
              <a:tblGrid>
                <a:gridCol w="1684080"/>
                <a:gridCol w="1122480"/>
                <a:gridCol w="982800"/>
                <a:gridCol w="1122120"/>
                <a:gridCol w="982800"/>
                <a:gridCol w="1235160"/>
                <a:gridCol w="863640"/>
              </a:tblGrid>
              <a:tr h="966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Configuration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BD-Bit rate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Encoder run time ratio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Decoder run time ratio [%]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on  QP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gh QP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on  QP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gh QP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on  QP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gh QPs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3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3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9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A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3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2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6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B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5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HE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6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91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DP LC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0.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.5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ubjective results for subjective esti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aphicFrame>
        <p:nvGraphicFramePr>
          <p:cNvPr id="121" name="Object 8"/>
          <p:cNvGraphicFramePr/>
          <p:nvPr/>
        </p:nvGraphicFramePr>
        <p:xfrm>
          <a:off x="4591080" y="1413000"/>
          <a:ext cx="4013280" cy="41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1080" y="1413000"/>
                    <a:ext cx="401328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1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aphicFrame>
        <p:nvGraphicFramePr>
          <p:cNvPr id="124" name="Object 10"/>
          <p:cNvGraphicFramePr/>
          <p:nvPr/>
        </p:nvGraphicFramePr>
        <p:xfrm>
          <a:off x="419040" y="1413000"/>
          <a:ext cx="3956040" cy="41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1413000"/>
                    <a:ext cx="395604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12"/>
          <p:cNvSpPr/>
          <p:nvPr/>
        </p:nvSpPr>
        <p:spPr>
          <a:xfrm>
            <a:off x="611280" y="5570640"/>
            <a:ext cx="365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HM4.0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822920" y="5570640"/>
            <a:ext cx="365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JCTVC-G574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2195640" y="836640"/>
            <a:ext cx="4559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tus, LD HE, QP42, Frame 50</a:t>
            </a:r>
            <a:r>
              <a:rPr b="1" lang="de-DE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Matthias Narroschke</cp:lastModifiedBy>
  <dcterms:modified xsi:type="dcterms:W3CDTF">2011-11-22T08:44:43Z</dcterms:modified>
  <cp:revision>1711</cp:revision>
  <dc:subject/>
  <dc:title>Deblocking filter using adaptive weighting factors</dc:title>
</cp:coreProperties>
</file>