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902360" y="659772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G570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41E9-B3B9-4483-B5F6-B5CD99DF447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03680" y="16020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G570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7640" y="206964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Byte alignment overhead reduction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85720" y="3692520"/>
            <a:ext cx="39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emih Ese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101840" y="6497640"/>
            <a:ext cx="499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7th JCT-VC meeting, Geneva 21.-30. December 2011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imulation results for low-bitrate scenari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M4.0-dev-misc R14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00Byte s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poi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P 31, 34, 37 and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06760" y="620640"/>
            <a:ext cx="405288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uction of byte alignment padding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w coding method: Byte aligned variable length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posed to be adopted for next version of 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itrate comparison with exp-golomb co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96960" y="3645000"/>
          <a:ext cx="6359760" cy="2763720"/>
        </p:xfrm>
        <a:graphic>
          <a:graphicData uri="http://schemas.openxmlformats.org/drawingml/2006/table">
            <a:tbl>
              <a:tblPr/>
              <a:tblGrid>
                <a:gridCol w="1050840"/>
                <a:gridCol w="2365560"/>
                <a:gridCol w="1423800"/>
                <a:gridCol w="151956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verage code length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it string form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Range of codeNum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Largest codewor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mallest codewor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7640"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5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0 0 0 0 0 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0..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40"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6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0 0 0 0 0 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2..3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40"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7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2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0 0 0 0 0 0 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2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4..7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40"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8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2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3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0 0 0 0 0 0 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2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3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8..1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40"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9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2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3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4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0 0 0 0 0 0 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2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3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4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16..3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0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…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…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32..63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1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64..12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3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126..25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4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256..51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619280" y="692280"/>
          <a:ext cx="6408720" cy="2495520"/>
        </p:xfrm>
        <a:graphic>
          <a:graphicData uri="http://schemas.openxmlformats.org/drawingml/2006/table">
            <a:tbl>
              <a:tblPr/>
              <a:tblGrid>
                <a:gridCol w="2016360"/>
                <a:gridCol w="2376360"/>
                <a:gridCol w="2016000"/>
              </a:tblGrid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Code length + 3.5 average byte alignment bits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it string form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Range of codeNum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4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6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1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1..2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8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0 1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3..6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0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0 0 1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2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7..14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2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0 0 0 1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3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2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15..30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4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 0 0 0 0 1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4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3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2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 x</a:t>
                      </a:r>
                      <a:r>
                        <a:rPr b="1" lang="en-GB" sz="1100" spc="-1" strike="noStrike" baseline="-30000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0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31..62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6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…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63..126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18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…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127..254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20.5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Courier New"/>
                          <a:ea typeface="Malgun Gothic"/>
                        </a:rPr>
                        <a:t>…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255..510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4076640" y="3187800"/>
            <a:ext cx="130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Exp-Golomb code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2760" y="6486480"/>
            <a:ext cx="243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Byte-aligned variable length code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ground and problem about byte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w coding tool: Byte aligned variable length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Background: Byte alignment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7240" y="764640"/>
            <a:ext cx="8844120" cy="54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yte alignment is used to facilitate EPB inse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d mainly before CABAC code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ch byte alignment operation causes 3.5 bits expansion on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roblem: Bitrate expansion due to byte alignment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03280" y="627120"/>
          <a:ext cx="5761080" cy="5079960"/>
        </p:xfrm>
        <a:graphic>
          <a:graphicData uri="http://schemas.openxmlformats.org/drawingml/2006/table">
            <a:tbl>
              <a:tblPr/>
              <a:tblGrid>
                <a:gridCol w="4905360"/>
                <a:gridCol w="855720"/>
              </a:tblGrid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rbsp( 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sample_adaptive_offset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adaptive_loop_filter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aps_sample_adaptive_offset_flag || aps_adaptive_loop_filter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use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aps_cabac_use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nit_idc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init_qp_minus26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sample_adaptive_offset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ao_data_byte_count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2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() 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ao_param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adaptive_loop_filter_flag)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adaptive_loop_filter_flag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lf_data_byte_count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8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 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lf_param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rbsp_trailing_bits( 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684360" y="3284640"/>
            <a:ext cx="574560" cy="203040"/>
          </a:xfrm>
          <a:prstGeom prst="rightArrow">
            <a:avLst>
              <a:gd name="adj1" fmla="val 50000"/>
              <a:gd name="adj2" fmla="val 7074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3873600"/>
            <a:ext cx="574560" cy="203040"/>
          </a:xfrm>
          <a:prstGeom prst="rightArrow">
            <a:avLst>
              <a:gd name="adj1" fmla="val 50000"/>
              <a:gd name="adj2" fmla="val 7074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4691160"/>
            <a:ext cx="574560" cy="203040"/>
          </a:xfrm>
          <a:prstGeom prst="rightArrow">
            <a:avLst>
              <a:gd name="adj1" fmla="val 50000"/>
              <a:gd name="adj2" fmla="val 7074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Solution: Byte aligned variable length coding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new variable length coding method: The codeword length increases in increments of 8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nce achieves byte alignment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ed for explicit byte alignment is elimin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ca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b(v) (for unsigned 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b(v) (for signed 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037120"/>
            <a:ext cx="287280" cy="25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36000" bIns="36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4720" y="5037120"/>
            <a:ext cx="287280" cy="25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36000" bIns="36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5037120"/>
            <a:ext cx="287280" cy="25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36000" bIns="36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5037120"/>
            <a:ext cx="287280" cy="25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36000" bIns="36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5037120"/>
            <a:ext cx="287640" cy="25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36000" bIns="36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5037120"/>
            <a:ext cx="287280" cy="25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36000" bIns="36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5037120"/>
            <a:ext cx="287280" cy="25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36000" bIns="36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5037120"/>
            <a:ext cx="287640" cy="25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36000" bIns="36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3860640"/>
            <a:ext cx="237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Example, Coding of unsigned integer: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5600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916360" y="5375160"/>
            <a:ext cx="0" cy="503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6016680"/>
            <a:ext cx="9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Termination bit = 0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12000" y="5035680"/>
            <a:ext cx="2663640" cy="1346400"/>
            <a:chOff x="6012000" y="5035680"/>
            <a:chExt cx="2663640" cy="1346400"/>
          </a:xfrm>
        </p:grpSpPr>
        <p:sp>
          <p:nvSpPr>
            <p:cNvPr id="110" name=""/>
            <p:cNvSpPr/>
            <p:nvPr/>
          </p:nvSpPr>
          <p:spPr>
            <a:xfrm>
              <a:off x="601200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0072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88000" y="5035680"/>
              <a:ext cx="28764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7564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6436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344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4072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800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172360" y="5373360"/>
              <a:ext cx="0" cy="50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38920" y="6016680"/>
              <a:ext cx="936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Termination bit = 1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421080" y="5035680"/>
            <a:ext cx="2663640" cy="1346400"/>
            <a:chOff x="3421080" y="5035680"/>
            <a:chExt cx="2663640" cy="1346400"/>
          </a:xfrm>
        </p:grpSpPr>
        <p:sp>
          <p:nvSpPr>
            <p:cNvPr id="121" name=""/>
            <p:cNvSpPr/>
            <p:nvPr/>
          </p:nvSpPr>
          <p:spPr>
            <a:xfrm>
              <a:off x="342108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1016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9744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8472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3440" y="5035680"/>
              <a:ext cx="28764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6252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4980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37080" y="5035680"/>
              <a:ext cx="28728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36000" bIns="36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580000" y="5373360"/>
              <a:ext cx="0" cy="50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8360" y="6016680"/>
              <a:ext cx="936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Termination bit = 0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rot="16200000">
            <a:off x="1197000" y="4233600"/>
            <a:ext cx="268200" cy="1150920"/>
          </a:xfrm>
          <a:custGeom>
            <a:avLst/>
            <a:gdLst>
              <a:gd name="textAreaLeft" fmla="*/ 0 w 268200"/>
              <a:gd name="textAreaRight" fmla="*/ 96840 w 268200"/>
              <a:gd name="textAreaTop" fmla="*/ 41760 h 1150920"/>
              <a:gd name="textAreaBottom" fmla="*/ 110916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59"/>
                  <a:pt x="10800" y="2517"/>
                </a:cubicBezTo>
                <a:lnTo>
                  <a:pt x="10800" y="9013"/>
                </a:lnTo>
                <a:cubicBezTo>
                  <a:pt x="10800" y="10272"/>
                  <a:pt x="16200" y="11530"/>
                  <a:pt x="21600" y="11530"/>
                </a:cubicBezTo>
                <a:cubicBezTo>
                  <a:pt x="16200" y="11530"/>
                  <a:pt x="10800" y="12789"/>
                  <a:pt x="10800" y="14047"/>
                </a:cubicBezTo>
                <a:lnTo>
                  <a:pt x="10800" y="19083"/>
                </a:lnTo>
                <a:cubicBezTo>
                  <a:pt x="10800" y="2034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309920"/>
            <a:ext cx="194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Bits belonging to previous syntax element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Usage of ub(v) in APS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79640" y="627120"/>
          <a:ext cx="5761080" cy="5416560"/>
        </p:xfrm>
        <a:graphic>
          <a:graphicData uri="http://schemas.openxmlformats.org/drawingml/2006/table">
            <a:tbl>
              <a:tblPr/>
              <a:tblGrid>
                <a:gridCol w="4905360"/>
                <a:gridCol w="855720"/>
              </a:tblGrid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rbsp( 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sample_adaptive_offset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adaptive_loop_filter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aps_sample_adaptive_offset_flag || aps_adaptive_loop_filter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use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aps_cabac_use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nit_idc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init_qp_minus26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sample_adaptive_offset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ao_data_byte_count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b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2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() 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ao_param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adaptive_loop_filter_flag)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adaptive_loop_filter_flag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lf_data_byte_count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b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8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 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lf_param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rbsp_trailing_bits( 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rot="1549800">
            <a:off x="1331640" y="2717640"/>
            <a:ext cx="1071360" cy="424080"/>
          </a:xfrm>
          <a:prstGeom prst="rightArrow">
            <a:avLst>
              <a:gd name="adj1" fmla="val 50000"/>
              <a:gd name="adj2" fmla="val 6315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6360" y="2205000"/>
            <a:ext cx="1655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Byte alignment achieved automatically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549800">
            <a:off x="1307880" y="4157280"/>
            <a:ext cx="1071360" cy="423720"/>
          </a:xfrm>
          <a:prstGeom prst="rightArrow">
            <a:avLst>
              <a:gd name="adj1" fmla="val 50000"/>
              <a:gd name="adj2" fmla="val 6321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3573360"/>
            <a:ext cx="1655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Byte alignment achieved automatically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50160" y="3357720"/>
            <a:ext cx="358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941720"/>
            <a:ext cx="358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549800">
            <a:off x="1331640" y="2717640"/>
            <a:ext cx="1071360" cy="424080"/>
          </a:xfrm>
          <a:prstGeom prst="rightArrow">
            <a:avLst>
              <a:gd name="adj1" fmla="val 50000"/>
              <a:gd name="adj2" fmla="val 63158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549800">
            <a:off x="1307880" y="4157280"/>
            <a:ext cx="1071360" cy="423720"/>
          </a:xfrm>
          <a:prstGeom prst="rightArrow">
            <a:avLst>
              <a:gd name="adj1" fmla="val 50000"/>
              <a:gd name="adj2" fmla="val 63212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36360" y="2205000"/>
            <a:ext cx="1655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66"/>
                </a:solidFill>
                <a:latin typeface="Arial"/>
              </a:rPr>
              <a:t>Byte alignment achieved automatically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36360" y="3573360"/>
            <a:ext cx="1655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66"/>
                </a:solidFill>
                <a:latin typeface="Arial"/>
              </a:rPr>
              <a:t>Byte alignment achieved automatically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Usage of ub(v) in APS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79640" y="627120"/>
          <a:ext cx="5761080" cy="5079960"/>
        </p:xfrm>
        <a:graphic>
          <a:graphicData uri="http://schemas.openxmlformats.org/drawingml/2006/table">
            <a:tbl>
              <a:tblPr/>
              <a:tblGrid>
                <a:gridCol w="4905360"/>
                <a:gridCol w="855720"/>
              </a:tblGrid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rbsp( 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sample_adaptive_offset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adaptive_loop_filter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aps_sample_adaptive_offset_flag || aps_adaptive_loop_filter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use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aps_cabac_use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nit_idc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init_qp_minus26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sample_adaptive_offset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ao_data_byte_count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b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() 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ao_param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adaptive_loop_filter_flag)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adaptive_loop_filter_flag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lf_data_byte_count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b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 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lf_param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rbsp_trailing_bits( 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114640" y="5877000"/>
            <a:ext cx="577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9966"/>
                </a:solidFill>
                <a:latin typeface="Arial"/>
              </a:rPr>
              <a:t>Explicit byte alignment is not required anymore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35240" y="4797360"/>
            <a:ext cx="1008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63600" y="3375000"/>
            <a:ext cx="100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Usage of ib(v) in Slice Head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33680" y="654120"/>
          <a:ext cx="5616360" cy="5619600"/>
        </p:xfrm>
        <a:graphic>
          <a:graphicData uri="http://schemas.openxmlformats.org/drawingml/2006/table">
            <a:tbl>
              <a:tblPr/>
              <a:tblGrid>
                <a:gridCol w="4738680"/>
                <a:gridCol w="877680"/>
              </a:tblGrid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lice_header( 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lightweight_slice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    …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…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entropy_coding_mode_flag  &amp;&amp;  slice_type  !=  I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cabac_init_idc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first_slice_in_pic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first_slice_in_pic_flag == 0 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lice_address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!lightweight_slice_flag 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lice_qp_delta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deblocking_filter_control_present_flag 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disable_deblocking_filter_idc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disable_deblocking_filter_idc  !=  1 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lice_alpha_c0_offset_div2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lice_beta_offset_div2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slice_type = = B 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collocated_from_l0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!lightweight_slice_flag 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lice_qp_delta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b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(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adaptive_loop_filter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_enabled_flag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&amp;&amp; aps_adaptive_loop_filter_flag 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lf_cu_control_param( 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(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1836720" y="2637000"/>
            <a:ext cx="1008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5080" y="2637000"/>
            <a:ext cx="358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8301000">
            <a:off x="6659280" y="4365000"/>
            <a:ext cx="792000" cy="423720"/>
          </a:xfrm>
          <a:prstGeom prst="rightArrow">
            <a:avLst>
              <a:gd name="adj1" fmla="val 50000"/>
              <a:gd name="adj2" fmla="val 46729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8720" y="3745080"/>
            <a:ext cx="165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66"/>
                </a:solidFill>
                <a:latin typeface="Arial"/>
              </a:rPr>
              <a:t>Byte aligned variable length codes for signed integer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imulation 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056120" cy="5904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M4.0-dev-misc R14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500Byte sl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Thomas Wedi</dc:creator>
  <dc:description/>
  <dc:language>en-US</dc:language>
  <cp:lastModifiedBy>semih.esenlik</cp:lastModifiedBy>
  <dcterms:modified xsi:type="dcterms:W3CDTF">2011-11-23T15:10:28Z</dcterms:modified>
  <cp:revision>2004</cp:revision>
  <dc:subject/>
  <dc:title>Template</dc:title>
</cp:coreProperties>
</file>