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02360" y="6597720"/>
            <a:ext cx="10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G566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105A-ECCA-4404-83A4-70EDEB0B06B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03680" y="16020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G566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7640" y="206964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Syntax refinements for ALF and SAO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85720" y="3692520"/>
            <a:ext cx="39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101840" y="6497640"/>
            <a:ext cx="499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7th JCT-VC meeting, Geneva 21.-30. December 2011</a:t>
            </a:r>
            <a:endParaRPr b="1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ction in APS NAL unit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f both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  <a:ea typeface="PMingLiU"/>
              </a:rPr>
              <a:t>sample_adaptive_offset_fla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PMingLiU"/>
              </a:rPr>
              <a:t> and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  <a:ea typeface="PMingLiU"/>
              </a:rPr>
              <a:t>adaptive_loop_filter_fla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PMingLiU"/>
              </a:rPr>
              <a:t> are off, then no aps_id and APS NAL unit need to be trans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ction in cloc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state of ALF and SAO are now signalled in slice header. If SAO and ALF are both off, there is no need for fetching and parsing an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ction of decoding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f SAO and ALF are known to be off for a slice, the decoded frame can be outputted without waiting for the corresponding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imulation results for Part 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M4.0-dev-misc R14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500Byte s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601560"/>
            <a:ext cx="40212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art 2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nging the coding method of </a:t>
            </a:r>
            <a:br>
              <a:rPr sz="2400"/>
            </a:b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alf_cu_control_flag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roblem Statement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620640"/>
          <a:ext cx="5904000" cy="5737320"/>
        </p:xfrm>
        <a:graphic>
          <a:graphicData uri="http://schemas.openxmlformats.org/drawingml/2006/table">
            <a:tbl>
              <a:tblPr/>
              <a:tblGrid>
                <a:gridCol w="5202360"/>
                <a:gridCol w="701640"/>
              </a:tblGrid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lice_header( 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ightweight_slice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!lightweight_slice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lice_type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ic_parameter_set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 sample_adaptive_offset_enabled_flag || adaptive_loop_filter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adaptive_loop_filter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 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daptive_loop_filter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sample_adaptive_offset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 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sample_adaptive_offset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sample_adaptive_offset_flag || adaptive_loop_filter_flag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ps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rame_num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…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entropy_coding_mode_flag  &amp;&amp;  slice_type  !=  I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abac_init_idc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irst_slice_in_pic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      </a:t>
                      </a: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.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      </a:t>
                      </a: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.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 adaptive_loop_filter_enabled_flag &amp;&amp;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daptive_loop_filter_flag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lf_cu_control_param( 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8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 rot="21407400">
            <a:off x="2298600" y="5319720"/>
            <a:ext cx="4465800" cy="281160"/>
          </a:xfrm>
          <a:prstGeom prst="leftArrow">
            <a:avLst>
              <a:gd name="adj1" fmla="val 44870"/>
              <a:gd name="adj2" fmla="val 35392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5440" y="4950000"/>
            <a:ext cx="18702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alf_cu_control_flag 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is signalled inside alf_cu_control_param()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blem state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lf_cu_control_fla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 used to signal if CU-based ALF adaptation is used or not. However it is signalled inside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lf_cu_control_param(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 CU-based ALF adaptation is off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Gulim"/>
              </a:rPr>
              <a:t>alf_cu_control_param( 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Gulim"/>
              </a:rPr>
              <a:t>consists of a single bit. However CABAC termination bits and byte alignment padding bits need to be appended at the end, increasing the bi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555480"/>
          <a:ext cx="6840360" cy="5954760"/>
        </p:xfrm>
        <a:graphic>
          <a:graphicData uri="http://schemas.openxmlformats.org/drawingml/2006/table">
            <a:tbl>
              <a:tblPr/>
              <a:tblGrid>
                <a:gridCol w="6027480"/>
                <a:gridCol w="812880"/>
              </a:tblGrid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lice_header( 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ightweight_slice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!lightweight_slice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lice_type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ic_parameter_set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 sample_adaptive_offset_enabled_flag || adaptive_loop_filter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adaptive_loop_filter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 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daptive_loop_filter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sample_adaptive_offset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 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sample_adaptive_offset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sample_adaptive_offset_flag || adaptive_loop_filter_flag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ps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rame_num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…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entropy_coding_mode_flag  &amp;&amp;  slice_type  !=  I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abac_init_idc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irst_slice_in_pic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      </a:t>
                      </a: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.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 adaptive_loop_filter_enabled_flag &amp;&amp;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daptive_loop_filter_flag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de-DE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Gulim"/>
                        </a:rPr>
                        <a:t>alf_cu_control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 adaptive_loop_filter_enabled_flag &amp;&amp;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daptive_loop_filter_flag &amp;&amp; </a:t>
                      </a: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lf_cu_control_flag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lf_cu_control_param( 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 rot="20712600">
            <a:off x="5365440" y="4667400"/>
            <a:ext cx="2016000" cy="280800"/>
          </a:xfrm>
          <a:prstGeom prst="leftArrow">
            <a:avLst>
              <a:gd name="adj1" fmla="val 44870"/>
              <a:gd name="adj2" fmla="val 159976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59560" y="4289400"/>
            <a:ext cx="16495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6600"/>
                </a:solidFill>
                <a:latin typeface="Arial"/>
                <a:ea typeface="Gulim"/>
              </a:rPr>
              <a:t>alf_cu_control_flag is taken out of CABAC codeword and signalled before.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Solution, continud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332000" y="1477800"/>
          <a:ext cx="5072040" cy="2060640"/>
        </p:xfrm>
        <a:graphic>
          <a:graphicData uri="http://schemas.openxmlformats.org/drawingml/2006/table">
            <a:tbl>
              <a:tblPr/>
              <a:tblGrid>
                <a:gridCol w="4225680"/>
                <a:gridCol w="846360"/>
              </a:tblGrid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f_cu_control_param(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Descriptor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adaptive_loop_filter_flag 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f_cu_control_flag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u(1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alf_cu_control_flag ) {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f_cu_control_max_depth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f_length_cu_control_info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or( i = 0; i &lt; NumAlfCuFlag; i++ 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f_cu_flag[ i ]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u(1) | ae(v)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1" lang="en-US" sz="10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547640" y="1960560"/>
            <a:ext cx="1224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1960560"/>
            <a:ext cx="377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4076640"/>
            <a:ext cx="884412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y cod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Gulim"/>
              </a:rPr>
              <a:t>alf_cu_control_flag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Gulim"/>
              </a:rPr>
              <a:t>before the CABAC codeword, termination and padding bits can be saved.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Gulim"/>
              </a:rPr>
              <a:t>CABAC engine is used less often.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imulation results for Part 1 and Part 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M4.0-dev-misc R142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00Byte sl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3280" y="622440"/>
            <a:ext cx="4105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iv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t 1: Introduction of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daptive_loop_filter_flag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ample_adaptive_offset_flag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slice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nefits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sing robustness and slice level local adaptation for SAO and 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t 2: Changing the coding method of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lf_cu_control_flag</a:t>
            </a: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nef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ding gain via elimination of CABAC termination and byte alignment padding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posed to be adopted for next version of 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wo modifications in the slice header are propo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t 1: Introduce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adaptive_loop_filter_fla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sample_adaptive_offset_fla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slic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Change the coding method for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Gulim"/>
              </a:rPr>
              <a:t>alf_cu_control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art 1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360" y="3886200"/>
            <a:ext cx="4392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o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adaptive_loop_filter_flag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sample_adaptive_offset_flag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slic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art 1: APS structure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8360" y="627120"/>
          <a:ext cx="5761080" cy="5079960"/>
        </p:xfrm>
        <a:graphic>
          <a:graphicData uri="http://schemas.openxmlformats.org/drawingml/2006/table">
            <a:tbl>
              <a:tblPr/>
              <a:tblGrid>
                <a:gridCol w="4905360"/>
                <a:gridCol w="855720"/>
              </a:tblGrid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rbsp( 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33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ff3300"/>
                          </a:solidFill>
                          <a:latin typeface="Times New Roman"/>
                          <a:ea typeface="Malgun Gothic"/>
                        </a:rPr>
                        <a:t>aps_sample_adaptive_offset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33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ff3300"/>
                          </a:solidFill>
                          <a:latin typeface="Times New Roman"/>
                          <a:ea typeface="Malgun Gothic"/>
                        </a:rPr>
                        <a:t>aps_adaptive_loop_filter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aps_sample_adaptive_offset_flag || aps_adaptive_loop_filter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use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 aps_cabac_use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nit_idc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ps_cabac_init_qp_minus26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sample_adaptive_offset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ao_data_byte_count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2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 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sao_param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adaptive_loop_filter_flag) 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if(aps_adaptive_loop_filter_flag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lf_data_byte_count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8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byte_align 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lf_param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rbsp_trailing_bits( 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760"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art 1: Problem Statement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620640"/>
          <a:ext cx="5904000" cy="4649760"/>
        </p:xfrm>
        <a:graphic>
          <a:graphicData uri="http://schemas.openxmlformats.org/drawingml/2006/table">
            <a:tbl>
              <a:tblPr/>
              <a:tblGrid>
                <a:gridCol w="5202360"/>
                <a:gridCol w="701640"/>
              </a:tblGrid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lice_header( 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ightweight_slice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!lightweight_slice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lice_type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ic_parameter_set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 sample_adaptive_offset_enabled_flag || adaptive_loop_filter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ps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rame_num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…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entropy_coding_mode_flag  &amp;&amp;  slice_type  !=  I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abac_init_idc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irst_slice_in_pic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      </a:t>
                      </a: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.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      </a:t>
                      </a: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.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 adaptive_loop_filter_enabled_flag &amp;&amp; </a:t>
                      </a:r>
                      <a:r>
                        <a:rPr b="0" lang="en-US" sz="1100" spc="-1" strike="noStrike">
                          <a:solidFill>
                            <a:srgbClr val="ff3300"/>
                          </a:solidFill>
                          <a:latin typeface="Times New Roman"/>
                          <a:ea typeface="PMingLiU"/>
                        </a:rPr>
                        <a:t>aps_adaptive_loop_filter_flag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lf_cu_control_param( 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8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 rot="20712600">
            <a:off x="4711320" y="3551400"/>
            <a:ext cx="2016000" cy="280800"/>
          </a:xfrm>
          <a:prstGeom prst="leftArrow">
            <a:avLst>
              <a:gd name="adj1" fmla="val 44870"/>
              <a:gd name="adj2" fmla="val 15997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5440" y="3357720"/>
            <a:ext cx="129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Signalled in APS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00" y="5445000"/>
            <a:ext cx="8844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ff3300"/>
                </a:solidFill>
                <a:latin typeface="Arial"/>
              </a:rPr>
              <a:t>Parsing dependency between slice header and APS.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art 1: Solution</a:t>
            </a:r>
            <a:endParaRPr b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620640"/>
          <a:ext cx="5904000" cy="5737320"/>
        </p:xfrm>
        <a:graphic>
          <a:graphicData uri="http://schemas.openxmlformats.org/drawingml/2006/table">
            <a:tbl>
              <a:tblPr/>
              <a:tblGrid>
                <a:gridCol w="5202360"/>
                <a:gridCol w="701640"/>
              </a:tblGrid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lice_header( 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ightweight_slice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!lightweight_slice_flag 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lice_type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ic_parameter_set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 sample_adaptive_offset_enabled_flag || adaptive_loop_filter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adaptive_loop_filter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 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daptive_loop_filter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sample_adaptive_offset_enabled_flag 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 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sample_adaptive_offset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sample_adaptive_offset_flag || adaptive_loop_filter_flag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ps_id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rame_num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…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f( entropy_coding_mode_flag  &amp;&amp;  slice_type  !=  I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abac_init_idc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irst_slice_in_pic_flag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      </a:t>
                      </a: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.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      </a:t>
                      </a:r>
                      <a:r>
                        <a:rPr b="0" lang="de-DE" sz="1100" spc="-1" strike="noStrike">
                          <a:solidFill>
                            <a:srgbClr val="000066"/>
                          </a:solidFill>
                          <a:latin typeface="Arial"/>
                          <a:ea typeface="Gulim"/>
                        </a:rPr>
                        <a:t>...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if( adaptive_loop_filter_enabled_flag &amp;&amp;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daptive_loop_filter_flag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) {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alf_cu_control_param( 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byte_align()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8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     </a:t>
                      </a: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PMingLiU"/>
                        </a:rPr>
                        <a:t>}</a:t>
                      </a:r>
                      <a:endParaRPr b="1" lang="en-US" sz="11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25200" bIns="25200" anchor="t">
                      <a:noAutofit/>
                    </a:bodyPr>
                    <a:p>
                      <a:pPr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rot="20712600">
            <a:off x="5003280" y="1862280"/>
            <a:ext cx="2016360" cy="280800"/>
          </a:xfrm>
          <a:prstGeom prst="leftArrow">
            <a:avLst>
              <a:gd name="adj1" fmla="val 44870"/>
              <a:gd name="adj2" fmla="val 160005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7760" y="1484280"/>
            <a:ext cx="143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6600"/>
                </a:solidFill>
                <a:latin typeface="Arial"/>
              </a:rPr>
              <a:t>Introduce ALF flag in slice header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11800">
            <a:off x="5003280" y="2492280"/>
            <a:ext cx="1944720" cy="281160"/>
          </a:xfrm>
          <a:prstGeom prst="leftArrow">
            <a:avLst>
              <a:gd name="adj1" fmla="val 44870"/>
              <a:gd name="adj2" fmla="val 15412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7760" y="2343240"/>
            <a:ext cx="143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6600"/>
                </a:solidFill>
                <a:latin typeface="Arial"/>
              </a:rPr>
              <a:t>Introduce SAO flag in slice header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712600">
            <a:off x="4500360" y="4667400"/>
            <a:ext cx="2016000" cy="280800"/>
          </a:xfrm>
          <a:prstGeom prst="leftArrow">
            <a:avLst>
              <a:gd name="adj1" fmla="val 44870"/>
              <a:gd name="adj2" fmla="val 159976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94480" y="4289400"/>
            <a:ext cx="164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6600"/>
                </a:solidFill>
                <a:latin typeface="Arial"/>
              </a:rPr>
              <a:t>Parsing dependency is resolved</a:t>
            </a: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6364440"/>
            <a:ext cx="44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Arial"/>
              </a:rPr>
              <a:t>APS syntax structure is not changed</a:t>
            </a:r>
            <a:endParaRPr b="1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rsing robustness and parallel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sing 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sing dependency of slice header on APS is eliminated. A loss in APS only hinders SAO and ALF operations and not cause catastrophic parsing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allel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parsing of slice data need not be delayed till the APS is par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2347920"/>
            <a:ext cx="295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P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s_adaptive_loop_filter_flag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s_sample_adaptive_offset_flag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701720"/>
            <a:ext cx="252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lice Header 1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daptive_loop_filter_flag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00"/>
                </a:solidFill>
                <a:latin typeface="Arial"/>
              </a:rPr>
              <a:t>sample_adaptive_offset_flag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2637000"/>
            <a:ext cx="252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lice Header 2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daptive_loop_filter_flag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00"/>
                </a:solidFill>
                <a:latin typeface="Arial"/>
              </a:rPr>
              <a:t>sample_adaptive_offset_flag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3573360"/>
            <a:ext cx="252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lice Header 3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daptive_loop_filter_flag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00"/>
                </a:solidFill>
                <a:latin typeface="Arial"/>
              </a:rPr>
              <a:t>sample_adaptive_offset_flag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131640" y="2779560"/>
            <a:ext cx="1584360" cy="1224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131640" y="2712960"/>
            <a:ext cx="1584360" cy="354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131640" y="2131920"/>
            <a:ext cx="1584360" cy="5144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67720" cy="13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416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daptive_loop_filter_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over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s_adaptive_loop_filter_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sample_adaptive_offset_fla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over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s_sample_adaptive_offset_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beneficial sub-optimal filter design is used in enco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2240" y="765000"/>
            <a:ext cx="884376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lice level local adaptation for SAO and ALF</a:t>
            </a:r>
            <a:endParaRPr b="1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1628640"/>
            <a:ext cx="431640" cy="2737080"/>
          </a:xfrm>
          <a:custGeom>
            <a:avLst/>
            <a:gdLst>
              <a:gd name="textAreaLeft" fmla="*/ 0 w 431640"/>
              <a:gd name="textAreaRight" fmla="*/ 155880 w 43164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2852640"/>
            <a:ext cx="143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s of a frame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of filter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495440"/>
            <a:ext cx="252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PS 1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F parameters 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O parameters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0360" y="3295800"/>
            <a:ext cx="2735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daptive_loop_filter_flag = 1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00"/>
                </a:solidFill>
                <a:latin typeface="Arial"/>
              </a:rPr>
              <a:t>sample_adaptive_offset_flag = 1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3295800"/>
            <a:ext cx="2808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adaptive_loop_filter_flag = 1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600"/>
                </a:solidFill>
                <a:latin typeface="Arial"/>
              </a:rPr>
              <a:t>sample_adaptive_offset_flag = 0</a:t>
            </a:r>
            <a:endParaRPr b="1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700000" y="2205000"/>
            <a:ext cx="3095640" cy="1036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56000" y="2205000"/>
            <a:ext cx="0" cy="1036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941720"/>
            <a:ext cx="866772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Using ALF parameters in APS reduces MSE in Frame 2 whereas SAO parameters increase MSE.</a:t>
            </a:r>
            <a:endParaRPr b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semih.esenlik</cp:lastModifiedBy>
  <dcterms:modified xsi:type="dcterms:W3CDTF">2011-11-25T07:15:00Z</dcterms:modified>
  <cp:revision>2025</cp:revision>
  <dc:subject/>
  <dc:title>Template</dc:title>
</cp:coreProperties>
</file>