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5F88-2433-4823-B83F-BBC60EF02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5F5B-BE88-471F-98CF-C9ABCAC7E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C758-42B8-40B1-84FD-7BA222157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5215-9EE8-476B-9641-03A59CA62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038F-4EC0-4D51-B518-1C2142BE51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1A87-2E8A-4EBE-8E59-9C0A4C63C0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0D8F-9D62-4263-8796-EF8B87021D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553F-474B-46B2-80B9-E78FBCA2A3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6EEA-1AD5-4022-BB58-BFA1DAD6D0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CF32-9118-4C08-8B35-F2CC994B86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01A3-128E-4C13-BD48-BDF3E7D3BC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E46A-F10D-4C60-A36B-67C496AA4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8FE3-2DA2-41DB-BF23-9DB223607A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CD71-BEA4-45F0-9062-A5F0345B01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C715-F4F1-4DF6-97AD-8094827065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BC68-98D3-42FC-BA8A-0D8A790F5A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7928-D7EE-4E22-B918-8C99C6DC27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AB5-02CE-472B-8617-E5D434062F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249-63C2-4BD7-B52F-23E925744C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FDD-D5D5-4FEE-9954-88C63DDF1D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623-6AD5-40A5-97E9-91D4DECCCA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D43-31D3-4507-8EB8-D28C262A05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97F0-D6E2-4F42-91E7-5E2250BEBB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16C-748D-4723-9F6A-95D49F9558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31E-45E1-40CD-9BFF-FD73F4D29E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174-10DC-4B72-8D30-009B9B9799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A52-8A4E-468B-BE02-72EA043B73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096-C864-48D8-B50F-4CB953109F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B5B-CD76-47AD-A518-9E930F4FEA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FFC-D0EA-4E08-B15A-D71CAD308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A5C5-CEDB-4EDE-BEA0-FC6A9F285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D6C7-091B-4A59-A839-AA959005D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5972-91EA-4252-B86D-CFE7D06BC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8BD8-119B-4BA6-BA71-E2B568301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617C-068C-4784-A0F7-A466F2F4E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6A9A-19FE-470C-AB12-CF44C64C9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D86-BC5B-4620-A73D-557C8A82330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43" name="Picture 8" descr="Pifl_horiz_RGB_pozi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A99E-65AB-4E9C-AF79-0D2FB1096C8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83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5" name="テキスト ボックス 6"/>
          <p:cNvSpPr/>
          <p:nvPr/>
        </p:nvSpPr>
        <p:spPr>
          <a:xfrm>
            <a:off x="8697960" y="6535800"/>
            <a:ext cx="115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G542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1ED1-A0EF-46D8-9D0C-37CED5FD453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E8C7-43B5-4922-BDB3-088158874FF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G542: Non-CE9/Non-CE13</a:t>
            </a:r>
            <a:br>
              <a:rPr sz="2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plification on AMVP/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A590-7079-4D34-AB5A-4A3DFBFFD2A6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95000" y="620280"/>
            <a:ext cx="9281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simplification on AMVP/Merge are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w almost no loss for all test conditions with reducing complexity on HM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he proposed method be adopted in the HM/WD of HE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633D-195B-4A75-989F-693B6F7553B4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88520" y="764640"/>
            <a:ext cx="89154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is proposal includes the following three simplifications on AMVP/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n avoiding merging candidate decision [simplification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ame proposal as JCTVC-G6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n AMVP spatial scaling candidate [simplification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n zero motion vector merging candidate [simplification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F2B2-197D-4BF2-8113-B5B29E226EB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1" name="正方形/長方形 4"/>
          <p:cNvSpPr/>
          <p:nvPr/>
        </p:nvSpPr>
        <p:spPr>
          <a:xfrm>
            <a:off x="3002040" y="5877000"/>
            <a:ext cx="431640" cy="433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2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2" name="正方形/長方形 5"/>
          <p:cNvSpPr/>
          <p:nvPr/>
        </p:nvSpPr>
        <p:spPr>
          <a:xfrm>
            <a:off x="1057320" y="5429160"/>
            <a:ext cx="431640" cy="432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3" name="正方形/長方形 6"/>
          <p:cNvSpPr/>
          <p:nvPr/>
        </p:nvSpPr>
        <p:spPr>
          <a:xfrm>
            <a:off x="1488960" y="5427720"/>
            <a:ext cx="432000" cy="431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4" name="正方形/長方形 7"/>
          <p:cNvSpPr/>
          <p:nvPr/>
        </p:nvSpPr>
        <p:spPr>
          <a:xfrm>
            <a:off x="3360600" y="3597120"/>
            <a:ext cx="433440" cy="865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5" name="正方形/長方形 8"/>
          <p:cNvSpPr/>
          <p:nvPr/>
        </p:nvSpPr>
        <p:spPr>
          <a:xfrm>
            <a:off x="1128600" y="3565440"/>
            <a:ext cx="865440" cy="433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6" name="正方形/長方形 9"/>
          <p:cNvSpPr/>
          <p:nvPr/>
        </p:nvSpPr>
        <p:spPr>
          <a:xfrm>
            <a:off x="985680" y="4284720"/>
            <a:ext cx="1429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7" name="正方形/長方形 10"/>
          <p:cNvSpPr/>
          <p:nvPr/>
        </p:nvSpPr>
        <p:spPr>
          <a:xfrm>
            <a:off x="985680" y="4429080"/>
            <a:ext cx="14292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8" name="正方形/長方形 11"/>
          <p:cNvSpPr/>
          <p:nvPr/>
        </p:nvSpPr>
        <p:spPr>
          <a:xfrm>
            <a:off x="1849320" y="3852720"/>
            <a:ext cx="14472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9" name="正方形/長方形 12"/>
          <p:cNvSpPr/>
          <p:nvPr/>
        </p:nvSpPr>
        <p:spPr>
          <a:xfrm>
            <a:off x="1992240" y="385272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0" name="正方形/長方形 13"/>
          <p:cNvSpPr/>
          <p:nvPr/>
        </p:nvSpPr>
        <p:spPr>
          <a:xfrm>
            <a:off x="985680" y="3843360"/>
            <a:ext cx="1429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1" name="正方形/長方形 14"/>
          <p:cNvSpPr/>
          <p:nvPr/>
        </p:nvSpPr>
        <p:spPr>
          <a:xfrm>
            <a:off x="1128600" y="4005360"/>
            <a:ext cx="86544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2" name="線吹き出し 1 (枠付き) 97"/>
          <p:cNvSpPr/>
          <p:nvPr/>
        </p:nvSpPr>
        <p:spPr>
          <a:xfrm>
            <a:off x="128520" y="836640"/>
            <a:ext cx="4537080" cy="180036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reating merging candidate list for PU1 of rectangular PartMode,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 motion parameters of the neighboring PU_N is checked whether it’s identical to that of PU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f it’s true, that neighboring PU_N is not added into merging candidate lis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43" name="直線矢印コネクタ 16"/>
          <p:cNvCxnSpPr/>
          <p:nvPr/>
        </p:nvCxnSpPr>
        <p:spPr>
          <a:xfrm flipH="1" flipV="1">
            <a:off x="912240" y="3168360"/>
            <a:ext cx="36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直線矢印コネクタ 17"/>
          <p:cNvCxnSpPr/>
          <p:nvPr/>
        </p:nvCxnSpPr>
        <p:spPr>
          <a:xfrm flipH="1" flipV="1">
            <a:off x="696240" y="338580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Text Box 406"/>
          <p:cNvSpPr/>
          <p:nvPr/>
        </p:nvSpPr>
        <p:spPr>
          <a:xfrm>
            <a:off x="619560" y="39132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46" name="直線矢印コネクタ 19"/>
          <p:cNvCxnSpPr/>
          <p:nvPr/>
        </p:nvCxnSpPr>
        <p:spPr>
          <a:xfrm flipH="1" flipV="1">
            <a:off x="1696320" y="3393720"/>
            <a:ext cx="359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 Box 406"/>
          <p:cNvSpPr/>
          <p:nvPr/>
        </p:nvSpPr>
        <p:spPr>
          <a:xfrm>
            <a:off x="1995120" y="357336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8" name="正方形/長方形 21"/>
          <p:cNvSpPr/>
          <p:nvPr/>
        </p:nvSpPr>
        <p:spPr>
          <a:xfrm>
            <a:off x="2928960" y="3600360"/>
            <a:ext cx="431640" cy="870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9" name="正方形/長方形 22"/>
          <p:cNvSpPr/>
          <p:nvPr/>
        </p:nvSpPr>
        <p:spPr>
          <a:xfrm>
            <a:off x="3218040" y="4327560"/>
            <a:ext cx="14256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0" name="正方形/長方形 23"/>
          <p:cNvSpPr/>
          <p:nvPr/>
        </p:nvSpPr>
        <p:spPr>
          <a:xfrm>
            <a:off x="3218040" y="3454560"/>
            <a:ext cx="142560" cy="1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1" name="正方形/長方形 24"/>
          <p:cNvSpPr/>
          <p:nvPr/>
        </p:nvSpPr>
        <p:spPr>
          <a:xfrm>
            <a:off x="3649680" y="345600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2" name="正方形/長方形 25"/>
          <p:cNvSpPr/>
          <p:nvPr/>
        </p:nvSpPr>
        <p:spPr>
          <a:xfrm>
            <a:off x="3792600" y="345600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3" name="正方形/長方形 26"/>
          <p:cNvSpPr/>
          <p:nvPr/>
        </p:nvSpPr>
        <p:spPr>
          <a:xfrm>
            <a:off x="3209760" y="4471920"/>
            <a:ext cx="14472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54" name="直線矢印コネクタ 27"/>
          <p:cNvCxnSpPr/>
          <p:nvPr/>
        </p:nvCxnSpPr>
        <p:spPr>
          <a:xfrm flipH="1" flipV="1">
            <a:off x="2712240" y="3193200"/>
            <a:ext cx="361080" cy="50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直線矢印コネクタ 28"/>
          <p:cNvCxnSpPr/>
          <p:nvPr/>
        </p:nvCxnSpPr>
        <p:spPr>
          <a:xfrm flipH="1" flipV="1">
            <a:off x="2921760" y="401292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Text Box 406"/>
          <p:cNvSpPr/>
          <p:nvPr/>
        </p:nvSpPr>
        <p:spPr>
          <a:xfrm>
            <a:off x="2680200" y="43894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57" name="直線矢印コネクタ 30"/>
          <p:cNvCxnSpPr/>
          <p:nvPr/>
        </p:nvCxnSpPr>
        <p:spPr>
          <a:xfrm flipH="1" flipV="1">
            <a:off x="3497400" y="2997000"/>
            <a:ext cx="3589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 Box 406"/>
          <p:cNvSpPr/>
          <p:nvPr/>
        </p:nvSpPr>
        <p:spPr>
          <a:xfrm>
            <a:off x="3795480" y="32050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9" name="正方形/長方形 32"/>
          <p:cNvSpPr/>
          <p:nvPr/>
        </p:nvSpPr>
        <p:spPr>
          <a:xfrm>
            <a:off x="1344600" y="614844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0" name="正方形/長方形 33"/>
          <p:cNvSpPr/>
          <p:nvPr/>
        </p:nvSpPr>
        <p:spPr>
          <a:xfrm>
            <a:off x="1344600" y="6292800"/>
            <a:ext cx="14436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1" name="正方形/長方形 34"/>
          <p:cNvSpPr/>
          <p:nvPr/>
        </p:nvSpPr>
        <p:spPr>
          <a:xfrm>
            <a:off x="1778040" y="5716440"/>
            <a:ext cx="14292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2" name="正方形/長方形 35"/>
          <p:cNvSpPr/>
          <p:nvPr/>
        </p:nvSpPr>
        <p:spPr>
          <a:xfrm>
            <a:off x="1920960" y="5716440"/>
            <a:ext cx="14436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3" name="正方形/長方形 37"/>
          <p:cNvSpPr/>
          <p:nvPr/>
        </p:nvSpPr>
        <p:spPr>
          <a:xfrm>
            <a:off x="1488960" y="5869080"/>
            <a:ext cx="43200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3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164" name="直線矢印コネクタ 38"/>
          <p:cNvCxnSpPr/>
          <p:nvPr/>
        </p:nvCxnSpPr>
        <p:spPr>
          <a:xfrm flipH="1" flipV="1">
            <a:off x="984960" y="5733720"/>
            <a:ext cx="1436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正方形/長方形 42"/>
          <p:cNvSpPr/>
          <p:nvPr/>
        </p:nvSpPr>
        <p:spPr>
          <a:xfrm>
            <a:off x="1057320" y="586908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2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6" name="Text Box 406"/>
          <p:cNvSpPr/>
          <p:nvPr/>
        </p:nvSpPr>
        <p:spPr>
          <a:xfrm>
            <a:off x="2067480" y="565344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7" name="正方形/長方形 44"/>
          <p:cNvSpPr/>
          <p:nvPr/>
        </p:nvSpPr>
        <p:spPr>
          <a:xfrm>
            <a:off x="3002040" y="5438880"/>
            <a:ext cx="431640" cy="431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8" name="正方形/長方形 45"/>
          <p:cNvSpPr/>
          <p:nvPr/>
        </p:nvSpPr>
        <p:spPr>
          <a:xfrm>
            <a:off x="3433680" y="543708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9" name="正方形/長方形 46"/>
          <p:cNvSpPr/>
          <p:nvPr/>
        </p:nvSpPr>
        <p:spPr>
          <a:xfrm>
            <a:off x="3289320" y="615636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0" name="正方形/長方形 47"/>
          <p:cNvSpPr/>
          <p:nvPr/>
        </p:nvSpPr>
        <p:spPr>
          <a:xfrm>
            <a:off x="3289320" y="630072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1" name="正方形/長方形 48"/>
          <p:cNvSpPr/>
          <p:nvPr/>
        </p:nvSpPr>
        <p:spPr>
          <a:xfrm>
            <a:off x="3720960" y="5724360"/>
            <a:ext cx="14472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2" name="正方形/長方形 49"/>
          <p:cNvSpPr/>
          <p:nvPr/>
        </p:nvSpPr>
        <p:spPr>
          <a:xfrm>
            <a:off x="3865680" y="5724360"/>
            <a:ext cx="1429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3" name="正方形/長方形 51"/>
          <p:cNvSpPr/>
          <p:nvPr/>
        </p:nvSpPr>
        <p:spPr>
          <a:xfrm>
            <a:off x="3433680" y="5877000"/>
            <a:ext cx="43200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3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4" name="Text Box 406"/>
          <p:cNvSpPr/>
          <p:nvPr/>
        </p:nvSpPr>
        <p:spPr>
          <a:xfrm>
            <a:off x="4011120" y="56610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n avoiding merging candidate decision [simplification1]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6" name="Text Box 406"/>
          <p:cNvSpPr/>
          <p:nvPr/>
        </p:nvSpPr>
        <p:spPr>
          <a:xfrm>
            <a:off x="132120" y="5493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4.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7" name="正方形/長方形 61"/>
          <p:cNvSpPr/>
          <p:nvPr/>
        </p:nvSpPr>
        <p:spPr>
          <a:xfrm>
            <a:off x="6033960" y="5446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8" name="正方形/長方形 62"/>
          <p:cNvSpPr/>
          <p:nvPr/>
        </p:nvSpPr>
        <p:spPr>
          <a:xfrm>
            <a:off x="6465960" y="5445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9" name="正方形/長方形 63"/>
          <p:cNvSpPr/>
          <p:nvPr/>
        </p:nvSpPr>
        <p:spPr>
          <a:xfrm>
            <a:off x="8337600" y="3833640"/>
            <a:ext cx="43164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0" name="正方形/長方形 64"/>
          <p:cNvSpPr/>
          <p:nvPr/>
        </p:nvSpPr>
        <p:spPr>
          <a:xfrm>
            <a:off x="6105600" y="38019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1" name="正方形/長方形 65"/>
          <p:cNvSpPr/>
          <p:nvPr/>
        </p:nvSpPr>
        <p:spPr>
          <a:xfrm>
            <a:off x="5961240" y="4519440"/>
            <a:ext cx="14436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2" name="正方形/長方形 66"/>
          <p:cNvSpPr/>
          <p:nvPr/>
        </p:nvSpPr>
        <p:spPr>
          <a:xfrm>
            <a:off x="5961240" y="466416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3" name="正方形/長方形 67"/>
          <p:cNvSpPr/>
          <p:nvPr/>
        </p:nvSpPr>
        <p:spPr>
          <a:xfrm>
            <a:off x="6826320" y="4087800"/>
            <a:ext cx="1429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4" name="正方形/長方形 68"/>
          <p:cNvSpPr/>
          <p:nvPr/>
        </p:nvSpPr>
        <p:spPr>
          <a:xfrm>
            <a:off x="6969240" y="408780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5" name="正方形/長方形 69"/>
          <p:cNvSpPr/>
          <p:nvPr/>
        </p:nvSpPr>
        <p:spPr>
          <a:xfrm>
            <a:off x="5961240" y="4079880"/>
            <a:ext cx="14436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6" name="正方形/長方形 70"/>
          <p:cNvSpPr/>
          <p:nvPr/>
        </p:nvSpPr>
        <p:spPr>
          <a:xfrm>
            <a:off x="6105600" y="4240080"/>
            <a:ext cx="86364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1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7" name="Text Box 406"/>
          <p:cNvSpPr/>
          <p:nvPr/>
        </p:nvSpPr>
        <p:spPr>
          <a:xfrm>
            <a:off x="6871320" y="357372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8" name="正方形/長方形 76"/>
          <p:cNvSpPr/>
          <p:nvPr/>
        </p:nvSpPr>
        <p:spPr>
          <a:xfrm>
            <a:off x="7905600" y="3835440"/>
            <a:ext cx="432000" cy="87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9" name="正方形/長方形 77"/>
          <p:cNvSpPr/>
          <p:nvPr/>
        </p:nvSpPr>
        <p:spPr>
          <a:xfrm>
            <a:off x="8193240" y="456264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0" name="正方形/長方形 78"/>
          <p:cNvSpPr/>
          <p:nvPr/>
        </p:nvSpPr>
        <p:spPr>
          <a:xfrm>
            <a:off x="8193240" y="368928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1" name="正方形/長方形 79"/>
          <p:cNvSpPr/>
          <p:nvPr/>
        </p:nvSpPr>
        <p:spPr>
          <a:xfrm>
            <a:off x="8626320" y="3691080"/>
            <a:ext cx="1429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2" name="正方形/長方形 80"/>
          <p:cNvSpPr/>
          <p:nvPr/>
        </p:nvSpPr>
        <p:spPr>
          <a:xfrm>
            <a:off x="8769240" y="3691080"/>
            <a:ext cx="1447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3" name="正方形/長方形 81"/>
          <p:cNvSpPr/>
          <p:nvPr/>
        </p:nvSpPr>
        <p:spPr>
          <a:xfrm>
            <a:off x="8186760" y="470700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4" name="正方形/長方形 87"/>
          <p:cNvSpPr/>
          <p:nvPr/>
        </p:nvSpPr>
        <p:spPr>
          <a:xfrm>
            <a:off x="6321600" y="616428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6321600" y="6308640"/>
            <a:ext cx="14436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6" name="正方形/長方形 89"/>
          <p:cNvSpPr/>
          <p:nvPr/>
        </p:nvSpPr>
        <p:spPr>
          <a:xfrm>
            <a:off x="6753240" y="573264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7" name="正方形/長方形 90"/>
          <p:cNvSpPr/>
          <p:nvPr/>
        </p:nvSpPr>
        <p:spPr>
          <a:xfrm>
            <a:off x="6897600" y="5732640"/>
            <a:ext cx="1429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8" name="正方形/長方形 91"/>
          <p:cNvSpPr/>
          <p:nvPr/>
        </p:nvSpPr>
        <p:spPr>
          <a:xfrm>
            <a:off x="6330960" y="5732640"/>
            <a:ext cx="1429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9" name="正方形/長方形 92"/>
          <p:cNvSpPr/>
          <p:nvPr/>
        </p:nvSpPr>
        <p:spPr>
          <a:xfrm>
            <a:off x="6465960" y="5884920"/>
            <a:ext cx="43164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3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0" name="正方形/長方形 97"/>
          <p:cNvSpPr/>
          <p:nvPr/>
        </p:nvSpPr>
        <p:spPr>
          <a:xfrm>
            <a:off x="6033960" y="588492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2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1" name="Text Box 406"/>
          <p:cNvSpPr/>
          <p:nvPr/>
        </p:nvSpPr>
        <p:spPr>
          <a:xfrm>
            <a:off x="7736400" y="48898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2" name="線吹き出し 1 (枠付き) 97"/>
          <p:cNvSpPr/>
          <p:nvPr/>
        </p:nvSpPr>
        <p:spPr>
          <a:xfrm>
            <a:off x="5240160" y="836640"/>
            <a:ext cx="4392720" cy="266364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the avoided neighboring PU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using only PartMode of the current PU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or the case of PU1 of PART_2NxN, PART_2NxnU, PART_2NxnD, neighboring PU_B1 is not added into merging candidate list 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or the case of PU1 of PART_Nx2N, PART_nLx2N and PART_nRx2N, neighboring PU_A1 is not added into merging candidate lis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duce the complexity on checking motion parameter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3" name="右矢印 116"/>
          <p:cNvSpPr/>
          <p:nvPr/>
        </p:nvSpPr>
        <p:spPr>
          <a:xfrm>
            <a:off x="4808520" y="1413000"/>
            <a:ext cx="360360" cy="86364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4" name="Text Box 406"/>
          <p:cNvSpPr/>
          <p:nvPr/>
        </p:nvSpPr>
        <p:spPr>
          <a:xfrm>
            <a:off x="5241600" y="52848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tion1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5" name="Text Box 406"/>
          <p:cNvSpPr/>
          <p:nvPr/>
        </p:nvSpPr>
        <p:spPr>
          <a:xfrm>
            <a:off x="266760" y="46530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ing candidate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6" name="直線コネクタ 88"/>
          <p:cNvSpPr/>
          <p:nvPr/>
        </p:nvSpPr>
        <p:spPr>
          <a:xfrm flipV="1">
            <a:off x="841320" y="4572000"/>
            <a:ext cx="2160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7" name="Text Box 406"/>
          <p:cNvSpPr/>
          <p:nvPr/>
        </p:nvSpPr>
        <p:spPr>
          <a:xfrm>
            <a:off x="1707120" y="45100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PU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08" name="直線コネクタ 90"/>
          <p:cNvSpPr/>
          <p:nvPr/>
        </p:nvSpPr>
        <p:spPr>
          <a:xfrm flipH="1" flipV="1">
            <a:off x="1849320" y="4293720"/>
            <a:ext cx="14472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209" name="直線矢印コネクタ 39"/>
          <p:cNvCxnSpPr/>
          <p:nvPr/>
        </p:nvCxnSpPr>
        <p:spPr>
          <a:xfrm flipH="1" flipV="1">
            <a:off x="785160" y="501300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直線矢印コネクタ 41"/>
          <p:cNvCxnSpPr/>
          <p:nvPr/>
        </p:nvCxnSpPr>
        <p:spPr>
          <a:xfrm flipH="1" flipV="1">
            <a:off x="1272600" y="501300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直線矢印コネクタ 38"/>
          <p:cNvCxnSpPr/>
          <p:nvPr/>
        </p:nvCxnSpPr>
        <p:spPr>
          <a:xfrm flipH="1" flipV="1">
            <a:off x="1848600" y="5498640"/>
            <a:ext cx="1436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正方形/長方形 34"/>
          <p:cNvSpPr/>
          <p:nvPr/>
        </p:nvSpPr>
        <p:spPr>
          <a:xfrm>
            <a:off x="1344600" y="5734080"/>
            <a:ext cx="14292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213" name="直線矢印コネクタ 39"/>
          <p:cNvCxnSpPr/>
          <p:nvPr/>
        </p:nvCxnSpPr>
        <p:spPr>
          <a:xfrm flipH="1" flipV="1">
            <a:off x="2712240" y="544464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直線矢印コネクタ 41"/>
          <p:cNvCxnSpPr/>
          <p:nvPr/>
        </p:nvCxnSpPr>
        <p:spPr>
          <a:xfrm flipH="1" flipV="1">
            <a:off x="2785320" y="5013000"/>
            <a:ext cx="36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直線矢印コネクタ 38"/>
          <p:cNvCxnSpPr/>
          <p:nvPr/>
        </p:nvCxnSpPr>
        <p:spPr>
          <a:xfrm flipH="1" flipV="1">
            <a:off x="3360240" y="5236920"/>
            <a:ext cx="14544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直線矢印コネクタ 38"/>
          <p:cNvCxnSpPr/>
          <p:nvPr/>
        </p:nvCxnSpPr>
        <p:spPr>
          <a:xfrm flipH="1" flipV="1">
            <a:off x="3793320" y="5501880"/>
            <a:ext cx="1436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直線矢印コネクタ 38"/>
          <p:cNvCxnSpPr/>
          <p:nvPr/>
        </p:nvCxnSpPr>
        <p:spPr>
          <a:xfrm flipH="1" flipV="1">
            <a:off x="3217680" y="6102000"/>
            <a:ext cx="14328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8" name="正方形/長方形 48"/>
          <p:cNvSpPr/>
          <p:nvPr/>
        </p:nvSpPr>
        <p:spPr>
          <a:xfrm>
            <a:off x="3289320" y="5732640"/>
            <a:ext cx="144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19" name="Text Box 406"/>
          <p:cNvSpPr/>
          <p:nvPr/>
        </p:nvSpPr>
        <p:spPr>
          <a:xfrm>
            <a:off x="3435120" y="631044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0" name="直線コネクタ 111"/>
          <p:cNvSpPr/>
          <p:nvPr/>
        </p:nvSpPr>
        <p:spPr>
          <a:xfrm flipV="1">
            <a:off x="6923160" y="3836520"/>
            <a:ext cx="21600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1" name="Text Box 406"/>
          <p:cNvSpPr/>
          <p:nvPr/>
        </p:nvSpPr>
        <p:spPr>
          <a:xfrm>
            <a:off x="5248440" y="482616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ing candidate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2" name="直線コネクタ 114"/>
          <p:cNvSpPr/>
          <p:nvPr/>
        </p:nvSpPr>
        <p:spPr>
          <a:xfrm flipV="1">
            <a:off x="5823000" y="4744800"/>
            <a:ext cx="2160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3" name="Text Box 406"/>
          <p:cNvSpPr/>
          <p:nvPr/>
        </p:nvSpPr>
        <p:spPr>
          <a:xfrm>
            <a:off x="6655320" y="47260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PU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4" name="直線コネクタ 117"/>
          <p:cNvSpPr/>
          <p:nvPr/>
        </p:nvSpPr>
        <p:spPr>
          <a:xfrm flipH="1" flipV="1">
            <a:off x="6797520" y="4508280"/>
            <a:ext cx="1447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5" name="直線コネクタ 118"/>
          <p:cNvSpPr/>
          <p:nvPr/>
        </p:nvSpPr>
        <p:spPr>
          <a:xfrm flipV="1">
            <a:off x="8047080" y="4629240"/>
            <a:ext cx="21600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6" name="Text Box 406"/>
          <p:cNvSpPr/>
          <p:nvPr/>
        </p:nvSpPr>
        <p:spPr>
          <a:xfrm>
            <a:off x="703080" y="436248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0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7" name="Text Box 406"/>
          <p:cNvSpPr/>
          <p:nvPr/>
        </p:nvSpPr>
        <p:spPr>
          <a:xfrm>
            <a:off x="700560" y="422100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8" name="Text Box 406"/>
          <p:cNvSpPr/>
          <p:nvPr/>
        </p:nvSpPr>
        <p:spPr>
          <a:xfrm>
            <a:off x="1924200" y="394956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29" name="Text Box 406"/>
          <p:cNvSpPr/>
          <p:nvPr/>
        </p:nvSpPr>
        <p:spPr>
          <a:xfrm>
            <a:off x="1598040" y="379728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0" name="Text Box 406"/>
          <p:cNvSpPr/>
          <p:nvPr/>
        </p:nvSpPr>
        <p:spPr>
          <a:xfrm>
            <a:off x="708840" y="379584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1" name="Text Box 406"/>
          <p:cNvSpPr/>
          <p:nvPr/>
        </p:nvSpPr>
        <p:spPr>
          <a:xfrm>
            <a:off x="5676480" y="458964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0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2" name="Text Box 406"/>
          <p:cNvSpPr/>
          <p:nvPr/>
        </p:nvSpPr>
        <p:spPr>
          <a:xfrm>
            <a:off x="5674320" y="444816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3" name="Text Box 406"/>
          <p:cNvSpPr/>
          <p:nvPr/>
        </p:nvSpPr>
        <p:spPr>
          <a:xfrm>
            <a:off x="6897960" y="417672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4" name="Text Box 406"/>
          <p:cNvSpPr/>
          <p:nvPr/>
        </p:nvSpPr>
        <p:spPr>
          <a:xfrm>
            <a:off x="6571800" y="402444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5" name="Text Box 406"/>
          <p:cNvSpPr/>
          <p:nvPr/>
        </p:nvSpPr>
        <p:spPr>
          <a:xfrm>
            <a:off x="5682600" y="4022640"/>
            <a:ext cx="34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</a:t>
            </a:r>
            <a:endParaRPr b="0" lang="en-US" sz="11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1DA5-35C4-4AF0-BEBA-399591B4347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simplification1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8" name="テキスト ボックス 6"/>
          <p:cNvSpPr/>
          <p:nvPr/>
        </p:nvSpPr>
        <p:spPr>
          <a:xfrm>
            <a:off x="6176880" y="1628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egligible loss was obser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2505240" y="1916280"/>
            <a:ext cx="489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88880" y="2637000"/>
            <a:ext cx="3909960" cy="3767040"/>
          </a:xfrm>
          <a:prstGeom prst="rect">
            <a:avLst/>
          </a:prstGeom>
          <a:ln w="0">
            <a:noFill/>
          </a:ln>
        </p:spPr>
      </p:pic>
      <p:sp>
        <p:nvSpPr>
          <p:cNvPr id="242" name="線吹き出し 1 (枠付き) 97"/>
          <p:cNvSpPr/>
          <p:nvPr/>
        </p:nvSpPr>
        <p:spPr>
          <a:xfrm>
            <a:off x="128520" y="836640"/>
            <a:ext cx="4537080" cy="165564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reating AMVP candidate list, to use scaling calculation for upper positions is allowed only if left positions were not available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caling calculation was not used 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parallel derivation of the spatial candidates is assumed, this dependency would produce some waiting time to derive the spatial candidate of upper position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3" name="Text Box 406"/>
          <p:cNvSpPr/>
          <p:nvPr/>
        </p:nvSpPr>
        <p:spPr>
          <a:xfrm>
            <a:off x="132120" y="5493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4.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4" name="線吹き出し 1 (枠付き) 97"/>
          <p:cNvSpPr/>
          <p:nvPr/>
        </p:nvSpPr>
        <p:spPr>
          <a:xfrm>
            <a:off x="5240160" y="836640"/>
            <a:ext cx="4392720" cy="165564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if all PUs in left position are not available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 PredMode are MODE_INTRA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ameter isScaledFlagLX is set to 0 and the scaling calculation is allowed to use for upper position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 dependency for a parallel derivation of spatial candidate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5" name="右矢印 116"/>
          <p:cNvSpPr/>
          <p:nvPr/>
        </p:nvSpPr>
        <p:spPr>
          <a:xfrm>
            <a:off x="4808520" y="1413000"/>
            <a:ext cx="360360" cy="86364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6" name="Text Box 406"/>
          <p:cNvSpPr/>
          <p:nvPr/>
        </p:nvSpPr>
        <p:spPr>
          <a:xfrm>
            <a:off x="5241600" y="52848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tion2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n AMVP spatial scaling candidate [simplification2]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13240" y="2378160"/>
            <a:ext cx="3919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DC3E-1000-4AF2-93A9-723DA35EC9E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0" name="テキスト ボックス 6"/>
          <p:cNvSpPr/>
          <p:nvPr/>
        </p:nvSpPr>
        <p:spPr>
          <a:xfrm>
            <a:off x="6176880" y="16398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o loss was obser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simplification2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2505240" y="1916280"/>
            <a:ext cx="489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144880" y="2241720"/>
            <a:ext cx="4446360" cy="4500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n zero motion vector merging candidate [simplification3]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6" name="線吹き出し 1 (枠付き) 97"/>
          <p:cNvSpPr/>
          <p:nvPr/>
        </p:nvSpPr>
        <p:spPr>
          <a:xfrm>
            <a:off x="128520" y="836640"/>
            <a:ext cx="4537080" cy="122400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ng zero motion vector merging candidate, it’s checked whether that new candidate has already been included in the mergeCandLis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ing process would cause some complexity issue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7" name="Text Box 406"/>
          <p:cNvSpPr/>
          <p:nvPr/>
        </p:nvSpPr>
        <p:spPr>
          <a:xfrm>
            <a:off x="132120" y="5493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4.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8" name="線吹き出し 1 (枠付き) 97"/>
          <p:cNvSpPr/>
          <p:nvPr/>
        </p:nvSpPr>
        <p:spPr>
          <a:xfrm>
            <a:off x="5240160" y="836640"/>
            <a:ext cx="4392720" cy="1800360"/>
          </a:xfrm>
          <a:prstGeom prst="borderCallout1">
            <a:avLst>
              <a:gd name="adj1" fmla="val 18750"/>
              <a:gd name="adj2" fmla="val -8333"/>
              <a:gd name="adj3" fmla="val 20236"/>
              <a:gd name="adj4" fmla="val -3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checking process from the derivation process of zero vector merging candidate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parameter zeroCnt, which indicates the maximum number of the duplicate checking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vailable zeroCand are added to the mergeCandList in order not to produce empty space in i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duce the number of duplicate checking proces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9" name="右矢印 116"/>
          <p:cNvSpPr/>
          <p:nvPr/>
        </p:nvSpPr>
        <p:spPr>
          <a:xfrm>
            <a:off x="4808520" y="1413000"/>
            <a:ext cx="360360" cy="86364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0" name="Text Box 406"/>
          <p:cNvSpPr/>
          <p:nvPr/>
        </p:nvSpPr>
        <p:spPr>
          <a:xfrm>
            <a:off x="5241600" y="52848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tion3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1" name="乗算記号 11"/>
          <p:cNvSpPr/>
          <p:nvPr/>
        </p:nvSpPr>
        <p:spPr>
          <a:xfrm>
            <a:off x="1857240" y="4149720"/>
            <a:ext cx="2664000" cy="647640"/>
          </a:xfrm>
          <a:custGeom>
            <a:avLst/>
            <a:gdLst>
              <a:gd name="textAreaLeft" fmla="*/ 621720 w 2664000"/>
              <a:gd name="textAreaRight" fmla="*/ 2042280 w 2664000"/>
              <a:gd name="textAreaTop" fmla="*/ 81360 h 647640"/>
              <a:gd name="textAreaBottom" fmla="*/ 566280 h 647640"/>
            </a:gdLst>
            <a:ahLst/>
            <a:rect l="textAreaLeft" t="textAreaTop" r="textAreaRight" b="textAreaBottom"/>
            <a:pathLst>
              <a:path w="2664296" h="648072">
                <a:moveTo>
                  <a:pt x="621884" y="229705"/>
                </a:moveTo>
                <a:lnTo>
                  <a:pt x="657910" y="81597"/>
                </a:lnTo>
                <a:lnTo>
                  <a:pt x="1332148" y="245600"/>
                </a:lnTo>
                <a:lnTo>
                  <a:pt x="2006386" y="81597"/>
                </a:lnTo>
                <a:lnTo>
                  <a:pt x="2042412" y="229705"/>
                </a:lnTo>
                <a:lnTo>
                  <a:pt x="1654605" y="324036"/>
                </a:lnTo>
                <a:lnTo>
                  <a:pt x="2042412" y="418367"/>
                </a:lnTo>
                <a:lnTo>
                  <a:pt x="2006386" y="566475"/>
                </a:lnTo>
                <a:lnTo>
                  <a:pt x="1332148" y="402472"/>
                </a:lnTo>
                <a:lnTo>
                  <a:pt x="657910" y="566475"/>
                </a:lnTo>
                <a:lnTo>
                  <a:pt x="621884" y="418367"/>
                </a:lnTo>
                <a:lnTo>
                  <a:pt x="1009691" y="32403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2" name="乗算記号 12"/>
          <p:cNvSpPr/>
          <p:nvPr/>
        </p:nvSpPr>
        <p:spPr>
          <a:xfrm>
            <a:off x="4160880" y="4149720"/>
            <a:ext cx="2663640" cy="647640"/>
          </a:xfrm>
          <a:custGeom>
            <a:avLst/>
            <a:gdLst>
              <a:gd name="textAreaLeft" fmla="*/ 621720 w 2663640"/>
              <a:gd name="textAreaRight" fmla="*/ 2041920 w 2663640"/>
              <a:gd name="textAreaTop" fmla="*/ 81360 h 647640"/>
              <a:gd name="textAreaBottom" fmla="*/ 566280 h 647640"/>
            </a:gdLst>
            <a:ahLst/>
            <a:rect l="textAreaLeft" t="textAreaTop" r="textAreaRight" b="textAreaBottom"/>
            <a:pathLst>
              <a:path w="2664296" h="648072">
                <a:moveTo>
                  <a:pt x="621884" y="229705"/>
                </a:moveTo>
                <a:lnTo>
                  <a:pt x="657910" y="81597"/>
                </a:lnTo>
                <a:lnTo>
                  <a:pt x="1332148" y="245600"/>
                </a:lnTo>
                <a:lnTo>
                  <a:pt x="2006386" y="81597"/>
                </a:lnTo>
                <a:lnTo>
                  <a:pt x="2042412" y="229705"/>
                </a:lnTo>
                <a:lnTo>
                  <a:pt x="1654605" y="324036"/>
                </a:lnTo>
                <a:lnTo>
                  <a:pt x="2042412" y="418367"/>
                </a:lnTo>
                <a:lnTo>
                  <a:pt x="2006386" y="566475"/>
                </a:lnTo>
                <a:lnTo>
                  <a:pt x="1332148" y="402472"/>
                </a:lnTo>
                <a:lnTo>
                  <a:pt x="657910" y="566475"/>
                </a:lnTo>
                <a:lnTo>
                  <a:pt x="621884" y="418367"/>
                </a:lnTo>
                <a:lnTo>
                  <a:pt x="1009691" y="32403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3" name="Text Box 406"/>
          <p:cNvSpPr/>
          <p:nvPr/>
        </p:nvSpPr>
        <p:spPr>
          <a:xfrm>
            <a:off x="5607720" y="3933720"/>
            <a:ext cx="27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 duplicate checking process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4" name="乗算記号 15"/>
          <p:cNvSpPr/>
          <p:nvPr/>
        </p:nvSpPr>
        <p:spPr>
          <a:xfrm>
            <a:off x="2557440" y="5767560"/>
            <a:ext cx="1297080" cy="215640"/>
          </a:xfrm>
          <a:custGeom>
            <a:avLst/>
            <a:gdLst>
              <a:gd name="textAreaLeft" fmla="*/ 307080 w 1297080"/>
              <a:gd name="textAreaRight" fmla="*/ 990000 w 1297080"/>
              <a:gd name="textAreaTop" fmla="*/ 26640 h 215640"/>
              <a:gd name="textAreaBottom" fmla="*/ 189000 h 215640"/>
            </a:gdLst>
            <a:ahLst/>
            <a:rect l="textAreaLeft" t="textAreaTop" r="textAreaRight" b="textAreaBottom"/>
            <a:pathLst>
              <a:path w="1296144" h="216024">
                <a:moveTo>
                  <a:pt x="307125" y="76942"/>
                </a:moveTo>
                <a:lnTo>
                  <a:pt x="315478" y="26825"/>
                </a:lnTo>
                <a:lnTo>
                  <a:pt x="648072" y="82257"/>
                </a:lnTo>
                <a:lnTo>
                  <a:pt x="980666" y="26825"/>
                </a:lnTo>
                <a:lnTo>
                  <a:pt x="989019" y="76942"/>
                </a:lnTo>
                <a:lnTo>
                  <a:pt x="802601" y="108012"/>
                </a:lnTo>
                <a:lnTo>
                  <a:pt x="989019" y="139082"/>
                </a:lnTo>
                <a:lnTo>
                  <a:pt x="980666" y="189199"/>
                </a:lnTo>
                <a:lnTo>
                  <a:pt x="648072" y="133767"/>
                </a:lnTo>
                <a:lnTo>
                  <a:pt x="315478" y="189199"/>
                </a:lnTo>
                <a:lnTo>
                  <a:pt x="307125" y="139082"/>
                </a:lnTo>
                <a:lnTo>
                  <a:pt x="493543" y="1080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5" name="Text Box 406"/>
          <p:cNvSpPr/>
          <p:nvPr/>
        </p:nvSpPr>
        <p:spPr>
          <a:xfrm>
            <a:off x="4453560" y="580536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 zeroCnt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5EAB-AB01-4B19-B46F-E138036B68F4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7" name="テキスト ボックス 6"/>
          <p:cNvSpPr/>
          <p:nvPr/>
        </p:nvSpPr>
        <p:spPr>
          <a:xfrm>
            <a:off x="6176880" y="16398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o loss was obser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simplification3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1"/>
          <a:stretch/>
        </p:blipFill>
        <p:spPr>
          <a:xfrm>
            <a:off x="2505240" y="1989000"/>
            <a:ext cx="4895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BFE8-4322-42F9-A776-407AF5CA4BE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72" name="テキスト ボックス 6"/>
          <p:cNvSpPr/>
          <p:nvPr/>
        </p:nvSpPr>
        <p:spPr>
          <a:xfrm>
            <a:off x="6176880" y="16398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o loss was obser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combination on simplification1,2,3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505240" y="1989000"/>
            <a:ext cx="4895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1-11-23T10:53:36Z</dcterms:modified>
  <cp:revision>2216</cp:revision>
  <dc:subject/>
  <dc:title>Title</dc:title>
</cp:coreProperties>
</file>