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6C9A-138D-4559-87D0-B331E8BAA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7B30-2068-4E79-98D6-D8097D141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4DFD-444A-4FDD-A189-FF2D2B82E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B34C-2787-47E2-8A1C-75EE6CE1F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23B1-FE5A-48E0-B384-F5F24D3C0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D7B3-EE6A-4B7C-9F63-3F79142CD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2383-942C-471A-A822-5E030FF5E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4128-E744-4853-822C-79EAD37E7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7E41-2B34-4B24-B468-0F97511D1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F206-9E26-43E5-93AA-69BB2EA1F6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2078-C9FD-41AB-AD57-E40255829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3C44-9F6A-442C-9B84-8FEA746C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6BF8-7054-4905-8AD5-4455FA2A15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772F-5763-4741-B609-4B98F83F0C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2607-18A0-41EC-90B0-A01AFB9A0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F193-F19B-4B38-8C9C-552866EF9A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0241-8A58-4723-B9AD-35168C85E2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2F7-C9F3-4976-BC9A-AFCEA34C14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4B5-717F-4084-BCC3-B80F69F790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4B6-5311-473D-AC31-0A26633581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2F3-4853-4D6F-A3B9-1DD1920F07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887-46D6-4486-9028-B7B92D95D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427E-267A-4679-B0A8-4CEAB44A62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678-F57B-4675-A6F9-E272A9248D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DEB-DAE6-4F66-8FE9-7E3F34D5F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CCC-CD92-4A5D-B428-C96A9C3B35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FDA-34B9-489D-9C21-2735A1F5CC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D1A-ADBF-4768-AA91-4C3AAD9C15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449-F2FC-4735-A74F-624384BBBE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D36-DD58-41FA-9D79-6275E9C47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E73F-D7CA-4C79-9E46-396C54CB2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B68D-066E-4029-ACB9-72CA79A0D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2200-CB67-48DE-A7BF-E62D838CA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30DC-DCC0-43E2-A585-B3B952458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675C-8A7E-42E0-A519-BDA1DE738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AE41-C216-486E-9682-D64B214D8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AFF-54EF-4025-B0CA-01C3D7F0DFA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BCEE-D05F-443C-9260-5F9BA494750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697960" y="6535800"/>
            <a:ext cx="115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G542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C23-EF60-4B61-8BD3-3BF5041797EA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C78-5166-4573-9092-9B914143A89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G542: Non-CE9/Non-CE13</a:t>
            </a:r>
            <a:br>
              <a:rPr sz="2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ification on AMVP/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7FF-6BF4-4EAF-8497-6CE2F3EEAEAB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implification on AMVP/Merge are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 almost no loss for all test conditions with reducing complexity on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HM/WD of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360520" y="2492280"/>
            <a:ext cx="4997520" cy="3456000"/>
          </a:xfrm>
          <a:prstGeom prst="rect">
            <a:avLst/>
          </a:prstGeom>
          <a:ln w="0">
            <a:noFill/>
          </a:ln>
        </p:spPr>
      </p:pic>
      <p:sp>
        <p:nvSpPr>
          <p:cNvPr id="280" name="テキスト ボックス 6"/>
          <p:cNvSpPr/>
          <p:nvPr/>
        </p:nvSpPr>
        <p:spPr>
          <a:xfrm>
            <a:off x="2505240" y="2133720"/>
            <a:ext cx="48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side activity on simplification of 2nd pruning proces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44520" y="56340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JCTVC-G397 reports that removing all 2nd duplication checking process on merging candidate list only brings about 0.1% los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simplification3 method was combined to JCTVC-G397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gligible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2852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itional Simulation Result of combination JCTVC-G397 + simplification3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C73C-7D1F-4018-B5D3-A388054CF0D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8520" y="764640"/>
            <a:ext cx="8915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is proposal includes the following three simplifications on AMVP/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avoiding merging candidate decision [simplification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ame proposal as JCTVC-G6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AMVP spatial scaling candidate [simplification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zero motion vector merging candidate [simplification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E1A-E5C4-4AEB-8BCA-239B3D7C352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1" name="正方形/長方形 4"/>
          <p:cNvSpPr/>
          <p:nvPr/>
        </p:nvSpPr>
        <p:spPr>
          <a:xfrm>
            <a:off x="3002040" y="5877000"/>
            <a:ext cx="431640" cy="433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2" name="正方形/長方形 5"/>
          <p:cNvSpPr/>
          <p:nvPr/>
        </p:nvSpPr>
        <p:spPr>
          <a:xfrm>
            <a:off x="1057320" y="5429160"/>
            <a:ext cx="431640" cy="432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3" name="正方形/長方形 6"/>
          <p:cNvSpPr/>
          <p:nvPr/>
        </p:nvSpPr>
        <p:spPr>
          <a:xfrm>
            <a:off x="1488960" y="5427720"/>
            <a:ext cx="432000" cy="431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4" name="正方形/長方形 7"/>
          <p:cNvSpPr/>
          <p:nvPr/>
        </p:nvSpPr>
        <p:spPr>
          <a:xfrm>
            <a:off x="3360600" y="3597120"/>
            <a:ext cx="43344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5" name="正方形/長方形 8"/>
          <p:cNvSpPr/>
          <p:nvPr/>
        </p:nvSpPr>
        <p:spPr>
          <a:xfrm>
            <a:off x="1128600" y="3565440"/>
            <a:ext cx="865440" cy="433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6" name="正方形/長方形 9"/>
          <p:cNvSpPr/>
          <p:nvPr/>
        </p:nvSpPr>
        <p:spPr>
          <a:xfrm>
            <a:off x="985680" y="428472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7" name="正方形/長方形 10"/>
          <p:cNvSpPr/>
          <p:nvPr/>
        </p:nvSpPr>
        <p:spPr>
          <a:xfrm>
            <a:off x="985680" y="442908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8" name="正方形/長方形 11"/>
          <p:cNvSpPr/>
          <p:nvPr/>
        </p:nvSpPr>
        <p:spPr>
          <a:xfrm>
            <a:off x="1849320" y="3852720"/>
            <a:ext cx="14472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9" name="正方形/長方形 12"/>
          <p:cNvSpPr/>
          <p:nvPr/>
        </p:nvSpPr>
        <p:spPr>
          <a:xfrm>
            <a:off x="1992240" y="3852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0" name="正方形/長方形 13"/>
          <p:cNvSpPr/>
          <p:nvPr/>
        </p:nvSpPr>
        <p:spPr>
          <a:xfrm>
            <a:off x="985680" y="3843360"/>
            <a:ext cx="1429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1" name="正方形/長方形 14"/>
          <p:cNvSpPr/>
          <p:nvPr/>
        </p:nvSpPr>
        <p:spPr>
          <a:xfrm>
            <a:off x="1128600" y="4005360"/>
            <a:ext cx="86544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2" name="線吹き出し 1 (枠付き) 97"/>
          <p:cNvSpPr/>
          <p:nvPr/>
        </p:nvSpPr>
        <p:spPr>
          <a:xfrm>
            <a:off x="128520" y="836640"/>
            <a:ext cx="4537080" cy="180036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reating merging candidate list for PU1 of rectangular PartMode,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motion parameters of the neighboring PU_N is checked whether it’s identical to that of PU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f it’s true, that neighboring PU_N is not added into merging candidate 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43" name="直線矢印コネクタ 16"/>
          <p:cNvCxnSpPr/>
          <p:nvPr/>
        </p:nvCxnSpPr>
        <p:spPr>
          <a:xfrm flipH="1" flipV="1">
            <a:off x="912240" y="3168360"/>
            <a:ext cx="36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直線矢印コネクタ 17"/>
          <p:cNvCxnSpPr/>
          <p:nvPr/>
        </p:nvCxnSpPr>
        <p:spPr>
          <a:xfrm flipH="1" flipV="1">
            <a:off x="696240" y="33858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 Box 406"/>
          <p:cNvSpPr/>
          <p:nvPr/>
        </p:nvSpPr>
        <p:spPr>
          <a:xfrm>
            <a:off x="619560" y="39132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46" name="直線矢印コネクタ 19"/>
          <p:cNvCxnSpPr/>
          <p:nvPr/>
        </p:nvCxnSpPr>
        <p:spPr>
          <a:xfrm flipH="1" flipV="1">
            <a:off x="1696320" y="3393720"/>
            <a:ext cx="359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 Box 406"/>
          <p:cNvSpPr/>
          <p:nvPr/>
        </p:nvSpPr>
        <p:spPr>
          <a:xfrm>
            <a:off x="1995120" y="3573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8" name="正方形/長方形 21"/>
          <p:cNvSpPr/>
          <p:nvPr/>
        </p:nvSpPr>
        <p:spPr>
          <a:xfrm>
            <a:off x="2928960" y="3600360"/>
            <a:ext cx="431640" cy="870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9" name="正方形/長方形 22"/>
          <p:cNvSpPr/>
          <p:nvPr/>
        </p:nvSpPr>
        <p:spPr>
          <a:xfrm>
            <a:off x="3218040" y="4327560"/>
            <a:ext cx="1425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0" name="正方形/長方形 23"/>
          <p:cNvSpPr/>
          <p:nvPr/>
        </p:nvSpPr>
        <p:spPr>
          <a:xfrm>
            <a:off x="3218040" y="3454560"/>
            <a:ext cx="142560" cy="1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1" name="正方形/長方形 24"/>
          <p:cNvSpPr/>
          <p:nvPr/>
        </p:nvSpPr>
        <p:spPr>
          <a:xfrm>
            <a:off x="3649680" y="34560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2" name="正方形/長方形 25"/>
          <p:cNvSpPr/>
          <p:nvPr/>
        </p:nvSpPr>
        <p:spPr>
          <a:xfrm>
            <a:off x="3792600" y="345600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3" name="正方形/長方形 26"/>
          <p:cNvSpPr/>
          <p:nvPr/>
        </p:nvSpPr>
        <p:spPr>
          <a:xfrm>
            <a:off x="3209760" y="4471920"/>
            <a:ext cx="1447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54" name="直線矢印コネクタ 27"/>
          <p:cNvCxnSpPr/>
          <p:nvPr/>
        </p:nvCxnSpPr>
        <p:spPr>
          <a:xfrm flipH="1" flipV="1">
            <a:off x="2712240" y="3193200"/>
            <a:ext cx="36108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直線矢印コネクタ 28"/>
          <p:cNvCxnSpPr/>
          <p:nvPr/>
        </p:nvCxnSpPr>
        <p:spPr>
          <a:xfrm flipH="1" flipV="1">
            <a:off x="2921760" y="401292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Text Box 406"/>
          <p:cNvSpPr/>
          <p:nvPr/>
        </p:nvSpPr>
        <p:spPr>
          <a:xfrm>
            <a:off x="2680200" y="43894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57" name="直線矢印コネクタ 30"/>
          <p:cNvCxnSpPr/>
          <p:nvPr/>
        </p:nvCxnSpPr>
        <p:spPr>
          <a:xfrm flipH="1" flipV="1">
            <a:off x="3497400" y="2997000"/>
            <a:ext cx="3589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 Box 406"/>
          <p:cNvSpPr/>
          <p:nvPr/>
        </p:nvSpPr>
        <p:spPr>
          <a:xfrm>
            <a:off x="3795480" y="32050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9" name="正方形/長方形 32"/>
          <p:cNvSpPr/>
          <p:nvPr/>
        </p:nvSpPr>
        <p:spPr>
          <a:xfrm>
            <a:off x="1344600" y="61484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1344600" y="6292800"/>
            <a:ext cx="1443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1" name="正方形/長方形 34"/>
          <p:cNvSpPr/>
          <p:nvPr/>
        </p:nvSpPr>
        <p:spPr>
          <a:xfrm>
            <a:off x="1778040" y="571644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2" name="正方形/長方形 35"/>
          <p:cNvSpPr/>
          <p:nvPr/>
        </p:nvSpPr>
        <p:spPr>
          <a:xfrm>
            <a:off x="1920960" y="5716440"/>
            <a:ext cx="144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3" name="正方形/長方形 37"/>
          <p:cNvSpPr/>
          <p:nvPr/>
        </p:nvSpPr>
        <p:spPr>
          <a:xfrm>
            <a:off x="1488960" y="5869080"/>
            <a:ext cx="432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64" name="直線矢印コネクタ 38"/>
          <p:cNvCxnSpPr/>
          <p:nvPr/>
        </p:nvCxnSpPr>
        <p:spPr>
          <a:xfrm flipH="1" flipV="1">
            <a:off x="984960" y="573372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正方形/長方形 42"/>
          <p:cNvSpPr/>
          <p:nvPr/>
        </p:nvSpPr>
        <p:spPr>
          <a:xfrm>
            <a:off x="1057320" y="586908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6" name="Text Box 406"/>
          <p:cNvSpPr/>
          <p:nvPr/>
        </p:nvSpPr>
        <p:spPr>
          <a:xfrm>
            <a:off x="2067480" y="5653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7" name="正方形/長方形 44"/>
          <p:cNvSpPr/>
          <p:nvPr/>
        </p:nvSpPr>
        <p:spPr>
          <a:xfrm>
            <a:off x="3002040" y="5438880"/>
            <a:ext cx="431640" cy="431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8" name="正方形/長方形 45"/>
          <p:cNvSpPr/>
          <p:nvPr/>
        </p:nvSpPr>
        <p:spPr>
          <a:xfrm>
            <a:off x="3433680" y="543708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9" name="正方形/長方形 46"/>
          <p:cNvSpPr/>
          <p:nvPr/>
        </p:nvSpPr>
        <p:spPr>
          <a:xfrm>
            <a:off x="3289320" y="615636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0" name="正方形/長方形 47"/>
          <p:cNvSpPr/>
          <p:nvPr/>
        </p:nvSpPr>
        <p:spPr>
          <a:xfrm>
            <a:off x="3289320" y="6300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1" name="正方形/長方形 48"/>
          <p:cNvSpPr/>
          <p:nvPr/>
        </p:nvSpPr>
        <p:spPr>
          <a:xfrm>
            <a:off x="3720960" y="5724360"/>
            <a:ext cx="14472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2" name="正方形/長方形 49"/>
          <p:cNvSpPr/>
          <p:nvPr/>
        </p:nvSpPr>
        <p:spPr>
          <a:xfrm>
            <a:off x="3865680" y="5724360"/>
            <a:ext cx="1429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3" name="正方形/長方形 51"/>
          <p:cNvSpPr/>
          <p:nvPr/>
        </p:nvSpPr>
        <p:spPr>
          <a:xfrm>
            <a:off x="3433680" y="5877000"/>
            <a:ext cx="432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4" name="Text Box 406"/>
          <p:cNvSpPr/>
          <p:nvPr/>
        </p:nvSpPr>
        <p:spPr>
          <a:xfrm>
            <a:off x="4011120" y="56610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avoiding merging candidate decision [simplification1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6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7" name="正方形/長方形 61"/>
          <p:cNvSpPr/>
          <p:nvPr/>
        </p:nvSpPr>
        <p:spPr>
          <a:xfrm>
            <a:off x="6033960" y="5446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8" name="正方形/長方形 62"/>
          <p:cNvSpPr/>
          <p:nvPr/>
        </p:nvSpPr>
        <p:spPr>
          <a:xfrm>
            <a:off x="6465960" y="5445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9" name="正方形/長方形 63"/>
          <p:cNvSpPr/>
          <p:nvPr/>
        </p:nvSpPr>
        <p:spPr>
          <a:xfrm>
            <a:off x="8337600" y="3833640"/>
            <a:ext cx="4316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0" name="正方形/長方形 64"/>
          <p:cNvSpPr/>
          <p:nvPr/>
        </p:nvSpPr>
        <p:spPr>
          <a:xfrm>
            <a:off x="6105600" y="38019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1" name="正方形/長方形 65"/>
          <p:cNvSpPr/>
          <p:nvPr/>
        </p:nvSpPr>
        <p:spPr>
          <a:xfrm>
            <a:off x="5961240" y="4519440"/>
            <a:ext cx="14436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2" name="正方形/長方形 66"/>
          <p:cNvSpPr/>
          <p:nvPr/>
        </p:nvSpPr>
        <p:spPr>
          <a:xfrm>
            <a:off x="5961240" y="466416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3" name="正方形/長方形 67"/>
          <p:cNvSpPr/>
          <p:nvPr/>
        </p:nvSpPr>
        <p:spPr>
          <a:xfrm>
            <a:off x="6826320" y="4087800"/>
            <a:ext cx="1429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4" name="正方形/長方形 68"/>
          <p:cNvSpPr/>
          <p:nvPr/>
        </p:nvSpPr>
        <p:spPr>
          <a:xfrm>
            <a:off x="6969240" y="40878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5" name="正方形/長方形 69"/>
          <p:cNvSpPr/>
          <p:nvPr/>
        </p:nvSpPr>
        <p:spPr>
          <a:xfrm>
            <a:off x="5961240" y="4079880"/>
            <a:ext cx="1443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6" name="正方形/長方形 70"/>
          <p:cNvSpPr/>
          <p:nvPr/>
        </p:nvSpPr>
        <p:spPr>
          <a:xfrm>
            <a:off x="6105600" y="4240080"/>
            <a:ext cx="863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7" name="Text Box 406"/>
          <p:cNvSpPr/>
          <p:nvPr/>
        </p:nvSpPr>
        <p:spPr>
          <a:xfrm>
            <a:off x="6871320" y="357372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8" name="正方形/長方形 76"/>
          <p:cNvSpPr/>
          <p:nvPr/>
        </p:nvSpPr>
        <p:spPr>
          <a:xfrm>
            <a:off x="7905600" y="3835440"/>
            <a:ext cx="432000" cy="87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9" name="正方形/長方形 77"/>
          <p:cNvSpPr/>
          <p:nvPr/>
        </p:nvSpPr>
        <p:spPr>
          <a:xfrm>
            <a:off x="8193240" y="456264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0" name="正方形/長方形 78"/>
          <p:cNvSpPr/>
          <p:nvPr/>
        </p:nvSpPr>
        <p:spPr>
          <a:xfrm>
            <a:off x="8193240" y="368928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1" name="正方形/長方形 79"/>
          <p:cNvSpPr/>
          <p:nvPr/>
        </p:nvSpPr>
        <p:spPr>
          <a:xfrm>
            <a:off x="8626320" y="369108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2" name="正方形/長方形 80"/>
          <p:cNvSpPr/>
          <p:nvPr/>
        </p:nvSpPr>
        <p:spPr>
          <a:xfrm>
            <a:off x="8769240" y="3691080"/>
            <a:ext cx="1447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3" name="正方形/長方形 81"/>
          <p:cNvSpPr/>
          <p:nvPr/>
        </p:nvSpPr>
        <p:spPr>
          <a:xfrm>
            <a:off x="8186760" y="47070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4" name="正方形/長方形 87"/>
          <p:cNvSpPr/>
          <p:nvPr/>
        </p:nvSpPr>
        <p:spPr>
          <a:xfrm>
            <a:off x="6321600" y="616428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6321600" y="6308640"/>
            <a:ext cx="14436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6" name="正方形/長方形 89"/>
          <p:cNvSpPr/>
          <p:nvPr/>
        </p:nvSpPr>
        <p:spPr>
          <a:xfrm>
            <a:off x="6753240" y="57326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7" name="正方形/長方形 90"/>
          <p:cNvSpPr/>
          <p:nvPr/>
        </p:nvSpPr>
        <p:spPr>
          <a:xfrm>
            <a:off x="6897600" y="573264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8" name="正方形/長方形 91"/>
          <p:cNvSpPr/>
          <p:nvPr/>
        </p:nvSpPr>
        <p:spPr>
          <a:xfrm>
            <a:off x="6330960" y="573264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9" name="正方形/長方形 92"/>
          <p:cNvSpPr/>
          <p:nvPr/>
        </p:nvSpPr>
        <p:spPr>
          <a:xfrm>
            <a:off x="6465960" y="5884920"/>
            <a:ext cx="43164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0" name="正方形/長方形 97"/>
          <p:cNvSpPr/>
          <p:nvPr/>
        </p:nvSpPr>
        <p:spPr>
          <a:xfrm>
            <a:off x="6033960" y="588492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1" name="Text Box 406"/>
          <p:cNvSpPr/>
          <p:nvPr/>
        </p:nvSpPr>
        <p:spPr>
          <a:xfrm>
            <a:off x="7736400" y="4889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2" name="線吹き出し 1 (枠付き) 97"/>
          <p:cNvSpPr/>
          <p:nvPr/>
        </p:nvSpPr>
        <p:spPr>
          <a:xfrm>
            <a:off x="5240160" y="836640"/>
            <a:ext cx="4392720" cy="2663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the avoided neighboring PU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using only PartMode of the curren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or the case of PU1 of PART_2NxN, PART_2NxnU, PART_2NxnD, neighboring PU_B1 is not added into merging candidate list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or the case of PU1 of PART_Nx2N, PART_nLx2N and PART_nRx2N, neighboring PU_A1 is not added into merging candidate 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duce the complexity on checking motion parameter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3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4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1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5" name="Text Box 406"/>
          <p:cNvSpPr/>
          <p:nvPr/>
        </p:nvSpPr>
        <p:spPr>
          <a:xfrm>
            <a:off x="266760" y="46530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6" name="直線コネクタ 88"/>
          <p:cNvSpPr/>
          <p:nvPr/>
        </p:nvSpPr>
        <p:spPr>
          <a:xfrm flipV="1">
            <a:off x="841320" y="4572000"/>
            <a:ext cx="2160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7" name="Text Box 406"/>
          <p:cNvSpPr/>
          <p:nvPr/>
        </p:nvSpPr>
        <p:spPr>
          <a:xfrm>
            <a:off x="1707120" y="4510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8" name="直線コネクタ 90"/>
          <p:cNvSpPr/>
          <p:nvPr/>
        </p:nvSpPr>
        <p:spPr>
          <a:xfrm flipH="1" flipV="1">
            <a:off x="1849320" y="4293720"/>
            <a:ext cx="14472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209" name="直線矢印コネクタ 39"/>
          <p:cNvCxnSpPr/>
          <p:nvPr/>
        </p:nvCxnSpPr>
        <p:spPr>
          <a:xfrm flipH="1" flipV="1">
            <a:off x="78516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直線矢印コネクタ 41"/>
          <p:cNvCxnSpPr/>
          <p:nvPr/>
        </p:nvCxnSpPr>
        <p:spPr>
          <a:xfrm flipH="1" flipV="1">
            <a:off x="127260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直線矢印コネクタ 38"/>
          <p:cNvCxnSpPr/>
          <p:nvPr/>
        </p:nvCxnSpPr>
        <p:spPr>
          <a:xfrm flipH="1" flipV="1">
            <a:off x="1848600" y="549864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正方形/長方形 34"/>
          <p:cNvSpPr/>
          <p:nvPr/>
        </p:nvSpPr>
        <p:spPr>
          <a:xfrm>
            <a:off x="1344600" y="573408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213" name="直線矢印コネクタ 39"/>
          <p:cNvCxnSpPr/>
          <p:nvPr/>
        </p:nvCxnSpPr>
        <p:spPr>
          <a:xfrm flipH="1" flipV="1">
            <a:off x="2712240" y="544464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直線矢印コネクタ 41"/>
          <p:cNvCxnSpPr/>
          <p:nvPr/>
        </p:nvCxnSpPr>
        <p:spPr>
          <a:xfrm flipH="1" flipV="1">
            <a:off x="278532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直線矢印コネクタ 38"/>
          <p:cNvCxnSpPr/>
          <p:nvPr/>
        </p:nvCxnSpPr>
        <p:spPr>
          <a:xfrm flipH="1" flipV="1">
            <a:off x="3360240" y="5236920"/>
            <a:ext cx="14544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直線矢印コネクタ 38"/>
          <p:cNvCxnSpPr/>
          <p:nvPr/>
        </p:nvCxnSpPr>
        <p:spPr>
          <a:xfrm flipH="1" flipV="1">
            <a:off x="3793320" y="550188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直線矢印コネクタ 38"/>
          <p:cNvCxnSpPr/>
          <p:nvPr/>
        </p:nvCxnSpPr>
        <p:spPr>
          <a:xfrm flipH="1" flipV="1">
            <a:off x="3217680" y="6102000"/>
            <a:ext cx="1432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正方形/長方形 48"/>
          <p:cNvSpPr/>
          <p:nvPr/>
        </p:nvSpPr>
        <p:spPr>
          <a:xfrm>
            <a:off x="3289320" y="57326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19" name="Text Box 406"/>
          <p:cNvSpPr/>
          <p:nvPr/>
        </p:nvSpPr>
        <p:spPr>
          <a:xfrm>
            <a:off x="3435120" y="6310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0" name="直線コネクタ 111"/>
          <p:cNvSpPr/>
          <p:nvPr/>
        </p:nvSpPr>
        <p:spPr>
          <a:xfrm flipV="1">
            <a:off x="6923160" y="3836520"/>
            <a:ext cx="21600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1" name="Text Box 406"/>
          <p:cNvSpPr/>
          <p:nvPr/>
        </p:nvSpPr>
        <p:spPr>
          <a:xfrm>
            <a:off x="5248440" y="482616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2" name="直線コネクタ 114"/>
          <p:cNvSpPr/>
          <p:nvPr/>
        </p:nvSpPr>
        <p:spPr>
          <a:xfrm flipV="1">
            <a:off x="5823000" y="4744800"/>
            <a:ext cx="2160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3" name="Text Box 406"/>
          <p:cNvSpPr/>
          <p:nvPr/>
        </p:nvSpPr>
        <p:spPr>
          <a:xfrm>
            <a:off x="6655320" y="4726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4" name="直線コネクタ 117"/>
          <p:cNvSpPr/>
          <p:nvPr/>
        </p:nvSpPr>
        <p:spPr>
          <a:xfrm flipH="1" flipV="1">
            <a:off x="6797520" y="4508280"/>
            <a:ext cx="1447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5" name="直線コネクタ 118"/>
          <p:cNvSpPr/>
          <p:nvPr/>
        </p:nvSpPr>
        <p:spPr>
          <a:xfrm flipV="1">
            <a:off x="8047080" y="4629240"/>
            <a:ext cx="21600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6" name="Text Box 406"/>
          <p:cNvSpPr/>
          <p:nvPr/>
        </p:nvSpPr>
        <p:spPr>
          <a:xfrm>
            <a:off x="703080" y="436248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7" name="Text Box 406"/>
          <p:cNvSpPr/>
          <p:nvPr/>
        </p:nvSpPr>
        <p:spPr>
          <a:xfrm>
            <a:off x="700560" y="422100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8" name="Text Box 406"/>
          <p:cNvSpPr/>
          <p:nvPr/>
        </p:nvSpPr>
        <p:spPr>
          <a:xfrm>
            <a:off x="1924200" y="394956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9" name="Text Box 406"/>
          <p:cNvSpPr/>
          <p:nvPr/>
        </p:nvSpPr>
        <p:spPr>
          <a:xfrm>
            <a:off x="1598040" y="379728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0" name="Text Box 406"/>
          <p:cNvSpPr/>
          <p:nvPr/>
        </p:nvSpPr>
        <p:spPr>
          <a:xfrm>
            <a:off x="708840" y="37958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1" name="Text Box 406"/>
          <p:cNvSpPr/>
          <p:nvPr/>
        </p:nvSpPr>
        <p:spPr>
          <a:xfrm>
            <a:off x="5676480" y="458964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2" name="Text Box 406"/>
          <p:cNvSpPr/>
          <p:nvPr/>
        </p:nvSpPr>
        <p:spPr>
          <a:xfrm>
            <a:off x="5674320" y="444816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3" name="Text Box 406"/>
          <p:cNvSpPr/>
          <p:nvPr/>
        </p:nvSpPr>
        <p:spPr>
          <a:xfrm>
            <a:off x="6897960" y="417672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4" name="Text Box 406"/>
          <p:cNvSpPr/>
          <p:nvPr/>
        </p:nvSpPr>
        <p:spPr>
          <a:xfrm>
            <a:off x="6571800" y="40244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5" name="Text Box 406"/>
          <p:cNvSpPr/>
          <p:nvPr/>
        </p:nvSpPr>
        <p:spPr>
          <a:xfrm>
            <a:off x="5682600" y="40226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6428-D2D4-489F-B104-26F804E6225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1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8" name="テキスト ボックス 6"/>
          <p:cNvSpPr/>
          <p:nvPr/>
        </p:nvSpPr>
        <p:spPr>
          <a:xfrm>
            <a:off x="6176880" y="1628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gligible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880" y="2637000"/>
            <a:ext cx="3909960" cy="3767040"/>
          </a:xfrm>
          <a:prstGeom prst="rect">
            <a:avLst/>
          </a:prstGeom>
          <a:ln w="0">
            <a:noFill/>
          </a:ln>
        </p:spPr>
      </p:pic>
      <p:sp>
        <p:nvSpPr>
          <p:cNvPr id="242" name="線吹き出し 1 (枠付き) 97"/>
          <p:cNvSpPr/>
          <p:nvPr/>
        </p:nvSpPr>
        <p:spPr>
          <a:xfrm>
            <a:off x="128520" y="836640"/>
            <a:ext cx="4537080" cy="1655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reating AMVP candidate list, to use scaling calculation for upper positions is allowed only if left positions were not available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aling calculation was not used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parallel derivation of the spatial candidates is assumed, this dependency would produce some waiting time to derive the spatial candidate of upper position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3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4" name="線吹き出し 1 (枠付き) 97"/>
          <p:cNvSpPr/>
          <p:nvPr/>
        </p:nvSpPr>
        <p:spPr>
          <a:xfrm>
            <a:off x="5240160" y="836640"/>
            <a:ext cx="4392720" cy="1655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if all PUs in left position are not available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PredMode are MODE_INTRA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ameter isScaledFlagLX is set to 0 and the scaling calculation is allowed to use for upper position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dependency for a parallel derivation of spatial candidate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5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6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2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AMVP spatial scaling candidate [simplification2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13240" y="2378160"/>
            <a:ext cx="3919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DB9-75C5-432A-B001-58EA04BE807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0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2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44880" y="2241720"/>
            <a:ext cx="4446360" cy="4500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zero motion vector merging candidate [simplification3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6" name="線吹き出し 1 (枠付き) 97"/>
          <p:cNvSpPr/>
          <p:nvPr/>
        </p:nvSpPr>
        <p:spPr>
          <a:xfrm>
            <a:off x="128520" y="836640"/>
            <a:ext cx="4537080" cy="122400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ng zero motion vector merging candidate, it’s checked whether that new candidate has already been included in the mergeCand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ing process would cause some complexity issue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7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8" name="線吹き出し 1 (枠付き) 97"/>
          <p:cNvSpPr/>
          <p:nvPr/>
        </p:nvSpPr>
        <p:spPr>
          <a:xfrm>
            <a:off x="5240160" y="836640"/>
            <a:ext cx="4392720" cy="180036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checking process from the derivation process of zero vector 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parameter zeroCnt, which indicates the maximum number of the duplicate checking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vailable zeroCand are added to the mergeCandList in order not to produce empty space in i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duce the number of duplicate checking proces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9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0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3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1" name="乗算記号 11"/>
          <p:cNvSpPr/>
          <p:nvPr/>
        </p:nvSpPr>
        <p:spPr>
          <a:xfrm>
            <a:off x="1857240" y="4149720"/>
            <a:ext cx="2664000" cy="647640"/>
          </a:xfrm>
          <a:custGeom>
            <a:avLst/>
            <a:gdLst>
              <a:gd name="textAreaLeft" fmla="*/ 621720 w 2664000"/>
              <a:gd name="textAreaRight" fmla="*/ 2042280 w 2664000"/>
              <a:gd name="textAreaTop" fmla="*/ 81360 h 647640"/>
              <a:gd name="textAreaBottom" fmla="*/ 566280 h 647640"/>
            </a:gdLst>
            <a:ahLst/>
            <a:rect l="textAreaLeft" t="textAreaTop" r="textAreaRight" b="textAreaBottom"/>
            <a:pathLst>
              <a:path w="2664296" h="648072">
                <a:moveTo>
                  <a:pt x="621884" y="229705"/>
                </a:moveTo>
                <a:lnTo>
                  <a:pt x="657910" y="81597"/>
                </a:lnTo>
                <a:lnTo>
                  <a:pt x="1332148" y="245600"/>
                </a:lnTo>
                <a:lnTo>
                  <a:pt x="2006386" y="81597"/>
                </a:lnTo>
                <a:lnTo>
                  <a:pt x="2042412" y="229705"/>
                </a:lnTo>
                <a:lnTo>
                  <a:pt x="1654605" y="324036"/>
                </a:lnTo>
                <a:lnTo>
                  <a:pt x="2042412" y="418367"/>
                </a:lnTo>
                <a:lnTo>
                  <a:pt x="2006386" y="566475"/>
                </a:lnTo>
                <a:lnTo>
                  <a:pt x="1332148" y="402472"/>
                </a:lnTo>
                <a:lnTo>
                  <a:pt x="657910" y="566475"/>
                </a:lnTo>
                <a:lnTo>
                  <a:pt x="621884" y="418367"/>
                </a:lnTo>
                <a:lnTo>
                  <a:pt x="1009691" y="3240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2" name="乗算記号 12"/>
          <p:cNvSpPr/>
          <p:nvPr/>
        </p:nvSpPr>
        <p:spPr>
          <a:xfrm>
            <a:off x="4160880" y="4149720"/>
            <a:ext cx="2663640" cy="647640"/>
          </a:xfrm>
          <a:custGeom>
            <a:avLst/>
            <a:gdLst>
              <a:gd name="textAreaLeft" fmla="*/ 621720 w 2663640"/>
              <a:gd name="textAreaRight" fmla="*/ 2041920 w 2663640"/>
              <a:gd name="textAreaTop" fmla="*/ 81360 h 647640"/>
              <a:gd name="textAreaBottom" fmla="*/ 566280 h 647640"/>
            </a:gdLst>
            <a:ahLst/>
            <a:rect l="textAreaLeft" t="textAreaTop" r="textAreaRight" b="textAreaBottom"/>
            <a:pathLst>
              <a:path w="2664296" h="648072">
                <a:moveTo>
                  <a:pt x="621884" y="229705"/>
                </a:moveTo>
                <a:lnTo>
                  <a:pt x="657910" y="81597"/>
                </a:lnTo>
                <a:lnTo>
                  <a:pt x="1332148" y="245600"/>
                </a:lnTo>
                <a:lnTo>
                  <a:pt x="2006386" y="81597"/>
                </a:lnTo>
                <a:lnTo>
                  <a:pt x="2042412" y="229705"/>
                </a:lnTo>
                <a:lnTo>
                  <a:pt x="1654605" y="324036"/>
                </a:lnTo>
                <a:lnTo>
                  <a:pt x="2042412" y="418367"/>
                </a:lnTo>
                <a:lnTo>
                  <a:pt x="2006386" y="566475"/>
                </a:lnTo>
                <a:lnTo>
                  <a:pt x="1332148" y="402472"/>
                </a:lnTo>
                <a:lnTo>
                  <a:pt x="657910" y="566475"/>
                </a:lnTo>
                <a:lnTo>
                  <a:pt x="621884" y="418367"/>
                </a:lnTo>
                <a:lnTo>
                  <a:pt x="1009691" y="3240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3" name="Text Box 406"/>
          <p:cNvSpPr/>
          <p:nvPr/>
        </p:nvSpPr>
        <p:spPr>
          <a:xfrm>
            <a:off x="5607720" y="39337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duplicate checking proces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4" name="乗算記号 15"/>
          <p:cNvSpPr/>
          <p:nvPr/>
        </p:nvSpPr>
        <p:spPr>
          <a:xfrm>
            <a:off x="2557440" y="5767560"/>
            <a:ext cx="1297080" cy="215640"/>
          </a:xfrm>
          <a:custGeom>
            <a:avLst/>
            <a:gdLst>
              <a:gd name="textAreaLeft" fmla="*/ 307080 w 1297080"/>
              <a:gd name="textAreaRight" fmla="*/ 990000 w 1297080"/>
              <a:gd name="textAreaTop" fmla="*/ 26640 h 215640"/>
              <a:gd name="textAreaBottom" fmla="*/ 189000 h 215640"/>
            </a:gdLst>
            <a:ahLst/>
            <a:rect l="textAreaLeft" t="textAreaTop" r="textAreaRight" b="textAreaBottom"/>
            <a:pathLst>
              <a:path w="1296144" h="216024">
                <a:moveTo>
                  <a:pt x="307125" y="76942"/>
                </a:moveTo>
                <a:lnTo>
                  <a:pt x="315478" y="26825"/>
                </a:lnTo>
                <a:lnTo>
                  <a:pt x="648072" y="82257"/>
                </a:lnTo>
                <a:lnTo>
                  <a:pt x="980666" y="26825"/>
                </a:lnTo>
                <a:lnTo>
                  <a:pt x="989019" y="76942"/>
                </a:lnTo>
                <a:lnTo>
                  <a:pt x="802601" y="108012"/>
                </a:lnTo>
                <a:lnTo>
                  <a:pt x="989019" y="139082"/>
                </a:lnTo>
                <a:lnTo>
                  <a:pt x="980666" y="189199"/>
                </a:lnTo>
                <a:lnTo>
                  <a:pt x="648072" y="133767"/>
                </a:lnTo>
                <a:lnTo>
                  <a:pt x="315478" y="189199"/>
                </a:lnTo>
                <a:lnTo>
                  <a:pt x="307125" y="139082"/>
                </a:lnTo>
                <a:lnTo>
                  <a:pt x="493543" y="1080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5" name="Text Box 406"/>
          <p:cNvSpPr/>
          <p:nvPr/>
        </p:nvSpPr>
        <p:spPr>
          <a:xfrm>
            <a:off x="4453560" y="58053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zeroCn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365-0803-4A3D-80FF-F593F177584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7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44520" y="56340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28520" y="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3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1"/>
          <a:stretch/>
        </p:blipFill>
        <p:spPr>
          <a:xfrm>
            <a:off x="2505240" y="1989000"/>
            <a:ext cx="48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7A7-86A2-41DC-9BB4-3E14F74EF28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2" name="テキスト ボックス 6"/>
          <p:cNvSpPr/>
          <p:nvPr/>
        </p:nvSpPr>
        <p:spPr>
          <a:xfrm>
            <a:off x="6176880" y="1628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combination on simplification1,2,3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5240" y="1989000"/>
            <a:ext cx="48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11-27T22:26:16Z</dcterms:modified>
  <cp:revision>2219</cp:revision>
  <dc:subject/>
  <dc:title>Title</dc:title>
</cp:coreProperties>
</file>