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712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1520" y="-36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6720" y="766800"/>
            <a:ext cx="48988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418680"/>
            <a:ext cx="296712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62B5-E879-456C-8910-053E7E4EFDC6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1520" y="9418680"/>
            <a:ext cx="2890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487E-3F5E-4B83-A8B9-094E09296214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8160" y="766800"/>
            <a:ext cx="4899240" cy="3674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2960" y="4747680"/>
            <a:ext cx="49464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4A6A-D530-49B4-8C5A-AAF8B897B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35D5-47EE-4129-A7A0-4C3D7E69E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77C4-954A-47AE-9D82-2EA97016B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E55D-E2B6-44A3-B7B2-6CE14E577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066E-5D51-42C7-B1ED-F616BDA14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4D42-ADF0-40D9-943F-B17957A5E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F400-A436-411F-B34A-9ED9F2212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0219-5BF8-4959-B686-EDBB2A2A7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6CDE-A47A-42A6-A844-FB2D7FE2C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0A842-AFBD-4480-855D-155D17AD7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F2FD-5C6E-41A2-8B4C-88BAE2575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66B7-21CF-4B2B-B030-2D3182AD9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9575-D87F-43AA-935F-B127E296A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849240"/>
            <a:ext cx="86421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  <a:ea typeface="HY헤드라인M"/>
              </a:rPr>
              <a:t>Table reduction and improvement of last position coding in CAVL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2db9"/>
                </a:solidFill>
                <a:latin typeface="Tahoma"/>
                <a:ea typeface="HY헤드라인M"/>
              </a:rPr>
              <a:t>(JCTVC-G537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4292280"/>
            <a:ext cx="8305920" cy="20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yul Kim, Youngo Park, JungHun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su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0032-373D-4DB8-BDCB-4E71635005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reduction (336 byt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136 byte (59.5%)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ll U and V use the same counter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Block size based counters are us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efficiency (high chroma gain) and no complexity incre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2%/-1.3%/-1.5% for AI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1%/-0.7%/-0.8% for RA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2%/0.0%/-0.3%  for LD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ss-ch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G838 by Sharp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431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Algorithm description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514A-00F5-4A31-8858-E337AF71D5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993000" cy="4564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개체 5"/>
          <p:cNvGraphicFramePr/>
          <p:nvPr/>
        </p:nvGraphicFramePr>
        <p:xfrm>
          <a:off x="3059280" y="4581360"/>
          <a:ext cx="5943600" cy="184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개체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59280" y="4581360"/>
                    <a:ext cx="59436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Experimental result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839C-5297-4776-9520-33B4C7B817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1440" y="110808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on condition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Table reduction (336 bytes to 136 bytes)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No complexity increase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" name="그룹 7"/>
          <p:cNvGrpSpPr/>
          <p:nvPr/>
        </p:nvGrpSpPr>
        <p:grpSpPr>
          <a:xfrm>
            <a:off x="179280" y="2492280"/>
            <a:ext cx="8425080" cy="2881440"/>
            <a:chOff x="179280" y="2492280"/>
            <a:chExt cx="8425080" cy="2881440"/>
          </a:xfrm>
        </p:grpSpPr>
        <p:pic>
          <p:nvPicPr>
            <p:cNvPr id="105" name="Picture 10" descr=""/>
            <p:cNvPicPr/>
            <p:nvPr/>
          </p:nvPicPr>
          <p:blipFill>
            <a:blip r:embed="rId1"/>
            <a:stretch/>
          </p:blipFill>
          <p:spPr>
            <a:xfrm>
              <a:off x="179280" y="3023280"/>
              <a:ext cx="1018080" cy="235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1" descr=""/>
            <p:cNvPicPr/>
            <p:nvPr/>
          </p:nvPicPr>
          <p:blipFill>
            <a:blip r:embed="rId2"/>
            <a:stretch/>
          </p:blipFill>
          <p:spPr>
            <a:xfrm>
              <a:off x="1197360" y="2492280"/>
              <a:ext cx="247284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2" descr=""/>
            <p:cNvPicPr/>
            <p:nvPr/>
          </p:nvPicPr>
          <p:blipFill>
            <a:blip r:embed="rId3"/>
            <a:stretch/>
          </p:blipFill>
          <p:spPr>
            <a:xfrm>
              <a:off x="3670200" y="2492280"/>
              <a:ext cx="247284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3" descr=""/>
            <p:cNvPicPr/>
            <p:nvPr/>
          </p:nvPicPr>
          <p:blipFill>
            <a:blip r:embed="rId4"/>
            <a:stretch/>
          </p:blipFill>
          <p:spPr>
            <a:xfrm>
              <a:off x="6131520" y="2492280"/>
              <a:ext cx="2472840" cy="287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F1FC-8A5C-4963-BFF2-E56284AFA2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reduction (339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6) and performance improv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ing efficiency impac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2%/-1.3%/-1.5% for AI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1%/-0.7%/-0.8% for RA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-0.2%/0.0%/-0.3%  for LD_LC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No complexity increase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recommend the proposed scheme to be adopted into next HM fo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reduction and improvement of last position coding in CAVL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Windows 사용자</cp:lastModifiedBy>
  <dcterms:modified xsi:type="dcterms:W3CDTF">2011-11-14T13:36:30Z</dcterms:modified>
  <cp:revision>4747</cp:revision>
  <dc:subject/>
  <dc:title>Visual SNHC Tools</dc:title>
</cp:coreProperties>
</file>