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5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60440" y="-360"/>
            <a:ext cx="30258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41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5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60440" y="9713520"/>
            <a:ext cx="30258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DAA9-AA88-4A03-B1B9-D4DDE14BEFC7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060800" y="9713880"/>
            <a:ext cx="302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6AEE-9E06-496D-AC81-579F5297A7EA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1592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A3E0-ED87-458C-8566-AB2850BA3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E519-8843-4EC4-826C-BB747F29B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6E40-1B6A-47D2-9A87-BC7BAE69C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12E0-891B-45D4-891B-285E40DF8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4339-16ED-4345-BF61-BE357A195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4658-D030-42EB-B1E3-3BFDD921C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284E-F67F-41CF-90DD-D214CF2CE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33AE-A291-4005-A09C-E923ECEC9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268E-EAD6-40EB-8E49-D9105ECED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BE7F-1858-4D41-BD0D-10F255362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2E74-D0C7-421D-A69B-9FAEA208E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9F010-D639-44CF-A77A-2CF914920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0651-C261-4774-A5D1-79B13E2034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42800" y="3379320"/>
            <a:ext cx="830592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ngo Pa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yul Ki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-Koo Ki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wang Pyo Cho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ongHoon Pa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su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50920" y="58572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  <a:ea typeface="HY헤드라인M"/>
              </a:rPr>
              <a:t>AHG21: Combined signaling for reference picture set</a:t>
            </a:r>
            <a:br>
              <a:rPr sz="3600"/>
            </a:br>
            <a:r>
              <a:rPr b="1" lang="en-US" sz="3600" spc="-1" strike="noStrike">
                <a:solidFill>
                  <a:srgbClr val="2d2db9"/>
                </a:solidFill>
                <a:latin typeface="Tahoma"/>
                <a:ea typeface="HY헤드라인M"/>
              </a:rPr>
              <a:t>(JCTVC-G526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urrent AHG21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encoder wants 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DD just one reference picture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predefined reference picture set (RPS) in picture parameter set (PPS), the only way is 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SEND the whole RPS in slice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ange of “delta_poc_lt_minus1[i]”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limited up to 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(6553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We can not keep over (2</a:t>
            </a:r>
            <a:r>
              <a:rPr b="0" lang="en-US" sz="1800" spc="-1" strike="noStrike" baseline="30000">
                <a:solidFill>
                  <a:srgbClr val="000066"/>
                </a:solidFill>
                <a:latin typeface="맑은 고딕"/>
              </a:rPr>
              <a:t>16</a:t>
            </a: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 + 1) long distance reference picture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BE06-C4AF-420B-8D97-9BB267C9E1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676440" y="2075040"/>
            <a:ext cx="7638840" cy="162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852480" y="4605480"/>
            <a:ext cx="7715160" cy="178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urrent AHG21 Syntax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9541-38B8-4A8D-88DC-48A10D8706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50920" y="3213000"/>
            <a:ext cx="6305400" cy="3100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6324480" cy="214488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2"/>
          <p:cNvSpPr/>
          <p:nvPr/>
        </p:nvSpPr>
        <p:spPr>
          <a:xfrm>
            <a:off x="898560" y="2459160"/>
            <a:ext cx="5030640" cy="5745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직사각형 13"/>
          <p:cNvSpPr/>
          <p:nvPr/>
        </p:nvSpPr>
        <p:spPr>
          <a:xfrm>
            <a:off x="919080" y="4730760"/>
            <a:ext cx="4989600" cy="13302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타원 14"/>
          <p:cNvSpPr/>
          <p:nvPr/>
        </p:nvSpPr>
        <p:spPr>
          <a:xfrm>
            <a:off x="5175360" y="5284800"/>
            <a:ext cx="363600" cy="223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ed Syntax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C935-8833-46DC-A538-85BDB1D513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01520" y="2476440"/>
            <a:ext cx="6305760" cy="4245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755640" y="866880"/>
            <a:ext cx="5040360" cy="15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al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c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unctionality for adding one or two reference pictures in slice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Encode “delta_poc_combined_ref_pic[i]” as </a:t>
            </a:r>
            <a:r>
              <a:rPr b="0" lang="en-US" sz="1800" spc="-1" strike="noStrike">
                <a:solidFill>
                  <a:srgbClr val="ff0000"/>
                </a:solidFill>
                <a:latin typeface="맑은 고딕"/>
              </a:rPr>
              <a:t>SE(V)</a:t>
            </a: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 to represent positive and negative difference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POC of reference picture will be calculated as “Current POC + delta_poc_combined_ref_pic[i]”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</p:txBody>
      </p:sp>
      <p:sp>
        <p:nvSpPr>
          <p:cNvPr id="110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6AAA-B45F-477F-9FA8-32B4FC6AE4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116000" y="3271680"/>
            <a:ext cx="6473880" cy="21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al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c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unctionality for supporting long distance reference pi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When “delta_poc_combined_ref_pic[i]” is equal to </a:t>
            </a:r>
            <a:r>
              <a:rPr b="0" lang="en-US" sz="1800" spc="-1" strike="noStrike">
                <a:solidFill>
                  <a:srgbClr val="ff0000"/>
                </a:solidFill>
                <a:latin typeface="맑은 고딕"/>
              </a:rPr>
              <a:t>0</a:t>
            </a: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, it means that this is </a:t>
            </a:r>
            <a:r>
              <a:rPr b="0" lang="en-US" sz="1800" spc="-1" strike="noStrike">
                <a:solidFill>
                  <a:srgbClr val="ff0000"/>
                </a:solidFill>
                <a:latin typeface="맑은 고딕"/>
              </a:rPr>
              <a:t>special case for long distance reference picture representation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In this case, read (delta_poc_combined_ref_pic_len_minus16 + 16) bits more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Then, the read value could be difference POC value for long distance pictures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If the read value is 0, then read again as the same amount of bits more to extend the delta POC value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457200" indent="-45720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15E4-680F-428B-8C91-D7620EFE81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al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3560" y="895680"/>
            <a:ext cx="8876880" cy="247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c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unctionality for supporting long distance reference pi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5D15-FB3D-455E-A276-2E77940DC4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855720" y="1268280"/>
            <a:ext cx="7748640" cy="188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534960" y="3201840"/>
            <a:ext cx="3637080" cy="2675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4856040" y="3225960"/>
            <a:ext cx="3819600" cy="2633400"/>
          </a:xfrm>
          <a:prstGeom prst="rect">
            <a:avLst/>
          </a:prstGeom>
          <a:ln w="0">
            <a:noFill/>
          </a:ln>
        </p:spPr>
      </p:pic>
      <p:sp>
        <p:nvSpPr>
          <p:cNvPr id="121" name="직선 연결선 11"/>
          <p:cNvSpPr/>
          <p:nvPr/>
        </p:nvSpPr>
        <p:spPr>
          <a:xfrm flipH="1">
            <a:off x="4168440" y="3506760"/>
            <a:ext cx="687240" cy="324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4098960" y="3201840"/>
            <a:ext cx="8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Excep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265680" y="5877000"/>
            <a:ext cx="873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Note: Upper example supposes that the bit length for exception case is 8 bits for simple explana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t is though that minimum bit length </a:t>
            </a:r>
            <a:r>
              <a:rPr b="1" lang="ko-K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or exception case will be better to be 16 bi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recommended discussing combined signaling in AHG2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recommend that the limitation for long-distance picture should be rem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POC difference should be supported up to Maximum POC value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highly recommended that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IMP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ference picture buffer management an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MPA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yntax is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It is asserted that one of motivation in JCTVC-F493 was for decoder simplification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A457-1FC7-43A6-AE69-AF7E62838A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" y="75960"/>
            <a:ext cx="907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ents on Long-term Reference Pictu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VC, shot-term and long-term reference picture wer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ifferently process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DPB and decoding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recommended 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UNIFY the decoding proces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reference picture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or implementation SIMPLIC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il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KEEPING the functionality that is referring to long-distance reference pi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Marked as “long-term reference picture” in DPB via MMCO command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MMCO command is not valid in AHG21 any more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MV Scaling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Consideration for long distance reference picture in MV scaling has no effect 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JCTVC-G551 [Restriction on motion vector scaling for Merge and AMVP]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3" marL="1600200" indent="-228600"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0.0%(RAHE) 0.0%(RALC) -0.1%(LDHE) 0.0%(LDLC) -0.1%(LPHE) -0.1%(LPLC)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Weighted Prediction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WP is not ready for HM but simple restriction may solve the problem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Reference picture list initialization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맑은 고딕"/>
              </a:rPr>
              <a:t>Reference picture reordering can be sufficient</a:t>
            </a:r>
            <a:endParaRPr b="0" lang="en-US" sz="1600" spc="-1" strike="noStrike">
              <a:solidFill>
                <a:srgbClr val="3333cc"/>
              </a:solidFill>
              <a:latin typeface="맑은 고딕"/>
            </a:endParaRPr>
          </a:p>
        </p:txBody>
      </p:sp>
      <p:sp>
        <p:nvSpPr>
          <p:cNvPr id="129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5201-B9E4-4F08-B077-63351B23F5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8:46:06Z</dcterms:created>
  <dc:creator>Young-O Park</dc:creator>
  <dc:description/>
  <dc:language>en-US</dc:language>
  <cp:lastModifiedBy>Youngo</cp:lastModifiedBy>
  <cp:lastPrinted>2011-07-07T06:41:04Z</cp:lastPrinted>
  <dcterms:modified xsi:type="dcterms:W3CDTF">2011-11-22T13:58:12Z</dcterms:modified>
  <cp:revision>130</cp:revision>
  <dc:subject/>
  <dc:title>PowerPoint 프레젠테이션</dc:title>
</cp:coreProperties>
</file>