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529888" cy="8002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941040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27200" y="4427640"/>
            <a:ext cx="941040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549400" y="176832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27200" y="442764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549400" y="442764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30297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08880" y="1768320"/>
            <a:ext cx="30297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090560" y="1768320"/>
            <a:ext cx="30297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27200" y="4427640"/>
            <a:ext cx="30297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08880" y="4427640"/>
            <a:ext cx="30297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7090560" y="4427640"/>
            <a:ext cx="30297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27200" y="1768320"/>
            <a:ext cx="9410400" cy="50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94104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459216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549400" y="1768320"/>
            <a:ext cx="459216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27200" y="39240"/>
            <a:ext cx="94104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49400" y="1768320"/>
            <a:ext cx="459216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27200" y="442764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459216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49400" y="176832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549400" y="442764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49400" y="176832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27200" y="4427640"/>
            <a:ext cx="941040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800280" y="7569360"/>
          <a:ext cx="1800000" cy="176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0280" y="7569360"/>
                    <a:ext cx="1800000" cy="17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-2224080" y="0"/>
            <a:ext cx="2095560" cy="87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封面英文标题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字体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:Arial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大小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:47p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颜色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黑色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反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封面中文标题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字体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黑体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大小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:40-47p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颜色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黑色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反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英文内页标题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字体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:Ar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大小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:30-35p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颜色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: R153 G0 B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英文内页正文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字体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: Aria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大小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:18-24p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颜色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:R0 G0 B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中文内页标题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字体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黑体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大小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:35p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颜色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: R153 G0 B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中文内页正文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字体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细黑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大小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:22-24p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颜色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:R0 G0 B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4"/>
          <a:stretch/>
        </p:blipFill>
        <p:spPr>
          <a:xfrm>
            <a:off x="8504280" y="7481880"/>
            <a:ext cx="1728720" cy="358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5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727200" y="1768320"/>
            <a:ext cx="94104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649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31920">
              <a:spcBef>
                <a:spcPts val="649"/>
              </a:spcBef>
              <a:buClr>
                <a:srgbClr val="cc0000"/>
              </a:buClr>
              <a:buFont typeface="Wingdings" charset="2"/>
              <a:buChar char="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24080" indent="-265320">
              <a:spcBef>
                <a:spcPts val="649"/>
              </a:spcBef>
              <a:buClr>
                <a:srgbClr val="99cc00"/>
              </a:buClr>
              <a:buSzPct val="12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852560" indent="-264960">
              <a:spcBef>
                <a:spcPts val="649"/>
              </a:spcBef>
              <a:buClr>
                <a:srgbClr val="3333ff"/>
              </a:buClr>
              <a:buFont typeface="Wingdings" charset="2"/>
              <a:buChar char="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382840" indent="-264960"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382840" indent="-264960">
              <a:spcBef>
                <a:spcPts val="649"/>
              </a:spcBef>
              <a:buSzPct val="100000"/>
              <a:buBlip>
                <a:blip r:embed="rId6"/>
              </a:buBlip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382840" indent="-264960"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048280" y="7467480"/>
            <a:ext cx="123336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FrutigerNext LT Medium"/>
                <a:ea typeface="MS PGothic"/>
              </a:defRPr>
            </a:lvl1pPr>
          </a:lstStyle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  <a:ea typeface="MS PGothic"/>
              </a:rPr>
              <a:t>Page </a:t>
            </a:r>
            <a:fld id="{F26F4C69-6892-4C58-BE7A-FAE34B6CCCA4}" type="slidenum">
              <a:rPr b="0" lang="de-DE" sz="1200" spc="-1" strike="noStrike">
                <a:solidFill>
                  <a:srgbClr val="000000"/>
                </a:solidFill>
                <a:latin typeface="FrutigerNext LT Medium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1336680"/>
            <a:ext cx="10528200" cy="71280"/>
          </a:xfrm>
          <a:prstGeom prst="rect">
            <a:avLst/>
          </a:prstGeom>
          <a:gradFill rotWithShape="0">
            <a:gsLst>
              <a:gs pos="0">
                <a:srgbClr val="3333ff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7313760"/>
            <a:ext cx="10528200" cy="71280"/>
          </a:xfrm>
          <a:prstGeom prst="rect">
            <a:avLst/>
          </a:prstGeom>
          <a:gradFill rotWithShape="0">
            <a:gsLst>
              <a:gs pos="0">
                <a:srgbClr val="3333ff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10528200" cy="800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28200" cy="790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" name=""/>
          <p:cNvGraphicFramePr/>
          <p:nvPr/>
        </p:nvGraphicFramePr>
        <p:xfrm>
          <a:off x="655560" y="7313760"/>
          <a:ext cx="2448000" cy="149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5560" y="7313760"/>
                    <a:ext cx="2448000" cy="14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7856640" y="7169040"/>
            <a:ext cx="1985760" cy="411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535200" y="3137040"/>
            <a:ext cx="6193080" cy="162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216000" bIns="216000" anchor="t">
            <a:spAutoFit/>
          </a:bodyPr>
          <a:p>
            <a:pPr algn="r"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zh-CN" sz="2600" spc="-1" strike="noStrike">
                <a:solidFill>
                  <a:srgbClr val="6699ff"/>
                </a:solidFill>
                <a:latin typeface="Arial"/>
                <a:ea typeface="华文细黑"/>
              </a:rPr>
              <a:t>Non-CE2: Non-square hadamard transform for motion estimation and merge estim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993000" y="4792680"/>
            <a:ext cx="2879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CTVC-G5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eneva, CH, November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500" spc="-1" strike="noStrike">
                <a:solidFill>
                  <a:srgbClr val="cc0000"/>
                </a:solidFill>
                <a:latin typeface="Arial"/>
              </a:rPr>
              <a:t>Motivation</a:t>
            </a:r>
            <a:endParaRPr b="0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94104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649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Explore the performance of non-square hadamard transform during motion estim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3500" spc="-1" strike="noStrike">
                <a:solidFill>
                  <a:srgbClr val="cc0000"/>
                </a:solidFill>
                <a:latin typeface="Arial"/>
              </a:rPr>
              <a:t>Background: Hadamard transform</a:t>
            </a:r>
            <a:endParaRPr b="0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94104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649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Square hadamard transform is used at half-pel and quarter-pel motion estimation, and is also used at merge estim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3192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8x4 and 4x8 prediction blocks: 4x4 hadamard transform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860400" indent="-33192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8x8 and larger sizes: 8x8 hadamard transform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500" spc="-1" strike="noStrike">
                <a:solidFill>
                  <a:srgbClr val="cc0000"/>
                </a:solidFill>
                <a:latin typeface="Arial"/>
              </a:rPr>
              <a:t>Proposed solution</a:t>
            </a:r>
            <a:endParaRPr b="0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94104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649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Establish the relationship between hadamard transform’s shape and DCT’s shar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49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Apply non-square hadamard transform to half-pel and quarter-pel motion estim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3192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8x4 block: 8x2 hadamard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860400" indent="-33192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4x8 block: 2x8 hadamard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860400" indent="-33192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16x4, 16x8, 16x12, 32x8, 32x16, 32x24, 64x16, 64x32 and 64x48 blocks: 16x4 hadamard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860400" indent="-33192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4x16, 8x16, 12x16, 8x32, 16x32, 24x32, 16x64, 32x64 and 48x64 blocks: 4x16 hadamard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860400" indent="-33192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8x8, 16x16, 32x32 and 64x64 blocks: 8x8 hadamard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860400"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500" spc="-1" strike="noStrike">
                <a:solidFill>
                  <a:srgbClr val="cc0000"/>
                </a:solidFill>
                <a:latin typeface="Arial"/>
              </a:rPr>
              <a:t>Performance</a:t>
            </a:r>
            <a:endParaRPr b="0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462888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Reference: HM4.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Tested: HM4 + non-square hadamard transfo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5508720" y="1768320"/>
          <a:ext cx="4795920" cy="2519640"/>
        </p:xfrm>
        <a:graphic>
          <a:graphicData uri="http://schemas.openxmlformats.org/drawingml/2006/table">
            <a:tbl>
              <a:tblPr/>
              <a:tblGrid>
                <a:gridCol w="963360"/>
                <a:gridCol w="638280"/>
                <a:gridCol w="639720"/>
                <a:gridCol w="638280"/>
                <a:gridCol w="638280"/>
                <a:gridCol w="639720"/>
                <a:gridCol w="638280"/>
              </a:tblGrid>
              <a:tr h="354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andom Access H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andom Access L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2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veral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43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Enc Time[%]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1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5479920" y="4576680"/>
          <a:ext cx="4795920" cy="2490840"/>
        </p:xfrm>
        <a:graphic>
          <a:graphicData uri="http://schemas.openxmlformats.org/drawingml/2006/table">
            <a:tbl>
              <a:tblPr/>
              <a:tblGrid>
                <a:gridCol w="963720"/>
                <a:gridCol w="638280"/>
                <a:gridCol w="639720"/>
                <a:gridCol w="638280"/>
                <a:gridCol w="637920"/>
                <a:gridCol w="639720"/>
                <a:gridCol w="638280"/>
              </a:tblGrid>
              <a:tr h="382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Low delay B H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Low delay B L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2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5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5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5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5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ver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1000" spc="-1" strike="noStrike">
                          <a:solidFill>
                            <a:srgbClr val="80808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3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Enc Time[%]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0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ec Time[%]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500" spc="-1" strike="noStrike">
                <a:solidFill>
                  <a:srgbClr val="cc0000"/>
                </a:solidFill>
                <a:latin typeface="Arial"/>
              </a:rPr>
              <a:t>Performance (continue)</a:t>
            </a:r>
            <a:endParaRPr b="0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7200" y="1767960"/>
            <a:ext cx="4628880" cy="25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Reference: G51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Tested: G518 + non-square hadamard transfo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5479920" y="1697040"/>
          <a:ext cx="4628880" cy="5549760"/>
        </p:xfrm>
        <a:graphic>
          <a:graphicData uri="http://schemas.openxmlformats.org/drawingml/2006/table">
            <a:tbl>
              <a:tblPr/>
              <a:tblGrid>
                <a:gridCol w="795240"/>
                <a:gridCol w="639720"/>
                <a:gridCol w="638280"/>
                <a:gridCol w="639720"/>
                <a:gridCol w="638280"/>
                <a:gridCol w="639720"/>
                <a:gridCol w="637920"/>
              </a:tblGrid>
              <a:tr h="42696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andom Access 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andom Access L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4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F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veral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  <a:ea typeface="宋体"/>
                        </a:rPr>
                        <a:t>-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  <a:ea typeface="宋体"/>
                        </a:rPr>
                        <a:t>-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Enc Time[%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ec Time[%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Low delay B H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Low delay B L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4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4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4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4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4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5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4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F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4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4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4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veral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  <a:ea typeface="宋体"/>
                        </a:rPr>
                        <a:t>-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  <a:ea typeface="宋体"/>
                        </a:rPr>
                        <a:t>-0.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  <a:ea typeface="宋体"/>
                        </a:rPr>
                        <a:t>-0.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  <a:ea typeface="宋体"/>
                        </a:rPr>
                        <a:t>-0.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  <a:ea typeface="宋体"/>
                        </a:rPr>
                        <a:t>-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Enc Time[%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ec Time[%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655560" y="4648320"/>
          <a:ext cx="4628880" cy="2698560"/>
        </p:xfrm>
        <a:graphic>
          <a:graphicData uri="http://schemas.openxmlformats.org/drawingml/2006/table">
            <a:tbl>
              <a:tblPr/>
              <a:tblGrid>
                <a:gridCol w="795240"/>
                <a:gridCol w="639720"/>
                <a:gridCol w="638280"/>
                <a:gridCol w="639720"/>
                <a:gridCol w="638280"/>
                <a:gridCol w="639720"/>
                <a:gridCol w="637920"/>
              </a:tblGrid>
              <a:tr h="2134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Low delay P H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Low delay P L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96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96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2896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896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896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7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4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5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4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896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4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896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F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4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96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veral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2896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  <a:ea typeface="宋体"/>
                        </a:rPr>
                        <a:t>-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  <a:ea typeface="宋体"/>
                        </a:rPr>
                        <a:t>-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  <a:ea typeface="宋体"/>
                        </a:rPr>
                        <a:t>-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  <a:ea typeface="宋体"/>
                        </a:rPr>
                        <a:t>-0.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Enc Time[%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ec Time[%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Date Placeholder 5"/>
          <p:cNvSpPr/>
          <p:nvPr/>
        </p:nvSpPr>
        <p:spPr>
          <a:xfrm>
            <a:off x="5048280" y="7467480"/>
            <a:ext cx="1233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  <a:ea typeface="MS PGothic"/>
              </a:rPr>
              <a:t>Page </a:t>
            </a:r>
            <a:fld id="{5A96BEC4-F5CA-4264-B8F4-B6170A9C6C64}" type="slidenum">
              <a:rPr b="0" lang="de-DE" sz="1200" spc="-1" strike="noStrike">
                <a:solidFill>
                  <a:srgbClr val="000000"/>
                </a:solidFill>
                <a:latin typeface="FrutigerNext LT Medium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500" spc="-1" strike="noStrike">
                <a:solidFill>
                  <a:srgbClr val="cc0000"/>
                </a:solidFill>
                <a:latin typeface="Arial"/>
              </a:rPr>
              <a:t>Test results (continue)</a:t>
            </a:r>
            <a:endParaRPr b="0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479920" y="1697040"/>
          <a:ext cx="4629240" cy="5565600"/>
        </p:xfrm>
        <a:graphic>
          <a:graphicData uri="http://schemas.openxmlformats.org/drawingml/2006/table">
            <a:tbl>
              <a:tblPr/>
              <a:tblGrid>
                <a:gridCol w="795600"/>
                <a:gridCol w="639720"/>
                <a:gridCol w="637920"/>
                <a:gridCol w="640080"/>
                <a:gridCol w="637920"/>
                <a:gridCol w="639720"/>
                <a:gridCol w="638280"/>
              </a:tblGrid>
              <a:tr h="42696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andom Access 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andom Access L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6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6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1996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8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8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6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5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48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8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6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6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6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8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4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6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8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F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5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5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4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5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6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veral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7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8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5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5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  <a:ea typeface="宋体"/>
                        </a:rPr>
                        <a:t>-0.7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  <a:ea typeface="宋体"/>
                        </a:rPr>
                        <a:t>-0.7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  <a:ea typeface="宋体"/>
                        </a:rPr>
                        <a:t>-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  <a:ea typeface="宋体"/>
                        </a:rPr>
                        <a:t>-0.5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  <a:ea typeface="宋体"/>
                        </a:rPr>
                        <a:t>-0.5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Enc Time[%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ec Time[%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Low delay B H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Low delay B L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7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7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7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9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4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4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5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4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4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5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9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.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7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8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5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7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4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F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8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8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7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veral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5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5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6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5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8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  <a:ea typeface="宋体"/>
                        </a:rPr>
                        <a:t>-0.5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  <a:ea typeface="宋体"/>
                        </a:rPr>
                        <a:t>-1.6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  <a:ea typeface="宋体"/>
                        </a:rPr>
                        <a:t>-1.5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  <a:ea typeface="宋体"/>
                        </a:rPr>
                        <a:t>-0.5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  <a:ea typeface="宋体"/>
                        </a:rPr>
                        <a:t>-0.9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  <a:ea typeface="宋体"/>
                        </a:rPr>
                        <a:t>-1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Enc Time[%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ec Time[%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655560" y="4648320"/>
          <a:ext cx="4629240" cy="2598480"/>
        </p:xfrm>
        <a:graphic>
          <a:graphicData uri="http://schemas.openxmlformats.org/drawingml/2006/table">
            <a:tbl>
              <a:tblPr/>
              <a:tblGrid>
                <a:gridCol w="795240"/>
                <a:gridCol w="640080"/>
                <a:gridCol w="637920"/>
                <a:gridCol w="639720"/>
                <a:gridCol w="638280"/>
                <a:gridCol w="639720"/>
                <a:gridCol w="638280"/>
              </a:tblGrid>
              <a:tr h="21924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Low delay P H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Low delay P L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960">
                <a:tc>
                  <a:txBody>
                    <a:bodyPr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96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9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9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4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6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8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5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4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6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.4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8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5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5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6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ass F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5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7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7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6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veral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5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7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8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6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1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zh-CN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  <a:ea typeface="宋体"/>
                        </a:rPr>
                        <a:t>-0.5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  <a:ea typeface="宋体"/>
                        </a:rPr>
                        <a:t>-1.7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  <a:ea typeface="宋体"/>
                        </a:rPr>
                        <a:t>-1.9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  <a:ea typeface="宋体"/>
                        </a:rPr>
                        <a:t>-0.6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  <a:ea typeface="宋体"/>
                        </a:rPr>
                        <a:t>-1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  <a:ea typeface="宋体"/>
                        </a:rPr>
                        <a:t>-1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Enc Time[%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anchor="b">
                      <a:noAutofit/>
                    </a:bodyPr>
                    <a:p>
                      <a:pPr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ec Time[%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1058760"/>
                          <a:tab algn="l" pos="2117880"/>
                          <a:tab algn="l" pos="3176640"/>
                          <a:tab algn="l" pos="4235400"/>
                          <a:tab algn="l" pos="5294160"/>
                          <a:tab algn="l" pos="6353280"/>
                          <a:tab algn="l" pos="7412040"/>
                          <a:tab algn="l" pos="8470800"/>
                          <a:tab algn="l" pos="9529920"/>
                          <a:tab algn="l" pos="10588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27200" y="1767960"/>
            <a:ext cx="4628880" cy="25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Reference: HM4.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Tested: HM4.0 + G518 + non-square hadamard transfo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Results with class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500" spc="-1" strike="noStrike">
                <a:solidFill>
                  <a:srgbClr val="cc0000"/>
                </a:solidFill>
                <a:latin typeface="Arial"/>
              </a:rPr>
              <a:t>Conclusion</a:t>
            </a:r>
            <a:endParaRPr b="0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94104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649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Non-square hadamard can achieve 0.1% average BD-rate reduction at HM4.0 with 1% encoding time incre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49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Combine non-square hadamard with 2x8 / 8x2 transform (G518), 0.1%~0.6% average BD-rate reduction can be achie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49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Recommend to adopt non-square hadamard transform to H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49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Recommend to adopt 2x8 and 8x2 transform to working draf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10528200" cy="8001000"/>
          </a:xfrm>
          <a:prstGeom prst="rect">
            <a:avLst/>
          </a:prstGeom>
          <a:solidFill>
            <a:srgbClr val="a7a7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24280" y="472140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763800" y="2122560"/>
            <a:ext cx="3197520" cy="2442960"/>
            <a:chOff x="3763800" y="2122560"/>
            <a:chExt cx="3197520" cy="2442960"/>
          </a:xfrm>
        </p:grpSpPr>
        <p:pic>
          <p:nvPicPr>
            <p:cNvPr id="77" name="" descr=""/>
            <p:cNvPicPr/>
            <p:nvPr/>
          </p:nvPicPr>
          <p:blipFill>
            <a:blip r:embed="rId1"/>
            <a:srcRect l="17909" t="40828" r="0" b="0"/>
            <a:stretch/>
          </p:blipFill>
          <p:spPr>
            <a:xfrm>
              <a:off x="3816360" y="2173320"/>
              <a:ext cx="3105000" cy="23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3763800" y="2122560"/>
              <a:ext cx="3197520" cy="24429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4400640" y="551340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www.hisilicon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08:10:34Z</dcterms:created>
  <dc:creator>guopeng</dc:creator>
  <dc:description/>
  <dc:language>en-US</dc:language>
  <cp:lastModifiedBy>Xiaozhen Zheng</cp:lastModifiedBy>
  <dcterms:modified xsi:type="dcterms:W3CDTF">2011-11-25T07:42:36Z</dcterms:modified>
  <cp:revision>66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289840466</vt:lpwstr>
  </property>
</Properties>
</file>