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500835-9F35-406D-B3BE-5F9660871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4029B8-2D83-47E7-871E-EB1F8C184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kira Minezawa from Mitsubishi Electric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present the document number JCTVC-G44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tle is “Improvement to chroma TU specificatio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EDE6FC-7091-4E8E-B964-76B7C12C5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f all, I’d like to show overall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ropose an improved technique for intra vertical and horizontal pred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cheme, luminance change along the prediction direction is reflected to the prediction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heme achieves 0.3% BD-rate gain for AI/HE and AI/L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/DEC times increase are up to 1% for AI/HE and AI/L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propose the simplification of the proposed sc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mplification, luminance change along the prediction direction is reflected only to on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ified proposed scheme achieves 0.3% BD-rate gain for AI/HE and AI/L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/DEC times increase are 0% for both AI/HE and AI/L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d like to propose the simplified scheme to be adopted to HM-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C13-0932-4526-9EBF-E9D69E68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302-FD5A-4F59-84BB-710B24C7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15A-EE05-46EE-B9AA-74F6D3B3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7CB-ED54-45BA-A54F-7ECF0782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7A9-8A0C-45C8-A25C-5C28C58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A22-CA4B-4098-AD41-D3B257F4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6DB-0D53-47C6-B538-30865C70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6F2-2B67-42D6-A014-A7485850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4B8-BA68-4C26-B6E6-72F7365B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2CA-6F4B-4764-B45D-4B92302E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208-E429-4740-981E-1DC8A53C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D06-C2C8-4BA5-A9F2-0D33563A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52428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lell processing of ALF and SAO for 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31200" y="62064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G4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342864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uo Sugimoto, Akira Minezawa, Shun-ichi Sekigu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1400" y="1555560"/>
            <a:ext cx="88930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F and SAO parameters are signaled at a pictur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done in parallel using tiles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: Signal ALF/SAO parameters for each tiles using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表 1" descr=""/>
          <p:cNvPicPr/>
          <p:nvPr/>
        </p:nvPicPr>
        <p:blipFill>
          <a:blip r:embed="rId1"/>
          <a:stretch/>
        </p:blipFill>
        <p:spPr>
          <a:xfrm>
            <a:off x="785880" y="2133720"/>
            <a:ext cx="7791480" cy="259056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2"/>
          <p:cNvSpPr/>
          <p:nvPr/>
        </p:nvSpPr>
        <p:spPr>
          <a:xfrm>
            <a:off x="575640" y="1428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3"/>
          <p:cNvSpPr/>
          <p:nvPr/>
        </p:nvSpPr>
        <p:spPr>
          <a:xfrm>
            <a:off x="1928880" y="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4"/>
          <p:cNvSpPr/>
          <p:nvPr/>
        </p:nvSpPr>
        <p:spPr>
          <a:xfrm>
            <a:off x="539640" y="557208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: adopt this mechanism and syntax to HM/WD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/>
  <dc:description/>
  <dc:language>en-US</dc:language>
  <cp:lastModifiedBy>Kazuo Sugimoto</cp:lastModifiedBy>
  <dcterms:modified xsi:type="dcterms:W3CDTF">2011-11-23T13:58:57Z</dcterms:modified>
  <cp:revision>256</cp:revision>
  <dc:subject/>
  <dc:title>Proposed fix on cbf flag signaling</dc:title>
</cp:coreProperties>
</file>