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214FC17-9C50-47EA-85D5-935B0999D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3799114-CCBF-481F-9430-952C2671C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m Akira Minezawa from Mitsubishi Electric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ant to present the document number JCTVC-G44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tle is “Improvement to chroma TU specification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B319131-7127-4AA2-A9DE-E27CF48E6E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of all, I’d like to show overall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propose an improved technique for intra vertical and horizontal pred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cheme, luminance change along the prediction direction is reflected to the prediction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cheme achieves 0.3% BD-rate gain for AI/HE and AI/L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/DEC times increase are up to 1% for AI/HE and AI/L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propose the simplification of the proposed sche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implification, luminance change along the prediction direction is reflected only to on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ified proposed scheme achieves 0.3% BD-rate gain for AI/HE and AI/L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/DEC times increase are 0% for both AI/HE and AI/L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d like to propose the simplified scheme to be adopted to HM-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EA10-1013-4BC0-9E34-11A0C0EA0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541-D57C-4E55-966E-E3DE246F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11A-6DDB-43DA-8809-E378F8B45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ADD-8622-4785-A55E-A77BCC84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F1B-9B67-4BCA-BD87-E06EDDCD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304-EF23-4550-9B95-32C470C2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A8A-372F-414F-B8AC-D22C5EF5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2134-3CD3-4B11-A470-C290C888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DDA-0B96-461A-856B-7CBF8C28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8447-DD35-4C65-834A-E2AB2E23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BC5-C8EC-45CB-B6B1-62AF659A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06A-3EC0-4870-80F6-257BF040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71280" y="6308280"/>
            <a:ext cx="727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52428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4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4400" spc="-1" strike="noStrike">
                <a:solidFill>
                  <a:srgbClr val="000000"/>
                </a:solidFill>
                <a:latin typeface="Arial"/>
              </a:rPr>
              <a:t>New definition for Tile/slice bound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31200" y="62064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VC-G4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280" y="342864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zuo Sugimoto, Akira Minezawa, Shun-ichi Sekigu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subishi Electric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31760" y="1555920"/>
            <a:ext cx="8893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: modify the specification related to right/bottom boundaries of tiles(and slices) as propo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1400" y="1555560"/>
            <a:ext cx="88930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definition of tiles, a tile should contain an integer number of L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commonly used way to reuse a video coder design for smaller format to realize a video coder for larger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reusing HDTV video coder design to realize 4Kx2K or 8Kx4K video co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sible with the current tiles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al: Modify the specification of tiles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588960"/>
            <a:ext cx="8501040" cy="63770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正方形/長方形 9"/>
          <p:cNvSpPr/>
          <p:nvPr/>
        </p:nvSpPr>
        <p:spPr>
          <a:xfrm>
            <a:off x="5286240" y="4143240"/>
            <a:ext cx="3357720" cy="214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8"/>
          <p:cNvSpPr/>
          <p:nvPr/>
        </p:nvSpPr>
        <p:spPr>
          <a:xfrm>
            <a:off x="1857240" y="4143240"/>
            <a:ext cx="3357720" cy="214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"/>
          <p:cNvSpPr/>
          <p:nvPr/>
        </p:nvSpPr>
        <p:spPr>
          <a:xfrm>
            <a:off x="1857240" y="1643040"/>
            <a:ext cx="3357720" cy="24289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5286240" y="1643040"/>
            <a:ext cx="3357720" cy="24289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方形/長方形 3"/>
          <p:cNvSpPr/>
          <p:nvPr/>
        </p:nvSpPr>
        <p:spPr>
          <a:xfrm>
            <a:off x="1857240" y="4143240"/>
            <a:ext cx="3357720" cy="20005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正方形/長方形 4"/>
          <p:cNvSpPr/>
          <p:nvPr/>
        </p:nvSpPr>
        <p:spPr>
          <a:xfrm>
            <a:off x="5286240" y="4143240"/>
            <a:ext cx="3357720" cy="200052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テキスト ボックス 5"/>
          <p:cNvSpPr/>
          <p:nvPr/>
        </p:nvSpPr>
        <p:spPr>
          <a:xfrm>
            <a:off x="2228400" y="64296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Kx2K: 3840x2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HD: 1920x10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テキスト ボックス 6"/>
          <p:cNvSpPr/>
          <p:nvPr/>
        </p:nvSpPr>
        <p:spPr>
          <a:xfrm>
            <a:off x="222480" y="264312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8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7 L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7"/>
          <p:cNvSpPr/>
          <p:nvPr/>
        </p:nvSpPr>
        <p:spPr>
          <a:xfrm>
            <a:off x="153000" y="47862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72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6.75 L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Tiles for 4Kx2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正方形/長方形 3"/>
          <p:cNvSpPr/>
          <p:nvPr/>
        </p:nvSpPr>
        <p:spPr>
          <a:xfrm>
            <a:off x="1857240" y="1643040"/>
            <a:ext cx="3357720" cy="22860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4"/>
          <p:cNvSpPr/>
          <p:nvPr/>
        </p:nvSpPr>
        <p:spPr>
          <a:xfrm>
            <a:off x="5286240" y="1643040"/>
            <a:ext cx="3357720" cy="228600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5"/>
          <p:cNvSpPr/>
          <p:nvPr/>
        </p:nvSpPr>
        <p:spPr>
          <a:xfrm>
            <a:off x="1857240" y="4000680"/>
            <a:ext cx="3357720" cy="214308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6"/>
          <p:cNvSpPr/>
          <p:nvPr/>
        </p:nvSpPr>
        <p:spPr>
          <a:xfrm>
            <a:off x="5286240" y="4000680"/>
            <a:ext cx="3357720" cy="2143080"/>
          </a:xfrm>
          <a:prstGeom prst="rect">
            <a:avLst/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7"/>
          <p:cNvSpPr/>
          <p:nvPr/>
        </p:nvSpPr>
        <p:spPr>
          <a:xfrm>
            <a:off x="2228400" y="642960"/>
            <a:ext cx="213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Kx2K: 3840x21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HD: 1920x10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8"/>
          <p:cNvSpPr/>
          <p:nvPr/>
        </p:nvSpPr>
        <p:spPr>
          <a:xfrm>
            <a:off x="223200" y="264312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0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4 Tiles for 4Kx2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11"/>
          <p:cNvSpPr/>
          <p:nvPr/>
        </p:nvSpPr>
        <p:spPr>
          <a:xfrm>
            <a:off x="223200" y="48578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0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588960"/>
            <a:ext cx="8501040" cy="6377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716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t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vs Proposed 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ile contains an integer number of L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ft-top pixel of a tile shall be the left-top pixel of a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-bottom pixel of a ti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a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the right-bottom pixel of a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ile can contain a fractional number of L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ft-top pixel of a tile shall be the left-top pixel of a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-bottom pixel of a ti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y or may 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the right-bottom pixel of an L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表 2" descr=""/>
          <p:cNvPicPr/>
          <p:nvPr/>
        </p:nvPicPr>
        <p:blipFill>
          <a:blip r:embed="rId1"/>
          <a:stretch/>
        </p:blipFill>
        <p:spPr>
          <a:xfrm>
            <a:off x="1500120" y="1066680"/>
            <a:ext cx="5911920" cy="5662800"/>
          </a:xfrm>
          <a:prstGeom prst="rect">
            <a:avLst/>
          </a:prstGeom>
          <a:ln w="0">
            <a:noFill/>
          </a:ln>
        </p:spPr>
      </p:pic>
      <p:sp>
        <p:nvSpPr>
          <p:cNvPr id="81" name="テキスト ボックス 3"/>
          <p:cNvSpPr/>
          <p:nvPr/>
        </p:nvSpPr>
        <p:spPr>
          <a:xfrm>
            <a:off x="863280" y="71424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S/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syntax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02:56:40Z</dcterms:created>
  <dc:creator/>
  <dc:description/>
  <dc:language>en-US</dc:language>
  <cp:lastModifiedBy>Kazuo Sugimoto</cp:lastModifiedBy>
  <dcterms:modified xsi:type="dcterms:W3CDTF">2011-11-26T07:57:36Z</dcterms:modified>
  <cp:revision>257</cp:revision>
  <dc:subject/>
  <dc:title>Proposed fix on cbf flag signaling</dc:title>
</cp:coreProperties>
</file>