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310-2304-477B-B2D6-6ED03A2E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7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43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661-2ACA-4BEF-B5F6-0A16942D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7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7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43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43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695D-92C8-4B5C-9EDE-0821814B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7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7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7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43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43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43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1CE-1789-4DEC-B173-D06F2401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82B-BC61-4CE5-99A4-C3F4F0CA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F58-CBA0-471D-A477-6E18611A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79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79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EF1-2F25-43D3-804A-A522C2EF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F68-57C2-43CE-9E84-B661511B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CA4-9BCA-4400-90AC-4C6BAE14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7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79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43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138-0953-4864-B20F-37A94D47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79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7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43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A30-C9B8-4DEC-98D8-DF75804E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7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7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43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F9F-74A0-48C8-9238-C5E9CB61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71280" y="6308280"/>
            <a:ext cx="727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76720" y="638136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F233-ACA0-4D4D-80B5-D044F98F93E7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785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duction of the number of pixels used in A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2852280"/>
            <a:ext cx="87854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Kazuyuki Miyazaw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, Kazuo Sugimot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kira Minezawa, Shun-ichi Sekiguch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nd Tokumichi Murak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itsubishi Electric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3640" y="620640"/>
            <a:ext cx="17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CTVC-G4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1112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he computational cost of Adaptive Loop Filter (ALF) by skipping ALF for the pixels where the impact of ALF likely to be insignific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a score for each pixel, and skip ALF for the pixels whose scores are less than a thresh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reshold is determined for each frame in the encoding process, and is transmitted to a deco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 time: 2% ~ 9% reduction (ALF-only: 24% ~ 2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 time: 1% ~ 2% reduction (ALF-only: 5% ~ 1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-rate: 0.1% ~ 0.2%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F9F6-3BB4-4A72-B90A-FA280424A1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284720" y="1844640"/>
          <a:ext cx="4713120" cy="34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844640"/>
                    <a:ext cx="471312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-108000" y="1844640"/>
          <a:ext cx="4703760" cy="3430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8000" y="1844640"/>
                    <a:ext cx="4703760" cy="34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341360"/>
            <a:ext cx="46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degradation when the filters are not applied to one of five 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7520" y="1341360"/>
            <a:ext cx="42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s of the percentage of each category (for Class B, all int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563076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reduce the computation time of ALF without performance loss by not applying filters to the pixels in low activity categ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4941720"/>
            <a:ext cx="4105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In RA mode, Laplacian acitivity-based classification is not per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6360" y="4941720"/>
            <a:ext cx="4175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 some sequences, most of the pixels are classified as low activity categ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C4F-6D77-4910-82A1-A3BD864649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49508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a score predicting the effectiveness of ALF for each pixel, and skip ALF for the pixels whose scores are less than a thresh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shold is determined for each frame based on the percentage of the number of ALF-skipped pixels, and is transmitted to a deco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0720" y="1681200"/>
            <a:ext cx="10652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15040" y="1681200"/>
            <a:ext cx="7491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54720" y="1681200"/>
            <a:ext cx="7495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4400" y="1681200"/>
            <a:ext cx="10652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-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/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681200"/>
            <a:ext cx="1258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58920" y="1744560"/>
            <a:ext cx="1511280" cy="449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resho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endCxn id="63" idx="1"/>
          </p:cNvCxnSpPr>
          <p:nvPr/>
        </p:nvCxnSpPr>
        <p:spPr>
          <a:xfrm>
            <a:off x="420480" y="1968480"/>
            <a:ext cx="191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3" idx="3"/>
            <a:endCxn id="64" idx="1"/>
          </p:cNvCxnSpPr>
          <p:nvPr/>
        </p:nvCxnSpPr>
        <p:spPr>
          <a:xfrm>
            <a:off x="1870200" y="196956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3"/>
            <a:endCxn id="59" idx="1"/>
          </p:cNvCxnSpPr>
          <p:nvPr/>
        </p:nvCxnSpPr>
        <p:spPr>
          <a:xfrm>
            <a:off x="3669840" y="196956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9" idx="3"/>
            <a:endCxn id="60" idx="1"/>
          </p:cNvCxnSpPr>
          <p:nvPr/>
        </p:nvCxnSpPr>
        <p:spPr>
          <a:xfrm>
            <a:off x="5025600" y="196956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0" idx="3"/>
            <a:endCxn id="61" idx="1"/>
          </p:cNvCxnSpPr>
          <p:nvPr/>
        </p:nvCxnSpPr>
        <p:spPr>
          <a:xfrm>
            <a:off x="6063840" y="196956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1" idx="3"/>
            <a:endCxn id="62" idx="1"/>
          </p:cNvCxnSpPr>
          <p:nvPr/>
        </p:nvCxnSpPr>
        <p:spPr>
          <a:xfrm>
            <a:off x="7104240" y="1969560"/>
            <a:ext cx="290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2" idx="3"/>
          </p:cNvCxnSpPr>
          <p:nvPr/>
        </p:nvCxnSpPr>
        <p:spPr>
          <a:xfrm flipV="1">
            <a:off x="8459640" y="1968120"/>
            <a:ext cx="191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4" idx="0"/>
          </p:cNvCxnSpPr>
          <p:nvPr/>
        </p:nvCxnSpPr>
        <p:spPr>
          <a:xfrm flipH="1" rot="16200000">
            <a:off x="5637600" y="-979920"/>
            <a:ext cx="181800" cy="5628600"/>
          </a:xfrm>
          <a:prstGeom prst="bentConnector3">
            <a:avLst>
              <a:gd name="adj1" fmla="val -12619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198360" y="1339920"/>
            <a:ext cx="8785440" cy="10810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806960" y="238752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89440" y="342576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67200" y="3265560"/>
            <a:ext cx="10652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21160" y="3265560"/>
            <a:ext cx="7495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400" y="3265560"/>
            <a:ext cx="1258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65400" y="3328920"/>
            <a:ext cx="1511280" cy="449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resho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endCxn id="78" idx="1"/>
          </p:cNvCxnSpPr>
          <p:nvPr/>
        </p:nvCxnSpPr>
        <p:spPr>
          <a:xfrm>
            <a:off x="426600" y="3552840"/>
            <a:ext cx="191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8" idx="3"/>
            <a:endCxn id="79" idx="1"/>
          </p:cNvCxnSpPr>
          <p:nvPr/>
        </p:nvCxnSpPr>
        <p:spPr>
          <a:xfrm>
            <a:off x="1875960" y="35539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9" idx="3"/>
            <a:endCxn id="76" idx="1"/>
          </p:cNvCxnSpPr>
          <p:nvPr/>
        </p:nvCxnSpPr>
        <p:spPr>
          <a:xfrm>
            <a:off x="3676320" y="355392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6" idx="3"/>
            <a:endCxn id="77" idx="1"/>
          </p:cNvCxnSpPr>
          <p:nvPr/>
        </p:nvCxnSpPr>
        <p:spPr>
          <a:xfrm>
            <a:off x="5032440" y="35539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7" idx="3"/>
          </p:cNvCxnSpPr>
          <p:nvPr/>
        </p:nvCxnSpPr>
        <p:spPr>
          <a:xfrm>
            <a:off x="6070320" y="355392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9" idx="0"/>
          </p:cNvCxnSpPr>
          <p:nvPr/>
        </p:nvCxnSpPr>
        <p:spPr>
          <a:xfrm flipH="1" rot="16200000">
            <a:off x="4475880" y="1773720"/>
            <a:ext cx="162720" cy="3272400"/>
          </a:xfrm>
          <a:prstGeom prst="bentConnector3">
            <a:avLst>
              <a:gd name="adj1" fmla="val -141019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204840" y="2924280"/>
            <a:ext cx="6383160" cy="10810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66960" y="2289240"/>
            <a:ext cx="289080" cy="720720"/>
          </a:xfrm>
          <a:prstGeom prst="downArrow">
            <a:avLst>
              <a:gd name="adj1" fmla="val 50000"/>
              <a:gd name="adj2" fmla="val 6232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68200" y="24480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6A0-624E-4F2F-9B6E-1B29A51B03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re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ce-like score is calculated for each 4 x 4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16 pixels in the 4 x 4 block have the same s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116000" y="2276640"/>
            <a:ext cx="1584000" cy="1584000"/>
            <a:chOff x="1116000" y="2276640"/>
            <a:chExt cx="1584000" cy="1584000"/>
          </a:xfrm>
        </p:grpSpPr>
        <p:sp>
          <p:nvSpPr>
            <p:cNvPr id="92" name=""/>
            <p:cNvSpPr/>
            <p:nvPr/>
          </p:nvSpPr>
          <p:spPr>
            <a:xfrm>
              <a:off x="1116000" y="2276640"/>
              <a:ext cx="396000" cy="39564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12000" y="2672280"/>
              <a:ext cx="396000" cy="39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8360" y="3068640"/>
              <a:ext cx="395640" cy="39564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04000" y="3464640"/>
              <a:ext cx="396000" cy="39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12000" y="2276640"/>
              <a:ext cx="396000" cy="3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08360" y="2276640"/>
              <a:ext cx="395640" cy="39564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04000" y="2276640"/>
              <a:ext cx="396000" cy="3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16000" y="2672280"/>
              <a:ext cx="396000" cy="39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08360" y="2672280"/>
              <a:ext cx="395640" cy="39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04000" y="2672280"/>
              <a:ext cx="396000" cy="39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16000" y="3068640"/>
              <a:ext cx="396000" cy="39564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12000" y="3068640"/>
              <a:ext cx="396000" cy="3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04000" y="3068640"/>
              <a:ext cx="396000" cy="3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16000" y="3464640"/>
              <a:ext cx="396000" cy="39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12000" y="3464640"/>
              <a:ext cx="396000" cy="39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08360" y="3464640"/>
              <a:ext cx="395640" cy="39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0" y="37512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86120" y="2421000"/>
                <a:ext cx="59641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cor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b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b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b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224400" y="3319560"/>
            <a:ext cx="267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verage of 4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08000" y="2747880"/>
                <a:ext cx="7970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 rot="20638800">
            <a:off x="539640" y="2397240"/>
            <a:ext cx="719280" cy="239760"/>
          </a:xfrm>
          <a:custGeom>
            <a:avLst/>
            <a:gdLst/>
            <a:ahLst/>
            <a:rect l="l" t="t" r="r" b="b"/>
            <a:pathLst>
              <a:path w="362" h="151">
                <a:moveTo>
                  <a:pt x="0" y="136"/>
                </a:moveTo>
                <a:cubicBezTo>
                  <a:pt x="75" y="68"/>
                  <a:pt x="151" y="0"/>
                  <a:pt x="181" y="0"/>
                </a:cubicBezTo>
                <a:cubicBezTo>
                  <a:pt x="211" y="0"/>
                  <a:pt x="151" y="121"/>
                  <a:pt x="181" y="136"/>
                </a:cubicBezTo>
                <a:cubicBezTo>
                  <a:pt x="211" y="151"/>
                  <a:pt x="286" y="121"/>
                  <a:pt x="362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0000" y="4387680"/>
            <a:ext cx="3708360" cy="2086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55640" y="4387680"/>
            <a:ext cx="3706920" cy="2087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801440" y="64468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64468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38577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x4 luma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D16-1C44-4F76-949D-DE11EFE8EB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shold Decision (Enc-Onl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79440"/>
            <a:ext cx="8229600" cy="517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reshold is determined for each frame based on the percentage of the number of ALF-skipped pix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mulative histogram of the scores can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reshold is coded and transmitted to a decoder, for example, in 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04880" y="48718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2433600"/>
            <a:ext cx="13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7800" y="4871880"/>
            <a:ext cx="3976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357800" y="307188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57800" y="3267000"/>
            <a:ext cx="3976560" cy="1604880"/>
          </a:xfrm>
          <a:custGeom>
            <a:avLst/>
            <a:gdLst/>
            <a:ahLst/>
            <a:rect l="l" t="t" r="r" b="b"/>
            <a:pathLst>
              <a:path w="4037" h="2374">
                <a:moveTo>
                  <a:pt x="0" y="2374"/>
                </a:moveTo>
                <a:cubicBezTo>
                  <a:pt x="109" y="2223"/>
                  <a:pt x="219" y="2072"/>
                  <a:pt x="363" y="1966"/>
                </a:cubicBezTo>
                <a:cubicBezTo>
                  <a:pt x="507" y="1860"/>
                  <a:pt x="711" y="1845"/>
                  <a:pt x="862" y="1739"/>
                </a:cubicBezTo>
                <a:cubicBezTo>
                  <a:pt x="1013" y="1633"/>
                  <a:pt x="1127" y="1452"/>
                  <a:pt x="1271" y="1331"/>
                </a:cubicBezTo>
                <a:cubicBezTo>
                  <a:pt x="1415" y="1210"/>
                  <a:pt x="1588" y="1164"/>
                  <a:pt x="1724" y="1013"/>
                </a:cubicBezTo>
                <a:cubicBezTo>
                  <a:pt x="1860" y="862"/>
                  <a:pt x="1966" y="574"/>
                  <a:pt x="2087" y="423"/>
                </a:cubicBezTo>
                <a:cubicBezTo>
                  <a:pt x="2208" y="272"/>
                  <a:pt x="2329" y="174"/>
                  <a:pt x="2450" y="106"/>
                </a:cubicBezTo>
                <a:cubicBezTo>
                  <a:pt x="2571" y="38"/>
                  <a:pt x="2549" y="30"/>
                  <a:pt x="2813" y="15"/>
                </a:cubicBezTo>
                <a:cubicBezTo>
                  <a:pt x="3077" y="0"/>
                  <a:pt x="3557" y="7"/>
                  <a:pt x="4037" y="1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57800" y="3921120"/>
            <a:ext cx="1743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3000" y="3921120"/>
            <a:ext cx="0" cy="950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3286080"/>
            <a:ext cx="2651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28440" y="3097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7480" y="3592440"/>
            <a:ext cx="2881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of the number of ALF-skipped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98920" y="3917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3160" y="5140440"/>
            <a:ext cx="122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095880" y="49258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4302000"/>
            <a:ext cx="39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set as an encoder parameter, which controls the trade-off between the coding efficiency and complex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CFD-06C2-47F1-B736-23C9319790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 (1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0444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e percentage of ALF-skipped pixels is set to 4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% ~ 9% enc time reduction, and 1% ~ 2% dec time reduction with 0.1% ~ 0.2% BD-rate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rosscheck-report: JCTVC-G920 (by Toshi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06200" y="1254240"/>
          <a:ext cx="8918640" cy="3952800"/>
        </p:xfrm>
        <a:graphic>
          <a:graphicData uri="http://schemas.openxmlformats.org/drawingml/2006/table">
            <a:tbl>
              <a:tblPr/>
              <a:tblGrid>
                <a:gridCol w="1271880"/>
                <a:gridCol w="849240"/>
                <a:gridCol w="850680"/>
                <a:gridCol w="849600"/>
                <a:gridCol w="849240"/>
                <a:gridCol w="849240"/>
                <a:gridCol w="849240"/>
                <a:gridCol w="851040"/>
                <a:gridCol w="849240"/>
                <a:gridCol w="84924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D0D5-547B-4F3D-BDD2-AE8C94BF6B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 (2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% ~ 27% reduction in encoding, and 5% ~ 11% reduction in deco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reduction ratio can be controlled by changing the percentage of ALF-skipped pix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11040" y="2171880"/>
          <a:ext cx="8508960" cy="1185840"/>
        </p:xfrm>
        <a:graphic>
          <a:graphicData uri="http://schemas.openxmlformats.org/drawingml/2006/table">
            <a:tbl>
              <a:tblPr/>
              <a:tblGrid>
                <a:gridCol w="2125800"/>
                <a:gridCol w="2127240"/>
                <a:gridCol w="2130480"/>
                <a:gridCol w="2125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 Time in En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 Time in D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259560" y="1676520"/>
            <a:ext cx="85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tion time of ALF in the proposed method compared to that in HM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35C0-571A-429A-87C7-848043D5CE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a score for each pixel and skip ALF for the pixels whose scores are less than a thresh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ly determine the threshold for each frame based on the percentage of ALF-skipped pixels, and transmit the threshold to a deco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 time: 2% ~ 9% reduction (ALF-only: 24% ~ 2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 time: 1% ~ 2% reduction (ALF-only: 5% ~ 1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the proposed method to CE for further stu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E401-EFFD-4650-A1C7-FD93E84517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2:56:40Z</dcterms:created>
  <dc:creator>GB72714</dc:creator>
  <dc:description/>
  <dc:language>en-US</dc:language>
  <cp:lastModifiedBy>QU83916</cp:lastModifiedBy>
  <dcterms:modified xsi:type="dcterms:W3CDTF">2011-11-18T11:39:45Z</dcterms:modified>
  <cp:revision>224</cp:revision>
  <dc:subject/>
  <dc:title>ドレスデン会合準備について</dc:title>
</cp:coreProperties>
</file>