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15C-AC2F-4D50-970B-C303BC75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E79-5798-4C07-B868-11861C6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25D-6369-49E8-B796-029F749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C37-7D9C-404E-ABCE-04E3B4CA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218-A263-4542-8656-F12AD65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8E4-DEA8-4DD6-B053-CA8A137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C62-AFA1-4CBF-A25E-6907918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661-267F-4B34-9C90-A080AAC0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0BD-08FA-4D19-8D39-265EED0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F1A-A2BB-4587-9593-8A2247F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4FF-F0F9-4F23-84ED-CE7BAD3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E52-7A74-41AD-8B07-5223244B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108-5EFC-4C5D-9EEA-69D84FCFBE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mplification of adding new merge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in Li, Jizheng X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University of Science and Technology of China</a:t>
            </a:r>
            <a:br>
              <a:rPr sz="2400"/>
            </a:b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icrosoft Cor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ge index is parsed as fix length code wo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new merge candidates if the number of original merge candidates &lt; max number of merge candidates allow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new merge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d merge candi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ion che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scaled merge candi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ion che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 merge candi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ion che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disabling each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628640"/>
          <a:ext cx="8229600" cy="3657600"/>
        </p:xfrm>
        <a:graphic>
          <a:graphicData uri="http://schemas.openxmlformats.org/drawingml/2006/table">
            <a:tbl>
              <a:tblPr/>
              <a:tblGrid>
                <a:gridCol w="2592360"/>
                <a:gridCol w="939600"/>
                <a:gridCol w="939960"/>
                <a:gridCol w="938160"/>
                <a:gridCol w="939960"/>
                <a:gridCol w="939600"/>
                <a:gridCol w="93996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_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_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 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 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 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duplication checking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duplication checking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duplication checking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duplication checking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9" name="TextBox 1"/>
          <p:cNvSpPr/>
          <p:nvPr/>
        </p:nvSpPr>
        <p:spPr>
          <a:xfrm>
            <a:off x="991800" y="58053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s to Huawei for cross-checking (JCTVC-G42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ing the duplication checking for step 2 has no noticeable impact on the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ing the duplication checking process only brings about 0.1%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act of removing the entire step 2 is also neglig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7:50:13Z</dcterms:created>
  <dc:creator>Bin Li (MSR Student-Person Consulting)</dc:creator>
  <dc:description/>
  <dc:language>en-US</dc:language>
  <cp:lastModifiedBy>Ji-Zheng Xu</cp:lastModifiedBy>
  <dcterms:modified xsi:type="dcterms:W3CDTF">2011-11-18T03:25:03Z</dcterms:modified>
  <cp:revision>4</cp:revision>
  <dc:subject/>
  <dc:title>PowerPoint Presentation</dc:title>
</cp:coreProperties>
</file>