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70F2-BB98-4BD9-A573-4F5D8753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E261-7EF3-4EBD-BE46-D8A6B48C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D96A-32FA-47E1-A6FB-9ACD4287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C38A-C1DB-4D89-9258-57F1637B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FC1F-84C9-40FD-B2F4-8E237D72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5DF6-B5F7-4684-8B85-B3E3D068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DC07-D228-493B-A06B-296F3C8F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5221-727A-4F78-B0D5-1B4E37DD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9637-512C-4172-BF6F-09530FAF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2212-2C2A-4C35-9516-B291221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8A1E-1519-47EB-A67B-FD2F4F7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00E9-5C4D-46CA-A27A-F519B355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774E-74E0-44C7-B43E-41F0E4A4198D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648B-2303-41DA-B568-0CDC38D6111C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port on a restriction for small block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JCTVC-G39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K. Kondo and T. Suzuk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CA52-0452-4747-9656-605CD45AF0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mory bandwidth is important because of cost of DDR memory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tudy a restriction to reduce worst complexity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erim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 coding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 visu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73F1-AC2E-4BE4-AD03-FC9325BFF3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emory bandwidth for each PU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97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18320" y="4441680"/>
            <a:ext cx="32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i-prediction 64x64 integer p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5921280" y="4824360"/>
            <a:ext cx="18108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100520" y="122400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i-prediction 4x8 2d filt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e.g. ‘j’ center posi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36280" y="1494000"/>
            <a:ext cx="360360" cy="13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1040040" y="5859360"/>
            <a:ext cx="73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bandwidth is widely change by block size and prediction mo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range is very wi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451520" y="320364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i-prediction 4x8 2d filt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96640" y="3429000"/>
            <a:ext cx="360360" cy="1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5967720" y="711360"/>
            <a:ext cx="289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pred. dir., size h, size v, interpolat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DF81-F47E-4AB6-8FDB-DE96837C89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triction for small block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he restriction for small block is simple idea to reduce worst complexity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he restriction is non normative chang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coder does not choose the inter mode for small block and bi-pre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merge mode, encoder does not choose the merge index in candidates for small block and bi-pre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We tested several restrictions, and an impact of coding efficiency was checke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 test cases were prepared in shown next p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Also visual quality is checke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29F8-7382-4AC6-9048-CB10637CF4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Test cas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212920" y="261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2212920" y="2739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7000" y="1052640"/>
          <a:ext cx="8605800" cy="4626000"/>
        </p:xfrm>
        <a:graphic>
          <a:graphicData uri="http://schemas.openxmlformats.org/drawingml/2006/table">
            <a:tbl>
              <a:tblPr/>
              <a:tblGrid>
                <a:gridCol w="1379520"/>
                <a:gridCol w="1170000"/>
                <a:gridCol w="1682640"/>
                <a:gridCol w="1474920"/>
                <a:gridCol w="1449360"/>
                <a:gridCol w="14493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Case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Case-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Case-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Case-C +  G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Pred.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PU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Non normative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Non normative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Non normative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Normative change in G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8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8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8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ＭＳ 明朝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Worst band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5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5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522360" y="576900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reduce worst bandwidth over 50%, also bi-prediction 8x8 and uni-prediction 8x4, 4x8 have to be restrict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78FE-D52D-46BD-B4AD-C1C7DCBA6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954000"/>
          <a:ext cx="8461440" cy="4668840"/>
        </p:xfrm>
        <a:graphic>
          <a:graphicData uri="http://schemas.openxmlformats.org/drawingml/2006/table">
            <a:tbl>
              <a:tblPr/>
              <a:tblGrid>
                <a:gridCol w="1639800"/>
                <a:gridCol w="1752480"/>
                <a:gridCol w="1714680"/>
                <a:gridCol w="1676160"/>
                <a:gridCol w="1678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 + G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vg. BD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2.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.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(Wor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-5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-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-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-5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(Typ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(Wor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-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-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-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-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(Typ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Visual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Slight degradation is fou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Same with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Same with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Tahoma"/>
                          <a:ea typeface="ＭＳ Ｐゴシック"/>
                        </a:rPr>
                        <a:t>Same with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-226800" y="5769000"/>
            <a:ext cx="95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case-A and B restriction can significantly reduce worst complexity, but it brings large BD% los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5580-6BF3-45DD-B377-BE75FA85F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57360" y="0"/>
          <a:ext cx="5676840" cy="1562040"/>
        </p:xfrm>
        <a:graphic>
          <a:graphicData uri="http://schemas.openxmlformats.org/drawingml/2006/table">
            <a:tbl>
              <a:tblPr/>
              <a:tblGrid>
                <a:gridCol w="787320"/>
                <a:gridCol w="77472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ase-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B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B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P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P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57360" y="1673280"/>
          <a:ext cx="5676840" cy="1562040"/>
        </p:xfrm>
        <a:graphic>
          <a:graphicData uri="http://schemas.openxmlformats.org/drawingml/2006/table">
            <a:tbl>
              <a:tblPr/>
              <a:tblGrid>
                <a:gridCol w="787320"/>
                <a:gridCol w="77472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ase-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B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B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P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P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57360" y="3338640"/>
          <a:ext cx="5676840" cy="1562040"/>
        </p:xfrm>
        <a:graphic>
          <a:graphicData uri="http://schemas.openxmlformats.org/drawingml/2006/table">
            <a:tbl>
              <a:tblPr/>
              <a:tblGrid>
                <a:gridCol w="787320"/>
                <a:gridCol w="77472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ase-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B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B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P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P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57360" y="5003640"/>
          <a:ext cx="5676840" cy="1562040"/>
        </p:xfrm>
        <a:graphic>
          <a:graphicData uri="http://schemas.openxmlformats.org/drawingml/2006/table">
            <a:tbl>
              <a:tblPr/>
              <a:tblGrid>
                <a:gridCol w="787320"/>
                <a:gridCol w="77472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+G3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A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B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B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P_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DP_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6671880" y="5936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se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6625800" y="23493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se-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6672600" y="396864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se-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6726960" y="558972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se-C +G3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2237-CCCF-4CA1-A882-63F1E9A626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ding efficiency for image siz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773280"/>
            <a:ext cx="8607240" cy="5043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4440" y="22590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13800" y="5950080"/>
            <a:ext cx="81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large image such as class A, B, and E, the BD% loss is smaller than class C and 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7677000" y="2529000"/>
            <a:ext cx="990720" cy="157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5E32-AF27-4B13-B3D2-4436C8F82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nclus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o reduce worst complexity, restrictions without normative change were studied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heoretically worst analysis was carried out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bandwidth is widely change by block size and prediction m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range is very wide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reduce worst bandwidth over 50% without normative change, also bi-prediction 8x8 have to be restri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he case-A restriction can significantly reduce worst complexity, but it brings large BD% los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large image as class A, B, and E, the BD% loss is smaller than class C and D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Recommend to design level,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discuss max bandwidth for each le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design relevant restriction for each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505F-964C-4841-A429-9CC9CCC32D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0000110148</cp:lastModifiedBy>
  <dcterms:modified xsi:type="dcterms:W3CDTF">2011-11-24T16:59:06Z</dcterms:modified>
  <cp:revision>50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966292</vt:r8>
  </property>
  <property fmtid="{D5CDD505-2E9C-101B-9397-08002B2CF9AE}" pid="3" name="_AuthorEmail">
    <vt:lpwstr>Ali.Tabatabai@am.sony.com</vt:lpwstr>
  </property>
  <property fmtid="{D5CDD505-2E9C-101B-9397-08002B2CF9AE}" pid="4" name="_AuthorEmailDisplayName">
    <vt:lpwstr>Tabatabai, Ali</vt:lpwstr>
  </property>
  <property fmtid="{D5CDD505-2E9C-101B-9397-08002B2CF9AE}" pid="5" name="_EmailSubject">
    <vt:lpwstr>Presentation</vt:lpwstr>
  </property>
  <property fmtid="{D5CDD505-2E9C-101B-9397-08002B2CF9AE}" pid="6" name="_PreviousAdHocReviewCycleID">
    <vt:r8>-683104095</vt:r8>
  </property>
  <property fmtid="{D5CDD505-2E9C-101B-9397-08002B2CF9AE}" pid="7" name="_ReviewingToolsShownOnce">
    <vt:lpwstr/>
  </property>
</Properties>
</file>