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5DF5-08B1-493A-B881-CF6D4E0D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ABFA-176F-475E-B244-3688B0F1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1736-F02D-4B40-8797-F53CFF2F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22B6-9542-44F0-811C-E4D11B06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F1B1-2AF9-4A46-A76D-9B3E775C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B100-EB80-4FB7-B6E8-3BD06786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FD61-CC87-411D-B77B-816233B1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5F1C8-64B4-464D-8131-55F4F2D2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295F-1D20-47E8-AAEB-105080B3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17D3-7A19-47DE-82AE-B74ABD9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A743-A04D-48AE-B5D9-737D7609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92EB-72AD-49DE-A52A-12188A95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DB5C-1F3F-4452-A528-F9B9344988B7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5901-9346-4C44-AB71-7F3EBE93BEC6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26/07/28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MC boundary filter</a:t>
            </a:r>
            <a:br>
              <a:rPr sz="4000"/>
            </a:b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JCTVC-G390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Kenji Kondo and Teruhiko Suzuki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5293-5482-460D-8BF4-46D208908E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Backup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3333cc"/>
              </a:solidFill>
              <a:latin typeface="Tahoma"/>
              <a:ea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B89E-D506-4F1B-807B-24AB31E9EC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In actual case for 4x4 block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37000" y="1314000"/>
            <a:ext cx="440712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emory localit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2000" indent="-18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th boundary filter, this means to use 4 tap for memory acc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Bandwidth decre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2000" indent="-18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e memory b/w can be reduced for worst and aver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omputation decre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2000" indent="-18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o interpolate yellow is not ne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4880" indent="-344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all PU siz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2000" indent="-18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 can reduce Complex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768760" y="2619360"/>
            <a:ext cx="9180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130560" y="261792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261792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848040" y="261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330200" y="261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689120" y="261936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261936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409840" y="261936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61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968400" y="261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26193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768760" y="2979720"/>
            <a:ext cx="9180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130560" y="297828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297828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848040" y="297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330200" y="297972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689120" y="297972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297972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409840" y="297972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297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968400" y="297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210200" y="297972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768760" y="3338640"/>
            <a:ext cx="9180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130560" y="33368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492360" y="33368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848040" y="333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330200" y="33386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689120" y="333864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333864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409840" y="333864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33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968400" y="333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210200" y="333864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13056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48040" y="370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330200" y="37004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05416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413080" y="369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70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968400" y="370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210200" y="370044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313056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848040" y="406080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330200" y="40608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05416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413080" y="405936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406080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968400" y="406080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210200" y="406080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2768760" y="44211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312732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3489480" y="44211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4804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33020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68912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05092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240984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968400" y="44211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210200" y="44211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768760" y="478008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12732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489480" y="478008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384804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33020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68912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205092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40984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968400" y="478008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4210200" y="478008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768760" y="11793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12732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489480" y="11793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84804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33020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168912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40984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968400" y="117936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4210200" y="117936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768760" y="153972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12732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489480" y="153972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84804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33020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68912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05092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40984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968400" y="153972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210200" y="153972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13056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349236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848040" y="189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330200" y="18986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69236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205416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413080" y="18972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89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968400" y="18986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4210200" y="189864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225900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3130560" y="225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225900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848040" y="226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30200" y="2260440"/>
            <a:ext cx="92160" cy="889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692360" y="225900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054160" y="225900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413080" y="2259000"/>
            <a:ext cx="92160" cy="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226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968400" y="2260440"/>
            <a:ext cx="9216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4210200" y="2260440"/>
            <a:ext cx="91800" cy="88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2905200" y="275436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825560" y="275436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2187720" y="2754360"/>
            <a:ext cx="9180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2546280" y="275436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2905200" y="311472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1825560" y="311472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187720" y="3114720"/>
            <a:ext cx="9180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2546280" y="311472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2905200" y="347328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1825560" y="347328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2187720" y="3473280"/>
            <a:ext cx="9180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2546280" y="347328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905200" y="239544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1825560" y="239544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187720" y="2395440"/>
            <a:ext cx="9180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546280" y="2395440"/>
            <a:ext cx="92160" cy="889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106640" y="954000"/>
            <a:ext cx="718920" cy="14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120680" y="81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1827360" y="1538280"/>
            <a:ext cx="9180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6218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971640" y="5183280"/>
            <a:ext cx="180720" cy="18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1244160" y="61214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244880" y="5094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polated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971640" y="5722920"/>
            <a:ext cx="180720" cy="1810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441440" y="545472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necessary pixel by using boundary fil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241280" y="5722920"/>
            <a:ext cx="181080" cy="1810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1197000" y="1763640"/>
            <a:ext cx="2519280" cy="2521080"/>
          </a:xfrm>
          <a:custGeom>
            <a:avLst/>
            <a:gdLst>
              <a:gd name="textAreaLeft" fmla="*/ 122760 w 2519280"/>
              <a:gd name="textAreaRight" fmla="*/ 2396520 w 2519280"/>
              <a:gd name="textAreaTop" fmla="*/ 122760 h 2521080"/>
              <a:gd name="textAreaBottom" fmla="*/ 2398320 h 2521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827360" y="1179360"/>
            <a:ext cx="9180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2185920" y="1538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2185920" y="117936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546280" y="1538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2546280" y="117936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2905200" y="1538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2905200" y="117936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827360" y="4778280"/>
            <a:ext cx="9180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827360" y="4419720"/>
            <a:ext cx="9180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2185920" y="4778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2185920" y="441972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2546280" y="4778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2546280" y="441972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905200" y="477828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2905200" y="4419720"/>
            <a:ext cx="92160" cy="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280E-46CA-400A-9EAC-16CF8091BDB5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emory bandwidth is important issue for MC becaus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st of DDR memory incr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ower consumption incr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Proposal “MC boundary filter” can reduce memory bandwidth both worst and average case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xplanation of MC boundary filter to reduce bandwidth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Experim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eck coding effici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o simplify encoder, we checked the case of no use this boundary filter in motion search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eck visual 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Conclusio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1754-7CF1-4C06-8E1F-C07FADF6EA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The idea to reduce bandwidth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13056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570560" y="1673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5291280" y="1673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446640" y="2214720"/>
            <a:ext cx="180720" cy="18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1673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745164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3739680" y="-1139760"/>
            <a:ext cx="358560" cy="6255000"/>
          </a:xfrm>
          <a:custGeom>
            <a:avLst/>
            <a:gdLst>
              <a:gd name="textAreaLeft" fmla="*/ 0 w 358560"/>
              <a:gd name="textAreaRight" fmla="*/ 129600 w 358560"/>
              <a:gd name="textAreaTop" fmla="*/ 163080 h 6255000"/>
              <a:gd name="textAreaBottom" fmla="*/ 6091920 h 625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397"/>
                </a:lnTo>
                <a:cubicBezTo>
                  <a:pt x="10800" y="11297"/>
                  <a:pt x="16200" y="12197"/>
                  <a:pt x="21600" y="12197"/>
                </a:cubicBezTo>
                <a:cubicBezTo>
                  <a:pt x="16200" y="12197"/>
                  <a:pt x="10800" y="13097"/>
                  <a:pt x="10800" y="1399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1673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817092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6732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690560" y="16732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61675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block boundary, reference pixel becomes unnecessary with propos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5832360" y="5326200"/>
            <a:ext cx="181080" cy="1807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522360" y="5311800"/>
            <a:ext cx="181080" cy="181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6105960" y="522936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 reference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795600" y="522288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polated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86280" y="5319720"/>
            <a:ext cx="18072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359880" y="522288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d pix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130560" y="39178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39178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4570560" y="39178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291280" y="39178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446640" y="4459320"/>
            <a:ext cx="180720" cy="181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3917880"/>
            <a:ext cx="18108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39178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7451640" y="3917880"/>
            <a:ext cx="18108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4482000" y="1846800"/>
            <a:ext cx="358920" cy="4770360"/>
          </a:xfrm>
          <a:custGeom>
            <a:avLst/>
            <a:gdLst>
              <a:gd name="textAreaLeft" fmla="*/ 0 w 358920"/>
              <a:gd name="textAreaRight" fmla="*/ 129600 w 358920"/>
              <a:gd name="textAreaTop" fmla="*/ 124200 h 4770360"/>
              <a:gd name="textAreaBottom" fmla="*/ 4646160 h 47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4157"/>
                </a:lnTo>
                <a:cubicBezTo>
                  <a:pt x="10800" y="15057"/>
                  <a:pt x="16200" y="15957"/>
                  <a:pt x="21600" y="15957"/>
                </a:cubicBezTo>
                <a:cubicBezTo>
                  <a:pt x="16200" y="15957"/>
                  <a:pt x="10800" y="16857"/>
                  <a:pt x="10800" y="1775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3917880"/>
            <a:ext cx="180720" cy="181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8170920" y="3917880"/>
            <a:ext cx="18108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3917880"/>
            <a:ext cx="18072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1690560" y="3917880"/>
            <a:ext cx="181080" cy="181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3230280" y="954000"/>
            <a:ext cx="28735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HM : DCT-IF 8 t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086000" y="3249720"/>
            <a:ext cx="1080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4482000" y="2297520"/>
            <a:ext cx="358920" cy="4770360"/>
          </a:xfrm>
          <a:custGeom>
            <a:avLst/>
            <a:gdLst>
              <a:gd name="textAreaLeft" fmla="*/ 0 w 358920"/>
              <a:gd name="textAreaRight" fmla="*/ 129600 w 358920"/>
              <a:gd name="textAreaTop" fmla="*/ 124200 h 4770360"/>
              <a:gd name="textAreaBottom" fmla="*/ 4646160 h 47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4086"/>
                </a:lnTo>
                <a:cubicBezTo>
                  <a:pt x="10800" y="4986"/>
                  <a:pt x="16200" y="5886"/>
                  <a:pt x="21600" y="5886"/>
                </a:cubicBezTo>
                <a:cubicBezTo>
                  <a:pt x="16200" y="5886"/>
                  <a:pt x="10800" y="6786"/>
                  <a:pt x="10800" y="768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651640" y="4908600"/>
            <a:ext cx="180720" cy="181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2617920"/>
            <a:ext cx="180720" cy="180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5202720" y="-619920"/>
            <a:ext cx="358920" cy="6120000"/>
          </a:xfrm>
          <a:custGeom>
            <a:avLst/>
            <a:gdLst>
              <a:gd name="textAreaLeft" fmla="*/ 0 w 358920"/>
              <a:gd name="textAreaRight" fmla="*/ 129600 w 358920"/>
              <a:gd name="textAreaTop" fmla="*/ 159480 h 6120000"/>
              <a:gd name="textAreaBottom" fmla="*/ 5960520 h 612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766"/>
                </a:lnTo>
                <a:cubicBezTo>
                  <a:pt x="10800" y="8666"/>
                  <a:pt x="16200" y="9566"/>
                  <a:pt x="21600" y="9566"/>
                </a:cubicBezTo>
                <a:cubicBezTo>
                  <a:pt x="16200" y="9566"/>
                  <a:pt x="10800" y="10466"/>
                  <a:pt x="10800" y="1136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5742000" y="1359000"/>
            <a:ext cx="0" cy="37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537000" y="1403280"/>
            <a:ext cx="0" cy="36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359160" y="56275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lock bounda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46280" y="5807160"/>
            <a:ext cx="80964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17360" y="3241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coefficient is ze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 flipV="1" rot="16200000">
            <a:off x="1263600" y="3045600"/>
            <a:ext cx="269640" cy="1304640"/>
          </a:xfrm>
          <a:custGeom>
            <a:avLst/>
            <a:gdLst>
              <a:gd name="textAreaLeft" fmla="*/ 0 w 269640"/>
              <a:gd name="textAreaRight" fmla="*/ 97200 w 269640"/>
              <a:gd name="textAreaTop" fmla="*/ 33840 h 1304640"/>
              <a:gd name="textAreaBottom" fmla="*/ 1270800 h 13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51"/>
                </a:lnTo>
                <a:cubicBezTo>
                  <a:pt x="10800" y="10451"/>
                  <a:pt x="16200" y="11351"/>
                  <a:pt x="21600" y="11351"/>
                </a:cubicBezTo>
                <a:cubicBezTo>
                  <a:pt x="16200" y="11351"/>
                  <a:pt x="10800" y="12251"/>
                  <a:pt x="10800" y="131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489720" y="32940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coefficient is ze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 flipV="1" rot="16200000">
            <a:off x="7789320" y="3098520"/>
            <a:ext cx="270000" cy="1305000"/>
          </a:xfrm>
          <a:custGeom>
            <a:avLst/>
            <a:gdLst>
              <a:gd name="textAreaLeft" fmla="*/ 0 w 270000"/>
              <a:gd name="textAreaRight" fmla="*/ 97560 w 27000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51"/>
                </a:lnTo>
                <a:cubicBezTo>
                  <a:pt x="10800" y="10451"/>
                  <a:pt x="16200" y="11351"/>
                  <a:pt x="21600" y="11351"/>
                </a:cubicBezTo>
                <a:cubicBezTo>
                  <a:pt x="16200" y="11351"/>
                  <a:pt x="10800" y="12251"/>
                  <a:pt x="10800" y="131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F5C1-6352-4076-8393-796C285A29D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Filter coefficien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test case A (and B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ixel from bound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 ,   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-5 ,  54 ,  21 ,  -9 ,   5 ,  -3 ,   1 } for quarter pel 0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 ,   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-6 ,  36 ,  44 , -15 ,   8 ,  -4 ,   1 } for half p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 ,   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-3 ,  16 ,  59 , -12 ,   6 ,  -3 ,   1 } for quarter pel 1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ixel from bound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 2 ,  -9 ,  56 ,  20 ,  -8 ,   4 ,  -1 ,   </a:t>
            </a:r>
            <a:r>
              <a:rPr b="0" lang="en-US" sz="1800" spc="-1" strike="noStrike">
                <a:solidFill>
                  <a:srgbClr val="ff505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} for quarter pel 0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 3 , -10 ,  39 ,  41 , -13 ,   6 ,  -2 ,   </a:t>
            </a:r>
            <a:r>
              <a:rPr b="0" lang="en-US" sz="1800" spc="-1" strike="noStrike">
                <a:solidFill>
                  <a:srgbClr val="ff505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} for half p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 2 ,  -6 ,  18 ,  58 , -11 ,   4 ,  -1 ,   </a:t>
            </a:r>
            <a:r>
              <a:rPr b="0" lang="en-US" sz="1800" spc="-1" strike="noStrike">
                <a:solidFill>
                  <a:srgbClr val="ff505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} for quarter pel 1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test case C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pixel from bound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 2 ,  -9 ,  56 ,  20 ,  -8 ,   4 ,  -2 ,   1 } for quarter pel 0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 3 , -10 ,  39 ,  42 , -14 ,   7 ,  -4 ,   1 } for half p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{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0</a:t>
            </a: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 ,   2 ,  -6 ,  18 ,  58 , -11 ,   5 ,  -3 ,   1 } for quarter pel 1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otherwis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CTIF 8 tap is u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86F8-B8B7-43E3-95DC-626F8B4B54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Experimen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1640" y="728280"/>
            <a:ext cx="8461440" cy="58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We checked the impact for coding efficiency and visual quality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ur test cas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: 2 lines of boundary are modified to boundary fil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: basically same as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but proposal filter is not used in ME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ME means both motion search and mode decision for each CU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: 1 line of boundary is modified to boundary fil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+ restriction: case-C and 8x4, 4x8 for bi-prediction are restric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For visual qual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coding cond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RA_HE, LDP_HE, LDP_LC without SAO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QP : 22 and 37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Sequence: Nebuta, BQTerrace, BQMall, and PartyScene 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nvironment for vie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EIZO monitor and High performance PC are used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difference could not be found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D668-D44D-460D-9B39-CC0642E5DF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Anchor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11280" y="99864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694240" y="567864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w Delay P without SAO, QP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4CBA-3E22-40A8-BA56-660B00A8AF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Proposal case-A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998640"/>
            <a:ext cx="7924680" cy="4572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694240" y="567864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w Delay P without SAO, QP3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C0A2-F99B-4907-A642-3586513FDB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Resul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954000"/>
          <a:ext cx="8596080" cy="5499360"/>
        </p:xfrm>
        <a:graphic>
          <a:graphicData uri="http://schemas.openxmlformats.org/drawingml/2006/table">
            <a:tbl>
              <a:tblPr/>
              <a:tblGrid>
                <a:gridCol w="1717560"/>
                <a:gridCol w="1720800"/>
                <a:gridCol w="1719360"/>
                <a:gridCol w="1719360"/>
                <a:gridCol w="17190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 (no use in M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C + Restri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Avg. BD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2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0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0.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Band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(Wor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3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5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Band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(Typi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(Wors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-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(Typi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ＭＳ Ｐゴシック"/>
                        </a:rPr>
                        <a:t>-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Visual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Same as anc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Same as anc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Same as anc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  <a:ea typeface="ＭＳ Ｐゴシック"/>
                        </a:rPr>
                        <a:t>Same as anc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8CC3-F978-4A7B-B89D-1912DF725A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Conclus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MC boundary filter can reduce complexity both bandwidth and computation for both worst and typical cas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theoretically wors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bandwidth can be reduced -44% and -56% for case-A and C with restriction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operations can be reduced -28% and -33% for case-A and C with restriction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average on common test condition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bandwidth can be reduced -17% and -13% for case A and C with restriction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  <a:ea typeface="ＭＳ Ｐゴシック"/>
              </a:rPr>
              <a:t>The operations can be reduced -9% and -5% for case A and C with restriction.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In ME, we can use only DCTIF filter with negligible coding loss (~0.04%)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ＭＳ Ｐゴシック"/>
              </a:rPr>
              <a:t>Visual quality is the same as anchor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CTVC-G39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0178-FC40-4F6C-A93C-B5C7A49F49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0000110148</cp:lastModifiedBy>
  <dcterms:modified xsi:type="dcterms:W3CDTF">2011-11-22T14:26:14Z</dcterms:modified>
  <cp:revision>50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13966292</vt:r8>
  </property>
  <property fmtid="{D5CDD505-2E9C-101B-9397-08002B2CF9AE}" pid="3" name="_AuthorEmail">
    <vt:lpwstr>Ali.Tabatabai@am.sony.com</vt:lpwstr>
  </property>
  <property fmtid="{D5CDD505-2E9C-101B-9397-08002B2CF9AE}" pid="4" name="_AuthorEmailDisplayName">
    <vt:lpwstr>Tabatabai, Ali</vt:lpwstr>
  </property>
  <property fmtid="{D5CDD505-2E9C-101B-9397-08002B2CF9AE}" pid="5" name="_EmailSubject">
    <vt:lpwstr>Presentation</vt:lpwstr>
  </property>
  <property fmtid="{D5CDD505-2E9C-101B-9397-08002B2CF9AE}" pid="6" name="_PreviousAdHocReviewCycleID">
    <vt:r8>-683104095</vt:r8>
  </property>
  <property fmtid="{D5CDD505-2E9C-101B-9397-08002B2CF9AE}" pid="7" name="_ReviewingToolsShownOnce">
    <vt:lpwstr/>
  </property>
</Properties>
</file>