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8D3C-9B22-4477-8592-5883E6A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231-2ABB-4EC3-AA93-589D694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9E1F-4873-47D3-8171-FBF58EEE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1894-B635-4FBB-8FE8-30CD6B42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E821-82E2-490E-AEB1-92A64E8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AF28-DBED-4707-8F55-C4056C9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90DB-4C37-42F1-8431-A62E236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E8EE-3147-4DA8-8400-EF9903C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68AE-7146-46C5-8D42-B49ED350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72B2-E6D2-44DF-AC8E-DC2E2A1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A1AF-C8D0-4508-8E87-931A7120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FB3A-9D03-4E7A-85EB-EA5D6DF6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42D-6B0E-48F8-A295-ECD28946BED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A38-7B03-410D-A14B-744061C915FF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boundary filter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G39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C0A7-A0A2-48EC-8D78-29482524EB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ackup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3333cc"/>
              </a:solidFill>
              <a:latin typeface="Tahoma"/>
              <a:ea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4B94-C1C4-41E3-BB6F-72865BF43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n actual case for 4x4 block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37000" y="1314000"/>
            <a:ext cx="44071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localit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th boundary filter, this means to use 4 tap for memory ac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andwidth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mory b/w can be reduced for worst and ave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mputation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interpolate yellow is not n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all PU s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can reduce Complex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768760" y="261936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305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84804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330200" y="261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6891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6840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261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297972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305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84804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330200" y="29797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6891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40984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96840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297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768760" y="333864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1305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84804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0200" y="333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891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0984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6840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333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05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4804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330200" y="370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0541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6840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210200" y="370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1305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330200" y="40608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0541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41308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96840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406080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76876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1273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48948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480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3302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6891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4098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9684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21020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76876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1273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48948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8480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3302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6891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4098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9684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76876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1273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48948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8480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3302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6891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4098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684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21020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6876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1273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48948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8480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3302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6891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4098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684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1305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84804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330200" y="189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0541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41308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6840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210200" y="189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1305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4804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30200" y="226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0541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41308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6840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226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90520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82556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187720" y="275436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54628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90520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556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187720" y="311472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4628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90520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82556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187720" y="347328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54628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90520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187720" y="239544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54628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106640" y="954000"/>
            <a:ext cx="71892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20680" y="81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827360" y="153828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6218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518328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244160" y="61214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44880" y="5094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5722920"/>
            <a:ext cx="180720" cy="181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441440" y="5454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necessary pixel by using boundary fil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241280" y="5722920"/>
            <a:ext cx="181080" cy="18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197000" y="1763640"/>
            <a:ext cx="2519280" cy="252108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521080"/>
              <a:gd name="textAreaBottom" fmla="*/ 2398320 h 2521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17936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18592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18592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54628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254628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90520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90520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827360" y="477828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27360" y="441972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18592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18592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54628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54628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90520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90520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C14C-16C1-46CB-B3B7-7CE6D919E1B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issue for MC becau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st of DDR memor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wer consumption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al “MC boundary filter” can reduce memory bandwidth both worst and average cas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lanation of MC boundary filter to reduce bandwidt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coding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o simplify encoder, we checked the case of no use this boundary filter in motion search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visual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F253-EA94-483F-8B99-83BB09812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he idea to reduce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13056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57056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29128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446640" y="22147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739680" y="-1139760"/>
            <a:ext cx="358560" cy="6255000"/>
          </a:xfrm>
          <a:custGeom>
            <a:avLst/>
            <a:gdLst>
              <a:gd name="textAreaLeft" fmla="*/ 0 w 358560"/>
              <a:gd name="textAreaRight" fmla="*/ 129600 w 358560"/>
              <a:gd name="textAreaTop" fmla="*/ 163080 h 6255000"/>
              <a:gd name="textAreaBottom" fmla="*/ 6091920 h 625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397"/>
                </a:lnTo>
                <a:cubicBezTo>
                  <a:pt x="10800" y="11297"/>
                  <a:pt x="16200" y="12197"/>
                  <a:pt x="21600" y="12197"/>
                </a:cubicBezTo>
                <a:cubicBezTo>
                  <a:pt x="16200" y="12197"/>
                  <a:pt x="10800" y="13097"/>
                  <a:pt x="10800" y="139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817092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61675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block boundary, reference pixel becomes unnecessary with propos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832360" y="5326200"/>
            <a:ext cx="181080" cy="180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22360" y="5311800"/>
            <a:ext cx="18108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6105960" y="5229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 reference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795600" y="52228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86280" y="531972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359880" y="52228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457056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9128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446640" y="4459320"/>
            <a:ext cx="18072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482000" y="1846800"/>
            <a:ext cx="358920" cy="4770360"/>
          </a:xfrm>
          <a:custGeom>
            <a:avLst/>
            <a:gdLst>
              <a:gd name="textAreaLeft" fmla="*/ 0 w 358920"/>
              <a:gd name="textAreaRight" fmla="*/ 129600 w 35892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157"/>
                </a:lnTo>
                <a:cubicBezTo>
                  <a:pt x="10800" y="15057"/>
                  <a:pt x="16200" y="15957"/>
                  <a:pt x="21600" y="15957"/>
                </a:cubicBezTo>
                <a:cubicBezTo>
                  <a:pt x="16200" y="15957"/>
                  <a:pt x="10800" y="16857"/>
                  <a:pt x="10800" y="177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17092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91788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169056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30280" y="954000"/>
            <a:ext cx="2873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HM : DCT-IF 8 t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086000" y="3249720"/>
            <a:ext cx="10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482000" y="2297520"/>
            <a:ext cx="358920" cy="4770360"/>
          </a:xfrm>
          <a:custGeom>
            <a:avLst/>
            <a:gdLst>
              <a:gd name="textAreaLeft" fmla="*/ 0 w 358920"/>
              <a:gd name="textAreaRight" fmla="*/ 129600 w 35892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86"/>
                </a:lnTo>
                <a:cubicBezTo>
                  <a:pt x="10800" y="4986"/>
                  <a:pt x="16200" y="5886"/>
                  <a:pt x="21600" y="5886"/>
                </a:cubicBezTo>
                <a:cubicBezTo>
                  <a:pt x="16200" y="5886"/>
                  <a:pt x="10800" y="6786"/>
                  <a:pt x="10800" y="76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4908600"/>
            <a:ext cx="18072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26179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202720" y="-619920"/>
            <a:ext cx="358920" cy="6120000"/>
          </a:xfrm>
          <a:custGeom>
            <a:avLst/>
            <a:gdLst>
              <a:gd name="textAreaLeft" fmla="*/ 0 w 358920"/>
              <a:gd name="textAreaRight" fmla="*/ 129600 w 35892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766"/>
                </a:lnTo>
                <a:cubicBezTo>
                  <a:pt x="10800" y="8666"/>
                  <a:pt x="16200" y="9566"/>
                  <a:pt x="21600" y="9566"/>
                </a:cubicBezTo>
                <a:cubicBezTo>
                  <a:pt x="16200" y="9566"/>
                  <a:pt x="10800" y="10466"/>
                  <a:pt x="10800" y="113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742000" y="1359000"/>
            <a:ext cx="0" cy="37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537000" y="1403280"/>
            <a:ext cx="0" cy="36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359160" y="56275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bound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46280" y="5807160"/>
            <a:ext cx="8096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7360" y="3241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coefficient is z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1263600" y="3045600"/>
            <a:ext cx="269640" cy="1304640"/>
          </a:xfrm>
          <a:custGeom>
            <a:avLst/>
            <a:gdLst>
              <a:gd name="textAreaLeft" fmla="*/ 0 w 269640"/>
              <a:gd name="textAreaRight" fmla="*/ 97200 w 269640"/>
              <a:gd name="textAreaTop" fmla="*/ 33840 h 1304640"/>
              <a:gd name="textAreaBottom" fmla="*/ 1270800 h 13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1"/>
                </a:lnTo>
                <a:cubicBezTo>
                  <a:pt x="10800" y="10451"/>
                  <a:pt x="16200" y="11351"/>
                  <a:pt x="21600" y="11351"/>
                </a:cubicBezTo>
                <a:cubicBezTo>
                  <a:pt x="16200" y="11351"/>
                  <a:pt x="10800" y="12251"/>
                  <a:pt x="10800" y="131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489720" y="32940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coefficient is z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flipV="1" rot="16200000">
            <a:off x="7789320" y="3098520"/>
            <a:ext cx="270000" cy="1305000"/>
          </a:xfrm>
          <a:custGeom>
            <a:avLst/>
            <a:gdLst>
              <a:gd name="textAreaLeft" fmla="*/ 0 w 270000"/>
              <a:gd name="textAreaRight" fmla="*/ 97560 w 27000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1"/>
                </a:lnTo>
                <a:cubicBezTo>
                  <a:pt x="10800" y="10451"/>
                  <a:pt x="16200" y="11351"/>
                  <a:pt x="21600" y="11351"/>
                </a:cubicBezTo>
                <a:cubicBezTo>
                  <a:pt x="16200" y="11351"/>
                  <a:pt x="10800" y="12251"/>
                  <a:pt x="10800" y="131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2990-2F58-42E5-AB6C-B6B30978E4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A (and B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5 ,  54 ,  21 ,  -9 ,   5 ,  -3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6 ,  36 ,  44 , -15 ,   8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3 ,  16 ,  59 , -12 ,   6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9 ,  56 ,  20 ,  -8 ,   4 ,  -1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3 , -10 ,  39 ,  41 , -13 ,   6 ,  -2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6 ,  18 ,  58 , -11 ,   4 ,  -1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9 ,  56 ,  20 ,  -8 ,   4 ,  -2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3 , -10 ,  39 ,  42 , -14 ,   7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6 ,  18 ,  58 , -11 ,   5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otherwi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CTIF 8 tap is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71C5-FFD5-4107-BBEC-5C15AF01C7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640" y="728280"/>
            <a:ext cx="846144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checked the impact for coding efficiency and visual quality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ur test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: 2 lines of boundary are modified to boundary fil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: basically same as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but proposal filter is not used in ME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ME means both motion search and mode decision for each CU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: 1 line of boundary is modified to boundary fil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+ restriction: case-C and 8x4, 4x8 for bi-prediction are restric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visual qual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coding 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RA_HE, LDP_HE, LDP_LC without SAO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QP : 22 and 37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Sequence: Nebuta, BQTerrace, BQMall, and PartyScene 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vironment for vie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EIZO monitor and High performance PC are use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difference could not be foun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E0E3-B488-4EC7-B199-79F372194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nchor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99864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94240" y="5678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w Delay P without SAO, QP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00E0-30CF-4D5B-B411-5AB8AC718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posal case-A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99864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94240" y="5678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w Delay P without SAO, QP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9588-DA8E-48E1-92D5-7A72FB067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954000"/>
          <a:ext cx="8596080" cy="5499360"/>
        </p:xfrm>
        <a:graphic>
          <a:graphicData uri="http://schemas.openxmlformats.org/drawingml/2006/table">
            <a:tbl>
              <a:tblPr/>
              <a:tblGrid>
                <a:gridCol w="1717560"/>
                <a:gridCol w="1720800"/>
                <a:gridCol w="1719360"/>
                <a:gridCol w="1719360"/>
                <a:gridCol w="17190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 (no use in 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 + Restri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vg. BD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Visu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AF8C-ED0C-4E0F-B6A6-80B419975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C boundary filter can reduce complexity both bandwidth and computation for both worst and typical cas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theoretically wors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bandwidth can be reduced -44% and -56% for case-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operations can be reduced -28% and -33% for case-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average on common test condi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bandwidth can be reduced -17% and -13% for case 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operations can be reduced -9% and -5% for case 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ME, we can use only DCTIF filter with negligible coding loss (~0.04%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Visual quality is the same as ancho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547C-E05B-4D3F-B45C-0EB55CB41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11-22T14:26:14Z</dcterms:modified>
  <cp:revision>50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