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C4FE-BEB5-4B02-862B-4D5664DDD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スライド番号プレースホルダ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7794-ECBF-4E31-9677-39E6DCA84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7435-0614-4B1D-A16E-E4C58F7A9A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3B81-9673-44FE-A7D8-78561AAA50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344F-82ED-4086-B7DE-A3DEB87232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C32C-E215-40BE-929F-A7E30BED80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E111-0C18-4540-A676-082E274F3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4746-5E87-4375-9C9E-2B8F3767A3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7A3B-649B-47FF-8F06-019AD9F986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6F96-5990-4899-AB01-AD0B969137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677B-DDB5-49C7-9D26-ED3AD2B49D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4B3F-2437-4EE1-8AFA-1671806388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BAA5-B5C7-49F5-B462-F1E4C38D36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DBFC-495A-407D-958F-B494903F02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92461-7003-45F2-A1A0-7D699FD6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526C4-BAA3-48D7-A215-690232CD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D0567-338E-487F-999C-80879A0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4D196-352E-4030-86D0-818CC64F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ABBC8-FBEC-4761-B5B9-3720F90D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860B7-3FAC-42A7-BDF4-0FC2C080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75D27-CFAA-42A6-B023-E1568715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73710-ABF5-489E-9857-5779C2C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BB5CC-E7DB-4480-8C50-F813407F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76B4D-A349-4A6E-A4D2-4E09ECB9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27F89-EC90-4997-BDBA-8A3C6CA2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07CCA-0533-4E99-8D85-5125ECF2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F86-4C91-436B-AA0C-3C7D19EA32B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G35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655F-F692-4821-9554-4001E3B18FC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2340000"/>
            <a:ext cx="770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entury Gothic"/>
              </a:rPr>
              <a:t>Parameterization of Default Quantization Matrices 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720" y="306036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hsan Maani, Munsi Haque, Ali Tabatabai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431928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Proposal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JCTVC-G352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Nov 15 2011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280" y="1412640"/>
            <a:ext cx="901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Default quantization matrice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Parameterization 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orage of parameters vs. matric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A27-BE58-4490-83F5-39B8422EEEE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G3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Default Quantization Matrice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Quantization matrices allow unequal quantization across different frequencies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ach DCT coefficient can be quantized differently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In case, a quantization matrix is not provided, the default will be used by encoder/decoder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Default quantization matrices are stored in the memory at the decoder (and perhaps the encoder)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5BB-7044-4A32-898D-40B03DB8FF9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G3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arameterization of default matrice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Proposal: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stead of storing default quantization matrices, store parameters that can efficiently represent those matric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Extensive subjective quality evaluations are needed to find a set of quantization matrices for HEVC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n, the proposed parameterization can result in matrices  close to those with no visual quality impact but far more efficient for compact storage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B2B8-363F-4590-8C7F-B4C6694B0A9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G3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arameterization of default matrice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9D34-77EE-4EC2-ABF1-460B90BCFA1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G3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0" y="0"/>
          <a:ext cx="26290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629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5"/>
          <p:cNvGraphicFramePr/>
          <p:nvPr/>
        </p:nvGraphicFramePr>
        <p:xfrm>
          <a:off x="1719360" y="2260440"/>
          <a:ext cx="592272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9360" y="2260440"/>
                    <a:ext cx="59227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 txBox="1"/>
          <p:nvPr/>
        </p:nvSpPr>
        <p:spPr>
          <a:xfrm>
            <a:off x="125280" y="1412640"/>
            <a:ext cx="8802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4-parameter symmetric quadratic model </a:t>
            </a:r>
            <a:r>
              <a:rPr b="0" i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(a, b, c, d):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grpSp>
        <p:nvGrpSpPr>
          <p:cNvPr id="236" name="Group 19"/>
          <p:cNvGrpSpPr/>
          <p:nvPr/>
        </p:nvGrpSpPr>
        <p:grpSpPr>
          <a:xfrm>
            <a:off x="811080" y="3451320"/>
            <a:ext cx="8332920" cy="4848840"/>
            <a:chOff x="811080" y="3451320"/>
            <a:chExt cx="8332920" cy="4848840"/>
          </a:xfrm>
        </p:grpSpPr>
        <p:sp>
          <p:nvSpPr>
            <p:cNvPr id="237" name="TextBox 14"/>
            <p:cNvSpPr/>
            <p:nvPr/>
          </p:nvSpPr>
          <p:spPr>
            <a:xfrm>
              <a:off x="811080" y="3451320"/>
              <a:ext cx="833292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dobe Caslon Pro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dobe Caslon Pro"/>
                </a:rPr>
                <a:t>denotes the quantization scale value at locatio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dobe Caslon Pro"/>
                </a:rPr>
                <a:t>(i,j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dobe Caslon Pro"/>
                </a:rPr>
                <a:t>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dobe Caslon Pro"/>
                </a:rPr>
                <a:t>where           is the size of the trans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dobe Caslon Pro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dobe Caslon Pro"/>
                </a:rPr>
                <a:t>represents the scaling factor for bit accuracy of the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dobe Caslon Pro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dobe Caslon Pro"/>
                </a:rPr>
                <a:t>Least Squares Fitting is used to derive parameters from known metrice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8" name="Object 6"/>
            <p:cNvGraphicFramePr/>
            <p:nvPr/>
          </p:nvGraphicFramePr>
          <p:xfrm>
            <a:off x="1122120" y="4148640"/>
            <a:ext cx="23432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22120" y="4148640"/>
                      <a:ext cx="2343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Object 7"/>
            <p:cNvGraphicFramePr/>
            <p:nvPr/>
          </p:nvGraphicFramePr>
          <p:xfrm>
            <a:off x="4520160" y="4252680"/>
            <a:ext cx="703080" cy="257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20160" y="4252680"/>
                      <a:ext cx="70308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Object 8"/>
            <p:cNvGraphicFramePr/>
            <p:nvPr/>
          </p:nvGraphicFramePr>
          <p:xfrm>
            <a:off x="1187640" y="3468240"/>
            <a:ext cx="921960" cy="35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87640" y="3468240"/>
                      <a:ext cx="92196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9"/>
            <p:cNvGraphicFramePr/>
            <p:nvPr/>
          </p:nvGraphicFramePr>
          <p:xfrm>
            <a:off x="1215720" y="4953960"/>
            <a:ext cx="276480" cy="33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5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15720" y="4953960"/>
                      <a:ext cx="27648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arameterization of AVC’s matrice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661F-E60D-4455-BA93-19FD6CC54A5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G3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1"/>
          <p:cNvGraphicFramePr/>
          <p:nvPr/>
        </p:nvGraphicFramePr>
        <p:xfrm>
          <a:off x="0" y="0"/>
          <a:ext cx="26290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629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31800" y="1424160"/>
          <a:ext cx="3191040" cy="952200"/>
        </p:xfrm>
        <a:graphic>
          <a:graphicData uri="http://schemas.openxmlformats.org/drawingml/2006/table">
            <a:tbl>
              <a:tblPr/>
              <a:tblGrid>
                <a:gridCol w="1082880"/>
                <a:gridCol w="1101600"/>
                <a:gridCol w="1006560"/>
              </a:tblGrid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 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  13  20  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 20  28  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28  32  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 32  37  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   13    21    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   20    27    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27    32    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33    37    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-1    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 1    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    1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-1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881600" y="1424160"/>
          <a:ext cx="3190680" cy="952200"/>
        </p:xfrm>
        <a:graphic>
          <a:graphicData uri="http://schemas.openxmlformats.org/drawingml/2006/table">
            <a:tbl>
              <a:tblPr/>
              <a:tblGrid>
                <a:gridCol w="1063440"/>
                <a:gridCol w="1063800"/>
                <a:gridCol w="1063440"/>
              </a:tblGrid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 I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 14    20    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   20    24    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24    27    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   27    30    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 15    20    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   19    24    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24    27    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   27    31    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-1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    1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 0    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-1    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428840" y="2622600"/>
          <a:ext cx="6080040" cy="1857240"/>
        </p:xfrm>
        <a:graphic>
          <a:graphicData uri="http://schemas.openxmlformats.org/drawingml/2006/table">
            <a:tbl>
              <a:tblPr/>
              <a:tblGrid>
                <a:gridCol w="2027160"/>
                <a:gridCol w="2027160"/>
                <a:gridCol w="2025720"/>
              </a:tblGrid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 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  10    13    16    18    23    25    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 13    16    18    23    25    27    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   16    18    23    25    27    29    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   18    23    25    27    29    31    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   23    25    27    29    31    33    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   25    27    29    31    33    36    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27    29    31    33    36    38    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29    31    33    36    38    40    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  10    13    16    19    22    24    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 13    16    19    22    24    27    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   16    19    22    24    27    29    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   19    22    24    27    29    32    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   22    24    27    29    32    34    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24    27    29    32    34    36    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   27    29    32    34    36    38    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29    32    34    36    38    40    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    0     0     0    -1     1     1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 0    -1     1     1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-1     1     1     0     0    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-1     1     1     0     0    -1    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    1     1     0     0    -1    -1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1     0     0    -1    -1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0     0    -1    -1     0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-1    -1     0     0     0    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419120" y="4583160"/>
          <a:ext cx="6080400" cy="1857240"/>
        </p:xfrm>
        <a:graphic>
          <a:graphicData uri="http://schemas.openxmlformats.org/drawingml/2006/table">
            <a:tbl>
              <a:tblPr/>
              <a:tblGrid>
                <a:gridCol w="2027520"/>
                <a:gridCol w="2027160"/>
                <a:gridCol w="2025720"/>
              </a:tblGrid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 In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   13    15    17    19    21    22    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   15    17    19    21    22    24    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   17    19    21    22    24    25    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19    21    22    24    25    27    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   21    22    24    25    27    28    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22    24    25    27    28    30    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24    25    27    28    30    32    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   25    27    28    30    32    33    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   13    15    17    19    20    22    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   15    17    19    20    22    24    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   17    19    20    22    24    25    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19    20    22    24    26    27    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   20    22    24    26    27    29    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22    24    26    27    29    30    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24    25    27    29    30    32    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   25    27    29    30    32    33    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     0     0     0     0     1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 0     0     1     0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 0     1     0     0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 1     0     0    -1     0    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1     0     0    -1     0    -1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0     0    -1     0    -1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 0     0    -1     0     0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     0    -1     0     0     0    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Left-Right Arrow 13"/>
          <p:cNvSpPr/>
          <p:nvPr/>
        </p:nvSpPr>
        <p:spPr>
          <a:xfrm>
            <a:off x="3951360" y="1673280"/>
            <a:ext cx="784080" cy="501480"/>
          </a:xfrm>
          <a:prstGeom prst="leftRightArrow">
            <a:avLst>
              <a:gd name="adj1" fmla="val 50000"/>
              <a:gd name="adj2" fmla="val 50011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eft-Right Arrow 15"/>
          <p:cNvSpPr/>
          <p:nvPr/>
        </p:nvSpPr>
        <p:spPr>
          <a:xfrm rot="16200000">
            <a:off x="774000" y="4228200"/>
            <a:ext cx="785520" cy="501840"/>
          </a:xfrm>
          <a:prstGeom prst="leftRightArrow">
            <a:avLst>
              <a:gd name="adj1" fmla="val 50000"/>
              <a:gd name="adj2" fmla="val 49965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8x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400" y="628200"/>
            <a:ext cx="882324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arameterization and extension of AVC’s matrice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fter parameterization, scaling can be done to generate matrices for 16x16 and 32x32 from 8x8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The results, using AVC’s matrices: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  <a:ea typeface="Calibri"/>
              </a:rPr>
              <a:t>As seen in the previous page error is minimal and will have negligible impact on visual quality</a:t>
            </a:r>
            <a:endParaRPr b="0" lang="en-US" sz="16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872B-464A-48A7-8216-5A4CAEB302B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G3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119320" y="3787920"/>
          <a:ext cx="4560840" cy="1508040"/>
        </p:xfrm>
        <a:graphic>
          <a:graphicData uri="http://schemas.openxmlformats.org/drawingml/2006/table">
            <a:tbl>
              <a:tblPr/>
              <a:tblGrid>
                <a:gridCol w="1193760"/>
                <a:gridCol w="971640"/>
                <a:gridCol w="2395440"/>
              </a:tblGrid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orm 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ice 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s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, b, c, 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x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6,       -901,        8264,        56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x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6,       -127,        3364,        68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x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         -32,        1682,        68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x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           -8,          841,        68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x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2,       -563,        5440,        99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x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,          -50,        2070,       112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x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          -13,        1035,       112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x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             -3,         517,        112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Storage of default matrices 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41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Default quantization matrices in HEVC (only square matrices)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number of elements: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Parameterization can reduce this number to 8x4x3=96.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ill, each matrix is represented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Calibri"/>
              </a:rPr>
              <a:t>separat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Calibri"/>
              </a:rPr>
              <a:t>independent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and can easily be changed in the future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796F-9A48-417B-914C-6D0B2C2882F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G3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2"/>
          <p:cNvGraphicFramePr/>
          <p:nvPr/>
        </p:nvGraphicFramePr>
        <p:xfrm>
          <a:off x="1073160" y="3303720"/>
          <a:ext cx="60181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3303720"/>
                    <a:ext cx="60181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ounded Rectangle 10"/>
          <p:cNvSpPr/>
          <p:nvPr/>
        </p:nvSpPr>
        <p:spPr>
          <a:xfrm>
            <a:off x="5468760" y="2638440"/>
            <a:ext cx="884520" cy="4032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dobe Garamond Pro"/>
                <a:ea typeface="HGP創英角ｺﾞｼｯｸUB"/>
              </a:rPr>
              <a:t>Y/U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11"/>
          <p:cNvSpPr/>
          <p:nvPr/>
        </p:nvSpPr>
        <p:spPr>
          <a:xfrm>
            <a:off x="4861080" y="3882960"/>
            <a:ext cx="1280880" cy="4460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dobe Garamond Pro"/>
                <a:ea typeface="HGP創英角ｺﾞｼｯｸUB"/>
              </a:rPr>
              <a:t>Inter/In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13"/>
          <p:cNvCxnSpPr>
            <a:stCxn id="269" idx="2"/>
          </p:cNvCxnSpPr>
          <p:nvPr/>
        </p:nvCxnSpPr>
        <p:spPr>
          <a:xfrm flipH="1">
            <a:off x="5909400" y="3041640"/>
            <a:ext cx="2520" cy="264240"/>
          </a:xfrm>
          <a:prstGeom prst="straightConnector1">
            <a:avLst/>
          </a:prstGeom>
          <a:ln w="15840">
            <a:solidFill>
              <a:srgbClr val="b6dcdf"/>
            </a:solidFill>
            <a:miter/>
            <a:tailEnd len="med" type="stealth" w="med"/>
          </a:ln>
        </p:spPr>
      </p:cxnSp>
      <p:cxnSp>
        <p:nvCxnSpPr>
          <p:cNvPr id="272" name="Straight Arrow Connector 15"/>
          <p:cNvCxnSpPr/>
          <p:nvPr/>
        </p:nvCxnSpPr>
        <p:spPr>
          <a:xfrm flipV="1">
            <a:off x="5567400" y="3653640"/>
            <a:ext cx="2160" cy="229320"/>
          </a:xfrm>
          <a:prstGeom prst="straightConnector1">
            <a:avLst/>
          </a:prstGeom>
          <a:ln w="15840">
            <a:solidFill>
              <a:srgbClr val="b6dcdf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Explicit representation of quantization matrices in HEVC requires large memory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The difference between parameterized and original matrices are small for most existing quantization matrices (especially AVC)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difference is too small to have any visible impact on visual quality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Each matrix is independently represented and therefore can be easily changed in the future if needed w/o changing the calculation logic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is is not the case if some of the matrices are derived from other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EDC-B473-4718-8F10-635A0A84F95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G3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1000088605</cp:lastModifiedBy>
  <dcterms:modified xsi:type="dcterms:W3CDTF">2011-11-18T23:41:00Z</dcterms:modified>
  <cp:revision>173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