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07FD-8BDF-414F-B3C2-D8847E367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スライド番号プレースホルダ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3438-EA4D-42FC-8021-6B4E8109E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4D0A-EDB5-47B3-833A-DEF7D3E6E4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CCAE-C88C-4CC9-8EF8-D9D5EA4C80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133A-146E-417A-A881-8C5273C002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E6AA-D12A-4D27-805B-73133286E3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518F-CE11-4ED0-A6A6-E99BE273F2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7CC5-A842-4F95-9E4A-13954115CC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CAD4-A910-4583-9FD4-B5FEE26181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3B9D-7583-44DB-8B67-4DCEB17E17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F858-CAF9-4193-AD45-B642BC59B0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5BA6-F3C8-4FB3-A8C4-68DBF2ABE8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26FF-4812-4DAB-8AD9-DE763AEBA3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1829-C644-4A4E-A625-CB24DC6AAD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9E0A5-F995-4468-A8BF-557234F3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97463-88F7-4F15-980C-658BE673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E345D-483E-4CAF-B557-8418EA7E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ACF1B-D63A-4B69-AC61-DDBC55F8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35BC9-3961-47F1-BD2F-7946F62B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4DAFA-10A4-4ED5-9EF6-5AF5A310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16B90-569C-4E38-89FC-551AB72F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C534D-BB11-4251-80E0-20D8B3A9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B2FD3-D49C-42FA-8D48-007AE157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6F460-60CA-45D7-88DF-539D102C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EE08A-190C-4074-8AF2-8AADB7EB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71B82-87E9-4F58-B7FD-B46EB0BD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6" descr="16_9_logo位置0902w"/>
          <p:cNvPicPr/>
          <p:nvPr/>
        </p:nvPicPr>
        <p:blipFill>
          <a:blip r:embed="rId3"/>
          <a:stretch/>
        </p:blipFill>
        <p:spPr>
          <a:xfrm>
            <a:off x="7932600" y="276120"/>
            <a:ext cx="87804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正方形/長方形 22"/>
          <p:cNvSpPr/>
          <p:nvPr/>
        </p:nvSpPr>
        <p:spPr>
          <a:xfrm>
            <a:off x="-1440" y="-111240"/>
            <a:ext cx="9142200" cy="642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631512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25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ldNum" idx="1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4069-46D6-472B-ABEA-926D1960B80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JCTVC-G35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正方形/長方形 22"/>
          <p:cNvSpPr/>
          <p:nvPr/>
        </p:nvSpPr>
        <p:spPr>
          <a:xfrm>
            <a:off x="1440" y="0"/>
            <a:ext cx="9142560" cy="642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直線コネクタ 18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ftr" idx="3"/>
          </p:nvPr>
        </p:nvSpPr>
        <p:spPr>
          <a:xfrm>
            <a:off x="1260000" y="6473880"/>
            <a:ext cx="575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Department   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576000" y="6473880"/>
            <a:ext cx="647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09.10.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3687-976D-47F7-AE47-0F94CFC9812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sp>
        <p:nvSpPr>
          <p:cNvPr id="163" name="正方形/長方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図 9" descr="mblogo_w.pdf"/>
          <p:cNvPicPr/>
          <p:nvPr/>
        </p:nvPicPr>
        <p:blipFill>
          <a:blip r:embed="rId3"/>
          <a:stretch/>
        </p:blipFill>
        <p:spPr>
          <a:xfrm>
            <a:off x="3600360" y="3114720"/>
            <a:ext cx="1943280" cy="65880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ボックス 3"/>
          <p:cNvSpPr/>
          <p:nvPr/>
        </p:nvSpPr>
        <p:spPr>
          <a:xfrm>
            <a:off x="360360" y="6012000"/>
            <a:ext cx="8423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97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7f7f7f"/>
                </a:solidFill>
                <a:latin typeface="Arial"/>
                <a:ea typeface="メイリオ"/>
              </a:rPr>
              <a:t>“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Sony” or “make.believe” is a registered trademark of Sony Corporation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Names of Sony products and services are the registered trademarks and/or trademarks of Sony Corporation or its Group companies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Other company names and product names are the registered trademarks and/or trademarks of the respective compa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P創英角ｺﾞｼｯｸUB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0720" y="2340000"/>
            <a:ext cx="770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entury Gothic"/>
              </a:rPr>
              <a:t>Modification of ALF Classification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20720" y="306036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Ehsan Maani, Masaru Ikeda, Ali Tabatabai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20720" y="431928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Proposal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JCTVC-G351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0720" y="604800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TC Avant Garde Std Bk"/>
                <a:ea typeface="メイリオ"/>
              </a:rPr>
              <a:t>Nov 15 2011</a:t>
            </a:r>
            <a:endParaRPr b="0" lang="en-US" sz="1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5280" y="1412640"/>
            <a:ext cx="901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Block Adaptive (BA) ALF classification in HM4.0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Proposed changes in BA ALF classification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llows the filtering and classification to be done sequentially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Hardware friendly 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1561-F301-4BDE-80EA-EDF5FCEC120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CTVC-G3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HM4.0 BA Classification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E3A7-1F2A-47ED-A581-936A0C6C75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CTVC-G3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789440" y="2773440"/>
            <a:ext cx="257400" cy="2570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7"/>
          <p:cNvSpPr/>
          <p:nvPr/>
        </p:nvSpPr>
        <p:spPr>
          <a:xfrm>
            <a:off x="5178600" y="2706840"/>
            <a:ext cx="37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Garamond Pro"/>
              </a:rPr>
              <a:t>Pixels for which both horizontal and vertical derivatives are comp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5199120" y="3666960"/>
            <a:ext cx="37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Garamond Pro"/>
              </a:rPr>
              <a:t>Derivatives for these pixels (within the 4x4 block) are ign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4789440" y="3666960"/>
            <a:ext cx="257400" cy="25740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19"/>
          <p:cNvGrpSpPr/>
          <p:nvPr/>
        </p:nvGrpSpPr>
        <p:grpSpPr>
          <a:xfrm>
            <a:off x="763920" y="1730520"/>
            <a:ext cx="3381120" cy="3246840"/>
            <a:chOff x="763920" y="1730520"/>
            <a:chExt cx="3381120" cy="3246840"/>
          </a:xfrm>
        </p:grpSpPr>
        <p:pic>
          <p:nvPicPr>
            <p:cNvPr id="228" name="Picture 3" descr=""/>
            <p:cNvPicPr/>
            <p:nvPr/>
          </p:nvPicPr>
          <p:blipFill>
            <a:blip r:embed="rId3"/>
            <a:stretch/>
          </p:blipFill>
          <p:spPr>
            <a:xfrm>
              <a:off x="819000" y="1730520"/>
              <a:ext cx="280476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10"/>
            <p:cNvSpPr/>
            <p:nvPr/>
          </p:nvSpPr>
          <p:spPr>
            <a:xfrm>
              <a:off x="763920" y="4640040"/>
              <a:ext cx="33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dobe Garamond Pro"/>
                </a:rPr>
                <a:t>4x4 SAO-processed  current blo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Straight Arrow Connector 12"/>
            <p:cNvCxnSpPr/>
            <p:nvPr/>
          </p:nvCxnSpPr>
          <p:spPr>
            <a:xfrm>
              <a:off x="1280520" y="4640400"/>
              <a:ext cx="2351880" cy="21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31" name="Straight Arrow Connector 15"/>
            <p:cNvCxnSpPr/>
            <p:nvPr/>
          </p:nvCxnSpPr>
          <p:spPr>
            <a:xfrm flipH="1">
              <a:off x="3732120" y="2208240"/>
              <a:ext cx="8640" cy="232632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232" name="Picture 14" descr=""/>
            <p:cNvPicPr/>
            <p:nvPr/>
          </p:nvPicPr>
          <p:blipFill>
            <a:blip r:embed="rId4"/>
            <a:stretch/>
          </p:blipFill>
          <p:spPr>
            <a:xfrm>
              <a:off x="3148920" y="1730520"/>
              <a:ext cx="334080" cy="33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4" descr=""/>
            <p:cNvPicPr/>
            <p:nvPr/>
          </p:nvPicPr>
          <p:blipFill>
            <a:blip r:embed="rId5"/>
            <a:stretch/>
          </p:blipFill>
          <p:spPr>
            <a:xfrm>
              <a:off x="1982880" y="1730520"/>
              <a:ext cx="334080" cy="33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4" descr=""/>
            <p:cNvPicPr/>
            <p:nvPr/>
          </p:nvPicPr>
          <p:blipFill>
            <a:blip r:embed="rId6"/>
            <a:stretch/>
          </p:blipFill>
          <p:spPr>
            <a:xfrm>
              <a:off x="835920" y="1773360"/>
              <a:ext cx="334080" cy="33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4" descr=""/>
            <p:cNvPicPr/>
            <p:nvPr/>
          </p:nvPicPr>
          <p:blipFill>
            <a:blip r:embed="rId7"/>
            <a:stretch/>
          </p:blipFill>
          <p:spPr>
            <a:xfrm>
              <a:off x="819000" y="2863440"/>
              <a:ext cx="334080" cy="33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4" descr=""/>
            <p:cNvPicPr/>
            <p:nvPr/>
          </p:nvPicPr>
          <p:blipFill>
            <a:blip r:embed="rId8"/>
            <a:stretch/>
          </p:blipFill>
          <p:spPr>
            <a:xfrm>
              <a:off x="819000" y="4047840"/>
              <a:ext cx="334080" cy="33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Proposed BA Classification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1E29-04C7-4346-8748-6AE06EF72B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CTVC-G3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378000" y="1471680"/>
            <a:ext cx="4368600" cy="41148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0"/>
          <p:cNvSpPr/>
          <p:nvPr/>
        </p:nvSpPr>
        <p:spPr>
          <a:xfrm>
            <a:off x="2450160" y="5118120"/>
            <a:ext cx="218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dobe Garamond Pro"/>
              </a:rPr>
              <a:t>4x4 curr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dobe Garamond Pro"/>
              </a:rPr>
              <a:t>SAO-processed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traight Arrow Connector 11"/>
          <p:cNvCxnSpPr/>
          <p:nvPr/>
        </p:nvCxnSpPr>
        <p:spPr>
          <a:xfrm>
            <a:off x="2601720" y="5118120"/>
            <a:ext cx="21452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243" name="TextBox 14"/>
          <p:cNvSpPr/>
          <p:nvPr/>
        </p:nvSpPr>
        <p:spPr>
          <a:xfrm>
            <a:off x="5823000" y="1687680"/>
            <a:ext cx="33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Garamond Pro"/>
              </a:rPr>
              <a:t>Pixels for which both horizontal and vertical derivatives are comp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5"/>
          <p:cNvSpPr/>
          <p:nvPr/>
        </p:nvSpPr>
        <p:spPr>
          <a:xfrm>
            <a:off x="5845320" y="2646360"/>
            <a:ext cx="33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Garamond Pro"/>
              </a:rPr>
              <a:t>Derivatives for these pixels (within the 4x4 block) are ign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5845320" y="3692520"/>
            <a:ext cx="33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Garamond Pro"/>
              </a:rPr>
              <a:t>Only horizontal derivative comp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5818320" y="4794120"/>
            <a:ext cx="33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Garamond Pro"/>
              </a:rPr>
              <a:t>Only vertical derivative comp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560920" y="1687680"/>
            <a:ext cx="257400" cy="257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3"/>
          <a:stretch/>
        </p:blipFill>
        <p:spPr>
          <a:xfrm>
            <a:off x="5560920" y="2646360"/>
            <a:ext cx="257400" cy="257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4"/>
          <a:stretch/>
        </p:blipFill>
        <p:spPr>
          <a:xfrm>
            <a:off x="5560920" y="3692520"/>
            <a:ext cx="257400" cy="257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5"/>
          <a:stretch/>
        </p:blipFill>
        <p:spPr>
          <a:xfrm>
            <a:off x="5578560" y="4851360"/>
            <a:ext cx="257040" cy="2570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7"/>
          <p:cNvSpPr/>
          <p:nvPr/>
        </p:nvSpPr>
        <p:spPr>
          <a:xfrm>
            <a:off x="5780160" y="5456160"/>
            <a:ext cx="33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Garamond Pro"/>
              </a:rPr>
              <a:t>Similarly to HM4.0, activity measure is the sum of all vertical and horizontal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ight Arrow 28"/>
          <p:cNvSpPr/>
          <p:nvPr/>
        </p:nvSpPr>
        <p:spPr>
          <a:xfrm>
            <a:off x="5114880" y="5586480"/>
            <a:ext cx="4636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854A-2C23-4F20-9654-8ACE58E727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CTVC-G3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682640" y="2552760"/>
          <a:ext cx="5778720" cy="3530520"/>
        </p:xfrm>
        <a:graphic>
          <a:graphicData uri="http://schemas.openxmlformats.org/drawingml/2006/table">
            <a:tbl>
              <a:tblPr/>
              <a:tblGrid>
                <a:gridCol w="825480"/>
                <a:gridCol w="825480"/>
                <a:gridCol w="825480"/>
                <a:gridCol w="825840"/>
                <a:gridCol w="825480"/>
                <a:gridCol w="825480"/>
                <a:gridCol w="825480"/>
              </a:tblGrid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7" name="TextBox 6"/>
          <p:cNvSpPr/>
          <p:nvPr/>
        </p:nvSpPr>
        <p:spPr>
          <a:xfrm>
            <a:off x="833040" y="17524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condi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CEFF-9A18-4840-A51D-DA8E3425AF2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CTVC-G3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728640" y="185256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 ONLY results (both anchor and test SW only use 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657440" y="2381400"/>
          <a:ext cx="5778360" cy="3549600"/>
        </p:xfrm>
        <a:graphic>
          <a:graphicData uri="http://schemas.openxmlformats.org/drawingml/2006/table">
            <a:tbl>
              <a:tblPr/>
              <a:tblGrid>
                <a:gridCol w="825480"/>
                <a:gridCol w="825480"/>
                <a:gridCol w="825480"/>
                <a:gridCol w="825480"/>
                <a:gridCol w="825480"/>
                <a:gridCol w="825480"/>
                <a:gridCol w="825480"/>
              </a:tblGrid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The proposed solution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ables the filtering and classification of the block to be done at the same time at the decoder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sed on hardware analysis, this method is more friendly for efficient HW design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C013-E3C0-4273-93D7-D14B2C95BB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CTVC-G3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31Z</dcterms:created>
  <dc:creator>Sony Customer</dc:creator>
  <dc:description/>
  <dc:language>en-US</dc:language>
  <cp:lastModifiedBy>1000088605</cp:lastModifiedBy>
  <dcterms:modified xsi:type="dcterms:W3CDTF">2011-11-18T23:48:15Z</dcterms:modified>
  <cp:revision>161</cp:revision>
  <dc:subject/>
  <dc:title>Sony’s Perspective on the CE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20010AEFE09DCD06140A9660BDD0E512771</vt:lpwstr>
  </property>
  <property fmtid="{D5CDD505-2E9C-101B-9397-08002B2CF9AE}" pid="3" name="Description">
    <vt:lpwstr/>
  </property>
  <property fmtid="{D5CDD505-2E9C-101B-9397-08002B2CF9AE}" pid="4" name="ImageCreateDate">
    <vt:lpwstr/>
  </property>
  <property fmtid="{D5CDD505-2E9C-101B-9397-08002B2CF9AE}" pid="5" name="Published On">
    <vt:lpwstr>2011-03-31T00:00:00Z</vt:lpwstr>
  </property>
  <property fmtid="{D5CDD505-2E9C-101B-9397-08002B2CF9AE}" pid="6" name="Research Categories">
    <vt:lpwstr>;#ALL RESEARCH;#Market Overviews &amp; Share;#Sony Market Research;#ALL CONSUMER ELECTRONICS;#3D;#Blu-ray Disc &amp; DVD;#Digital Imaging;#eBook;#HDTV;#PC/Notebook/Netbook;#Tablets;#ALL BRAND RESEARCH;#Sony;#</vt:lpwstr>
  </property>
  <property fmtid="{D5CDD505-2E9C-101B-9397-08002B2CF9AE}" pid="7" name="Vendor">
    <vt:lpwstr>17</vt:lpwstr>
  </property>
</Properties>
</file>