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0FB-3421-4CC2-B30D-A8311E3F2B4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significant gain will be obtained for 4:4:4 conten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4F8C-25E1-4219-BF9E-EE88602D9ED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102-6C2A-441A-ADB9-51737097B198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411-1686-4E6C-9319-14219A5E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C79-909E-4AC5-94DD-76190BD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4F9-EC10-427A-9610-B36EB93A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631-B16F-4C85-A254-8B202A78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7355-39ED-4527-9C1A-5A9462E6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E366-1BED-4AFE-A5CB-8D6E76A5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A527-58F0-49E2-94B4-4ED6C9B2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9F25-2DF6-4D01-8013-4975C85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67B4-9A79-4BC9-BADD-AD67CF73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A80-EC7F-4FCF-9C2C-6C15BA9E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C5B3-94FE-407E-9AA1-404EE29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B3F-DD14-49C8-AF01-F51B076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C1E4-8068-42A6-A302-43FCE60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C2C9-6FC8-4A90-9DFA-F98E90C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0863-DB83-49F3-BBC7-88EEE8D8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3610-7AD0-4894-8AF9-C14E374F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5472-208E-41E7-B552-29F1E2DD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E482-6CB5-49B4-AF90-2D46BC17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9CCD-2BB0-42E9-B05D-EBF13C9C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D4C1-81D7-4E4D-8192-190B048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2D37-6603-49C1-AA34-5B24B97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8BAC-6FD2-4E09-B120-7DF2D31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5CB-23FB-42E8-AF3E-DA6F353C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E414-D991-42A8-A77F-BE48801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F518-4A98-4ABA-AD6B-5C94C865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1F8A-00DA-4BF8-AF71-6DB43C2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53F4-9F62-4168-9CFC-7016BDA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5E5C-F9E4-4072-8957-17B023B1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AF07-087E-4CE1-8921-9FA5FBEC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AE46-A047-4EA1-9D79-6EB0D2C4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559-0264-484E-BDDC-C7B0F8A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92C-9AFA-481F-BB21-7F69606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C24-895B-4747-9546-7A6F12A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6E2-C492-444C-AE36-1C269BA5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9E1-66FA-4473-A0C6-0B06FDE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014-0880-4D5D-BFE2-B23D8A8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021-37DA-44A8-964B-DBEB22BB676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AC7A-E27E-415E-926C-F86D88009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テキスト ボックス 6"/>
          <p:cNvSpPr/>
          <p:nvPr/>
        </p:nvSpPr>
        <p:spPr>
          <a:xfrm>
            <a:off x="7646040" y="11592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JCTVC-G3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テキスト ボックス 6"/>
          <p:cNvSpPr/>
          <p:nvPr/>
        </p:nvSpPr>
        <p:spPr>
          <a:xfrm>
            <a:off x="7646040" y="11592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JCTVC-G3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4" descr="新ｾｯﾄﾛｺﾞ（基本表示）"/>
          <p:cNvPicPr/>
          <p:nvPr/>
        </p:nvPicPr>
        <p:blipFill>
          <a:blip r:embed="rId2"/>
          <a:stretch/>
        </p:blipFill>
        <p:spPr>
          <a:xfrm>
            <a:off x="374760" y="115920"/>
            <a:ext cx="1063440" cy="492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089-CB2D-4D37-A1D3-1FF6F492449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1FCD-13AF-4E57-B95F-44D727F4B4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テキスト ボックス 6"/>
          <p:cNvSpPr/>
          <p:nvPr/>
        </p:nvSpPr>
        <p:spPr>
          <a:xfrm>
            <a:off x="7646040" y="11592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JCTVC-G3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443-9B2B-477B-8292-C0E585A4C97D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0A09-8C01-4E11-9EDE-645AAB2198D9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a intra predi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d on residual luma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K. Kawamura, T. Yoshino, H. Kato, </a:t>
            </a:r>
            <a:br>
              <a:rPr sz="3000"/>
            </a:b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. Na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KDDI Corp. (KDDI R&amp;D Laboratories In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EE91-4051-44CC-A7AA-64FC7377A2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ntra prediction mode for chr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D-bitrate -0.1%, -4.1%, -4.7%, -0.7% (AI/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D-bitrate -0.1%, -3.5%, -4.0%, -0.6% (AI/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run-time is negli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ve relation with other chroma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pose to adopt the RM mode in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CE6: Intra Coding Improvement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D44-23C8-41FE-BA99-0D5F3C9C9C27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ntra prediction mode for chr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residual luma samples and linear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chroma_from_l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D-bitrate -0.1%, -4.1%, -4.7%, -0.7% (AI/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D-bitrate -0.1%, -3.5%, -4.0%, -0.6% (AI/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itional run-time is 1.6% / 1.4% (HE/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from 6.1%(AI/HE) and 7.6%(AI/LC) on HM3.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hecked by NTT (JCTVC-G069) and Intel (JCTVC-G9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A990-DFDD-49D9-8D40-CA8A3BD34B97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M mode (chroma intra prediction) in HM4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reconstructed luma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rived from adjacent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ion performance by LM mode might be degraded especially for object boundary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on between luma and chroma is va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2E2-D2F2-4250-8CAC-3610E93FF519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3809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 &amp;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two redundancy simultaneous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acent pixels’ correlation and inter-channel cor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inter-channel predictio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olution: RM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-channel residual prediction between luma and chroma as an additional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roma is predicted tw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CDB-215E-4B22-B066-6059470E9243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method (RM mo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Luma intra prediction in HM4.0 (no chan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a intra prediction with thre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 intra prediction with mode 0 (derived from luma) in HM4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roma intra residual prediction with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derived on the encoder sid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 samples from above two steps are transformed, quantized, and co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9F3E-5DFD-497E-A054-26E37980E272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2700360" y="4508640"/>
            <a:ext cx="415116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between LM and 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ion tar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M: Base-band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: Intra residual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s in th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M: Not coded and derived from adjacent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rived at the encoder side and cod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 is then 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ove two modes are complemen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9D5-CB90-4F14-B63C-448C1D388FD4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ed on HM4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of the results for all in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AA59-7F34-46A4-83EC-1128F762DDCD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6"/>
          <p:cNvSpPr/>
          <p:nvPr/>
        </p:nvSpPr>
        <p:spPr>
          <a:xfrm>
            <a:off x="273600" y="6300720"/>
            <a:ext cx="69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UV BD-bitrate is derived from bit-rate and weighted PSNR [JCTVC-F3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8200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D094-3E4D-4910-9821-A4E95EA96C35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ed 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CTVC-G173 Cross-channel intra chroma residual prediction (In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 is similar but target is diff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ing gain is mostly addi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CTVC-G1009 A joint contribution on the coding tools of residual prediction for intra chroma prediction (Intel and KDD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5CDB-0E3D-44F5-958A-9468CB291BDB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14:25Z</dcterms:created>
  <dc:creator>kei</dc:creator>
  <dc:description/>
  <dc:language>en-US</dc:language>
  <cp:lastModifiedBy>kei</cp:lastModifiedBy>
  <dcterms:modified xsi:type="dcterms:W3CDTF">2011-11-24T15:50:45Z</dcterms:modified>
  <cp:revision>212</cp:revision>
  <dc:subject/>
  <dc:title>Adaptive loop filtering using directional activity</dc:title>
</cp:coreProperties>
</file>