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0C6-0834-4C41-AB95-54BA2FE775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スライド番号プレースホルダ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1A1E-5AD0-4979-AFE3-7D435928C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E4A-AF04-4243-84AD-03B22F92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7C7-C903-4E02-806C-20EF3348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BAA-4A9F-4C4F-96F2-E890D4BC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5D7-746E-458D-A6CE-FC39BB17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DD33-4514-4BBD-851D-A2C7B96A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97D4-F48B-44EF-800A-06FE7B8D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5D8B-727C-4356-95D9-65B32778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DBA6-E6EC-442B-8938-7FA6CA3B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4285-53F9-4338-A00E-4952047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9028-219B-4FB7-B36B-AA2AD970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4BC-FF7E-466C-9406-AD0B0ADE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2270-D4BD-4328-AD0F-7071C078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ADBC-D2D0-4D3F-99DD-C8A8F8D6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AED7-73DA-4984-BF64-2030138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A89D-EBF5-4E0F-BCE3-149FF0C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9C44-9B0D-45E7-BCE8-EEBA8264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E680-8D9D-4F1B-BFF4-EE350D60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4FA2-DCA9-4E69-86F9-DF89EC37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0ED4-6939-43F6-A7FE-FD35BA3A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6833-216B-4DA5-BD32-094002D2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1D224-1B80-4F29-A0C8-F50B2C98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848-AB7E-4B2C-B88B-C23EFFB4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A749-1B5F-4BF9-930F-6398DEFF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65F4-D1BC-43F9-BB77-7DBFFDC8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34E8-D01B-429E-B919-967C1259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6C44-82D0-430C-A721-3F5AE2D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F2778-7259-470E-BA0E-F6A6960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03D1-4496-45E2-8C44-19D0FDE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E9D5-1832-45B0-AAAD-14ACEF81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3E2F0-7D40-4CF3-9AC3-BF2B24EE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34CA-0782-4B88-92B1-A56B5611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06E-F0F9-4F79-BA75-893F6A93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83D-3C60-43A3-8D22-5FFC0CD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A00-E521-4D0A-8C6B-6894DBE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819-3629-4E63-BF56-67515A33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770-9C3A-4309-AA76-8C127760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B120-F210-4BD5-A8B7-1F19353E553B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B84-9EB5-47A8-B58B-4AD6F190E6A0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テキスト ボックス 8"/>
          <p:cNvSpPr/>
          <p:nvPr/>
        </p:nvSpPr>
        <p:spPr>
          <a:xfrm>
            <a:off x="7416720" y="260280"/>
            <a:ext cx="1187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CTVC-G3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テキスト ボックス 8"/>
          <p:cNvSpPr/>
          <p:nvPr/>
        </p:nvSpPr>
        <p:spPr>
          <a:xfrm>
            <a:off x="7416720" y="260280"/>
            <a:ext cx="1187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CTVC-G3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C60B-3525-4AF4-98B9-96B4866A7FE7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E8FD-68BA-4B79-9378-4ABBEFFD3272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A574-D3A8-45ED-AC50-802CB33FC0A7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A869-1E5C-44DE-ACFE-500CA6C5821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640728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E8.a.1 2-D mergeable syntax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G316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71320" y="6428880"/>
            <a:ext cx="385596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7th Meeting in Geneva, 21-30 November , 201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o Yamakag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akashi Watanab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akeshi Chujo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ing-Yeh Che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ih-Ming Fu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ia-Yang Tsa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u-Wen Huan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wmin Le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rta Karczewicz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Suk Chong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nori Ika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SHIBA Corporatio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MediaTek Inc.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Qualco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and Shar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657000"/>
            <a:ext cx="573552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d mergeable syntax for merging ALF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ter indexes are directly coded on each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1% 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 time / Enc time is not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to adopt in HM and 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E1AB-A954-40C8-8F72-405210BCD107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156360" y="692280"/>
          <a:ext cx="2736720" cy="5730840"/>
        </p:xfrm>
        <a:graphic>
          <a:graphicData uri="http://schemas.openxmlformats.org/drawingml/2006/table">
            <a:tbl>
              <a:tblPr/>
              <a:tblGrid>
                <a:gridCol w="793800"/>
                <a:gridCol w="652320"/>
                <a:gridCol w="638280"/>
                <a:gridCol w="652320"/>
              </a:tblGrid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ll Intra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ndom Access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 P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785520"/>
            <a:ext cx="793116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M4.0 uses 2-D based region-class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BA class, activity vs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RA class, X-axis vs Y-ax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gion is only merged along with 1D scan in 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スライド番号プレースホルダ 3"/>
          <p:cNvSpPr/>
          <p:nvPr/>
        </p:nvSpPr>
        <p:spPr>
          <a:xfrm>
            <a:off x="8640720" y="6453360"/>
            <a:ext cx="347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7CCD-25E0-4C13-B7A7-B1AD79258ED0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207040" y="1773360"/>
            <a:ext cx="31813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785520"/>
            <a:ext cx="8147160" cy="482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D flexible clas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4612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class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lter index is co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rec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72072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, 0, 1, 1, 1, 2, 0, 0, 0, 3, 3, 3, 0, 1, 2, 2, 2, 3” is coded for the following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4612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41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スライド番号プレースホルダ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5CCE-B867-4BE7-BAF5-00E6A54D79CC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正方形/長方形 62"/>
          <p:cNvSpPr/>
          <p:nvPr/>
        </p:nvSpPr>
        <p:spPr>
          <a:xfrm>
            <a:off x="1114560" y="1989000"/>
            <a:ext cx="360360" cy="35892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63"/>
          <p:cNvSpPr/>
          <p:nvPr/>
        </p:nvSpPr>
        <p:spPr>
          <a:xfrm>
            <a:off x="1835280" y="1989000"/>
            <a:ext cx="360360" cy="3589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正方形/長方形 64"/>
          <p:cNvSpPr/>
          <p:nvPr/>
        </p:nvSpPr>
        <p:spPr>
          <a:xfrm>
            <a:off x="1114560" y="234792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65"/>
          <p:cNvSpPr/>
          <p:nvPr/>
        </p:nvSpPr>
        <p:spPr>
          <a:xfrm>
            <a:off x="2195640" y="1989000"/>
            <a:ext cx="360360" cy="3589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66"/>
          <p:cNvSpPr/>
          <p:nvPr/>
        </p:nvSpPr>
        <p:spPr>
          <a:xfrm>
            <a:off x="2556000" y="1989000"/>
            <a:ext cx="358560" cy="35892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正方形/長方形 67"/>
          <p:cNvSpPr/>
          <p:nvPr/>
        </p:nvSpPr>
        <p:spPr>
          <a:xfrm>
            <a:off x="2556000" y="2347920"/>
            <a:ext cx="35856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正方形/長方形 68"/>
          <p:cNvSpPr/>
          <p:nvPr/>
        </p:nvSpPr>
        <p:spPr>
          <a:xfrm>
            <a:off x="2195640" y="2347920"/>
            <a:ext cx="36036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69"/>
          <p:cNvSpPr/>
          <p:nvPr/>
        </p:nvSpPr>
        <p:spPr>
          <a:xfrm>
            <a:off x="2914560" y="2347920"/>
            <a:ext cx="36036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正方形/長方形 70"/>
          <p:cNvSpPr/>
          <p:nvPr/>
        </p:nvSpPr>
        <p:spPr>
          <a:xfrm>
            <a:off x="2914560" y="1989000"/>
            <a:ext cx="360360" cy="35892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71"/>
          <p:cNvSpPr/>
          <p:nvPr/>
        </p:nvSpPr>
        <p:spPr>
          <a:xfrm>
            <a:off x="2914560" y="2708280"/>
            <a:ext cx="36036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正方形/長方形 72"/>
          <p:cNvSpPr/>
          <p:nvPr/>
        </p:nvSpPr>
        <p:spPr>
          <a:xfrm>
            <a:off x="1474920" y="1989000"/>
            <a:ext cx="360360" cy="35892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正方形/長方形 73"/>
          <p:cNvSpPr/>
          <p:nvPr/>
        </p:nvSpPr>
        <p:spPr>
          <a:xfrm>
            <a:off x="1474920" y="234792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正方形/長方形 74"/>
          <p:cNvSpPr/>
          <p:nvPr/>
        </p:nvSpPr>
        <p:spPr>
          <a:xfrm>
            <a:off x="1835280" y="234792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正方形/長方形 75"/>
          <p:cNvSpPr/>
          <p:nvPr/>
        </p:nvSpPr>
        <p:spPr>
          <a:xfrm>
            <a:off x="1114560" y="270828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正方形/長方形 76"/>
          <p:cNvSpPr/>
          <p:nvPr/>
        </p:nvSpPr>
        <p:spPr>
          <a:xfrm>
            <a:off x="1835280" y="2708280"/>
            <a:ext cx="360360" cy="36036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77"/>
          <p:cNvSpPr/>
          <p:nvPr/>
        </p:nvSpPr>
        <p:spPr>
          <a:xfrm>
            <a:off x="2195640" y="2708280"/>
            <a:ext cx="360360" cy="36036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78"/>
          <p:cNvSpPr/>
          <p:nvPr/>
        </p:nvSpPr>
        <p:spPr>
          <a:xfrm>
            <a:off x="2556000" y="2708280"/>
            <a:ext cx="358560" cy="36036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79"/>
          <p:cNvSpPr/>
          <p:nvPr/>
        </p:nvSpPr>
        <p:spPr>
          <a:xfrm>
            <a:off x="1474920" y="2708280"/>
            <a:ext cx="360360" cy="36036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正方形/長方形 42"/>
          <p:cNvSpPr/>
          <p:nvPr/>
        </p:nvSpPr>
        <p:spPr>
          <a:xfrm>
            <a:off x="1114560" y="4113360"/>
            <a:ext cx="360360" cy="3585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正方形/長方形 43"/>
          <p:cNvSpPr/>
          <p:nvPr/>
        </p:nvSpPr>
        <p:spPr>
          <a:xfrm>
            <a:off x="1835280" y="4113360"/>
            <a:ext cx="360360" cy="35856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正方形/長方形 44"/>
          <p:cNvSpPr/>
          <p:nvPr/>
        </p:nvSpPr>
        <p:spPr>
          <a:xfrm>
            <a:off x="2195640" y="4113360"/>
            <a:ext cx="360360" cy="35856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正方形/長方形 45"/>
          <p:cNvSpPr/>
          <p:nvPr/>
        </p:nvSpPr>
        <p:spPr>
          <a:xfrm>
            <a:off x="2556000" y="4113360"/>
            <a:ext cx="358560" cy="35856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正方形/長方形 46"/>
          <p:cNvSpPr/>
          <p:nvPr/>
        </p:nvSpPr>
        <p:spPr>
          <a:xfrm>
            <a:off x="2914560" y="4113360"/>
            <a:ext cx="360360" cy="35856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正方形/長方形 47"/>
          <p:cNvSpPr/>
          <p:nvPr/>
        </p:nvSpPr>
        <p:spPr>
          <a:xfrm>
            <a:off x="1474920" y="4113360"/>
            <a:ext cx="360360" cy="3585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48"/>
          <p:cNvSpPr/>
          <p:nvPr/>
        </p:nvSpPr>
        <p:spPr>
          <a:xfrm>
            <a:off x="3274920" y="411336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正方形/長方形 49"/>
          <p:cNvSpPr/>
          <p:nvPr/>
        </p:nvSpPr>
        <p:spPr>
          <a:xfrm>
            <a:off x="4716360" y="4113360"/>
            <a:ext cx="35892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正方形/長方形 50"/>
          <p:cNvSpPr/>
          <p:nvPr/>
        </p:nvSpPr>
        <p:spPr>
          <a:xfrm>
            <a:off x="4356000" y="4113360"/>
            <a:ext cx="36036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正方形/長方形 51"/>
          <p:cNvSpPr/>
          <p:nvPr/>
        </p:nvSpPr>
        <p:spPr>
          <a:xfrm>
            <a:off x="5075280" y="4113360"/>
            <a:ext cx="36036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正方形/長方形 52"/>
          <p:cNvSpPr/>
          <p:nvPr/>
        </p:nvSpPr>
        <p:spPr>
          <a:xfrm>
            <a:off x="3635280" y="411336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正方形/長方形 53"/>
          <p:cNvSpPr/>
          <p:nvPr/>
        </p:nvSpPr>
        <p:spPr>
          <a:xfrm>
            <a:off x="3995640" y="411336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正方形/長方形 54"/>
          <p:cNvSpPr/>
          <p:nvPr/>
        </p:nvSpPr>
        <p:spPr>
          <a:xfrm>
            <a:off x="7236000" y="4113360"/>
            <a:ext cx="360360" cy="360360"/>
          </a:xfrm>
          <a:prstGeom prst="rect">
            <a:avLst/>
          </a:prstGeom>
          <a:solidFill>
            <a:srgbClr val="bfa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正方形/長方形 55"/>
          <p:cNvSpPr/>
          <p:nvPr/>
        </p:nvSpPr>
        <p:spPr>
          <a:xfrm>
            <a:off x="5435640" y="4113360"/>
            <a:ext cx="360360" cy="360360"/>
          </a:xfrm>
          <a:prstGeom prst="rect">
            <a:avLst/>
          </a:prstGeom>
          <a:solidFill>
            <a:srgbClr val="e69c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正方形/長方形 56"/>
          <p:cNvSpPr/>
          <p:nvPr/>
        </p:nvSpPr>
        <p:spPr>
          <a:xfrm>
            <a:off x="6156360" y="4113360"/>
            <a:ext cx="360360" cy="36036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57"/>
          <p:cNvSpPr/>
          <p:nvPr/>
        </p:nvSpPr>
        <p:spPr>
          <a:xfrm>
            <a:off x="6516720" y="4113360"/>
            <a:ext cx="360360" cy="36036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58"/>
          <p:cNvSpPr/>
          <p:nvPr/>
        </p:nvSpPr>
        <p:spPr>
          <a:xfrm>
            <a:off x="6877080" y="4113360"/>
            <a:ext cx="358920" cy="360360"/>
          </a:xfrm>
          <a:prstGeom prst="rect">
            <a:avLst/>
          </a:prstGeom>
          <a:solidFill>
            <a:srgbClr val="b3d6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正方形/長方形 59"/>
          <p:cNvSpPr/>
          <p:nvPr/>
        </p:nvSpPr>
        <p:spPr>
          <a:xfrm>
            <a:off x="5796000" y="4113360"/>
            <a:ext cx="360360" cy="360360"/>
          </a:xfrm>
          <a:prstGeom prst="rect">
            <a:avLst/>
          </a:prstGeom>
          <a:solidFill>
            <a:srgbClr val="89c3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下矢印 60"/>
          <p:cNvSpPr/>
          <p:nvPr/>
        </p:nvSpPr>
        <p:spPr>
          <a:xfrm>
            <a:off x="2195640" y="3357720"/>
            <a:ext cx="288720" cy="466560"/>
          </a:xfrm>
          <a:prstGeom prst="downArrow">
            <a:avLst>
              <a:gd name="adj1" fmla="val 50000"/>
              <a:gd name="adj2" fmla="val 5002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コンテンツ プレースホルダ 4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5473800" cy="4352760"/>
          </a:xfrm>
          <a:prstGeom prst="rect">
            <a:avLst/>
          </a:prstGeom>
          <a:ln w="0">
            <a:noFill/>
          </a:ln>
        </p:spPr>
      </p:pic>
      <p:sp>
        <p:nvSpPr>
          <p:cNvPr id="229" name="スライド番号プレースホルダ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DA3-D530-4CE4-AF71-976E9209EF88}" type="slidenum">
              <a:rPr b="0" lang="en-US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テキスト ボックス 8"/>
          <p:cNvSpPr/>
          <p:nvPr/>
        </p:nvSpPr>
        <p:spPr>
          <a:xfrm>
            <a:off x="755640" y="5300640"/>
            <a:ext cx="705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f_region_id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 i ] specifies the filter index for adaptive loop fi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_alf_region_pred_fla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 i ]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m_alf_region_pred_id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 i 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 the coefficients index CoeffIdx for adaptive loop filter . When prev_alf_region_pred_flag[i ] is equal to 0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f_region_id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 i ] will be inferred from neighboring region (i.e., upper or left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右中かっこ 9"/>
          <p:cNvSpPr/>
          <p:nvPr/>
        </p:nvSpPr>
        <p:spPr>
          <a:xfrm>
            <a:off x="6630840" y="2201760"/>
            <a:ext cx="46080" cy="2019240"/>
          </a:xfrm>
          <a:custGeom>
            <a:avLst/>
            <a:gdLst>
              <a:gd name="textAreaLeft" fmla="*/ 0 w 46080"/>
              <a:gd name="textAreaRight" fmla="*/ 16560 w 46080"/>
              <a:gd name="textAreaTop" fmla="*/ 1080 h 2019240"/>
              <a:gd name="textAreaBottom" fmla="*/ 2018160 h 20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"/>
                  <a:pt x="10800" y="41"/>
                </a:cubicBezTo>
                <a:lnTo>
                  <a:pt x="10800" y="10759"/>
                </a:lnTo>
                <a:cubicBezTo>
                  <a:pt x="10800" y="10780"/>
                  <a:pt x="16200" y="10800"/>
                  <a:pt x="21600" y="10800"/>
                </a:cubicBezTo>
                <a:cubicBezTo>
                  <a:pt x="16200" y="10800"/>
                  <a:pt x="10800" y="10821"/>
                  <a:pt x="10800" y="10841"/>
                </a:cubicBezTo>
                <a:lnTo>
                  <a:pt x="10800" y="21559"/>
                </a:lnTo>
                <a:cubicBezTo>
                  <a:pt x="10800" y="2158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10"/>
          <p:cNvSpPr/>
          <p:nvPr/>
        </p:nvSpPr>
        <p:spPr>
          <a:xfrm>
            <a:off x="6875640" y="2779560"/>
            <a:ext cx="109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1% 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 time / Enc time is not chan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93A-4512-421F-8785-5972F788D3E9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580000" y="800280"/>
          <a:ext cx="2737080" cy="5730840"/>
        </p:xfrm>
        <a:graphic>
          <a:graphicData uri="http://schemas.openxmlformats.org/drawingml/2006/table">
            <a:tbl>
              <a:tblPr/>
              <a:tblGrid>
                <a:gridCol w="793800"/>
                <a:gridCol w="652320"/>
                <a:gridCol w="638280"/>
                <a:gridCol w="652680"/>
              </a:tblGrid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All Intra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Random Access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Low delay P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37800" rIns="3780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800" rIns="378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ＭＳ 明朝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7" name="テキスト ボックス 7"/>
          <p:cNvSpPr/>
          <p:nvPr/>
        </p:nvSpPr>
        <p:spPr>
          <a:xfrm>
            <a:off x="755640" y="5400720"/>
            <a:ext cx="4753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are cross checked by Samsun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d mergeable syntax for merging ALF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ter indexes are directly coded on each cla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1% 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 time / Enc time shows no imp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to adopt in HM and 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DA38-EAF1-4952-A2D0-4B1EF164626D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テキスト ボックス 7"/>
          <p:cNvSpPr/>
          <p:nvPr/>
        </p:nvSpPr>
        <p:spPr>
          <a:xfrm>
            <a:off x="755640" y="5400720"/>
            <a:ext cx="72374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are cross checked by Samsung (JCTVC-G3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onization of the other proposal “CE8.a.2: Directional feature calculation on subset of pixels” (JCTVC-G609) is also tested in JCTVC-G6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4087</cp:lastModifiedBy>
  <dcterms:modified xsi:type="dcterms:W3CDTF">2011-11-22T22:47:28Z</dcterms:modified>
  <cp:revision>2425</cp:revision>
  <dc:subject/>
  <dc:title>.</dc:title>
</cp:coreProperties>
</file>