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A699F-9FB6-4B6D-B32B-B9ED187B9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822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718440"/>
            <a:ext cx="822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E82BB-A10D-4A37-9EC7-F607CDAC3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DA29A-F041-4AC3-A97F-F7A0717D6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78552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78552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71844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71844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71844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4AE0C-4955-4E8B-B206-B911D63E2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785520"/>
            <a:ext cx="8229600" cy="56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82296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84240"/>
            <a:ext cx="8229600" cy="19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785520"/>
            <a:ext cx="8229600" cy="56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3E4F8-F3A7-4454-827D-588300683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718440"/>
            <a:ext cx="822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822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718440"/>
            <a:ext cx="822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78552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78552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71844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71844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71844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789CF-13BE-497B-B752-92FE94EBF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200" y="785520"/>
            <a:ext cx="8229600" cy="56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A9671-7FA9-4722-AEAE-84D31DA3E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82296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5B0FC-DC71-43D8-BCF9-29D1065F5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2C2EC-3DAB-4C78-90C3-877DED6BB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A763F-A519-4CCC-BCAB-163834682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82296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ED34F-C286-4D84-A2B4-7F8101F19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57200" y="84240"/>
            <a:ext cx="8229600" cy="19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AC40F-6B73-46A1-B2F0-DFD7B43B9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447B0-B78E-498C-8D2F-28CE5437D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424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DA9A5-76F6-4DE4-8249-D321408AD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718440"/>
            <a:ext cx="822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A5E51-82AE-4440-91E6-2A0F3A701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822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7200" y="3718440"/>
            <a:ext cx="822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4328B-EADC-47FE-9B7E-75E5565E4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424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66084-212A-405F-83AA-CC3D1D864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39640" y="78552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22080" y="78552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57200" y="371844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39640" y="371844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22080" y="371844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17F4C-CCE4-44A0-ACF9-44D74B612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200C51-76F0-46A0-A0AB-7ED64EC46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57200" y="785520"/>
            <a:ext cx="8229600" cy="56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3A5F2B-2934-4A98-8CA1-E0A72B566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82296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287112-703B-4091-96B0-B3B24322C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A0084-4C67-40BC-BC25-6C28D13EE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D7F3C1-7197-406F-A223-5A37275B6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4A0609-7D49-4A14-B822-040506DBF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457200" y="84240"/>
            <a:ext cx="8229600" cy="19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96F1C1-82AE-4946-B531-C1E27D98D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8CBE9F-849D-4878-9B43-4FF1E8C5F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7424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37D298-EEA7-44E9-A7F9-EDA73C4CD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718440"/>
            <a:ext cx="822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EF2C8D-C8FC-4944-B163-8871BC53C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822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57200" y="3718440"/>
            <a:ext cx="822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D65DDF-55A7-42C1-93A4-E67FD0282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7424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01A887-D46A-4B01-959E-7C9022904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239640" y="78552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22080" y="78552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57200" y="371844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239640" y="371844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22080" y="371844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72E140-7002-420E-8CEA-C98CE25D8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4F648-41AC-49C4-8E67-7B2812DD8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84240"/>
            <a:ext cx="8229600" cy="19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5E9B0-FEDA-4A71-8126-33FF0BEE8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560A6-95F3-4BE5-AB89-99DB0D7D5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58376-F1BF-4779-8036-A4C8030A8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718440"/>
            <a:ext cx="822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750D7-3F60-41A7-85B8-D3CF3B3DC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正方形/長方形 9"/>
          <p:cNvSpPr/>
          <p:nvPr/>
        </p:nvSpPr>
        <p:spPr>
          <a:xfrm>
            <a:off x="0" y="596880"/>
            <a:ext cx="9144000" cy="1764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正方形/長方形 6"/>
          <p:cNvSpPr/>
          <p:nvPr/>
        </p:nvSpPr>
        <p:spPr>
          <a:xfrm>
            <a:off x="0" y="0"/>
            <a:ext cx="9144000" cy="571680"/>
          </a:xfrm>
          <a:prstGeom prst="rect">
            <a:avLst/>
          </a:prstGeom>
          <a:solidFill>
            <a:srgbClr val="0e2c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84240"/>
            <a:ext cx="822960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785520"/>
            <a:ext cx="82296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60360" indent="-24120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22440" indent="-262080"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808200" indent="-185760"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982800" indent="-174600"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1166760" indent="-183960">
              <a:buClr>
                <a:srgbClr val="4ea5d8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1166760" indent="-18396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1166760" indent="-18396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8E70A-510D-4F25-B1C1-EE12D7487CBE}" type="datetime">
              <a:rPr b="0" lang="ja-JP" sz="1000" spc="-1" strike="noStrike">
                <a:solidFill>
                  <a:srgbClr val="000000"/>
                </a:solidFill>
                <a:latin typeface="Calibri"/>
              </a:rPr>
              <a:t>26/07/28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222222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4C2B0-9BBC-441F-99FD-827DB9DC80C2}" type="slidenum">
              <a:rPr b="0" lang="ja-JP" sz="1400" spc="-1" strike="noStrike">
                <a:solidFill>
                  <a:srgbClr val="222222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テキスト ボックス 10"/>
          <p:cNvSpPr/>
          <p:nvPr/>
        </p:nvSpPr>
        <p:spPr>
          <a:xfrm>
            <a:off x="7380360" y="260280"/>
            <a:ext cx="104436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2f2f2"/>
                </a:solidFill>
                <a:latin typeface="Arial"/>
              </a:rPr>
              <a:t>JCTVC-G3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4" descr="C:\Documents and Settings\yasugi\My Documents\My Pictures\sharplogo.gif"/>
          <p:cNvPicPr/>
          <p:nvPr/>
        </p:nvPicPr>
        <p:blipFill>
          <a:blip r:embed="rId2"/>
          <a:stretch/>
        </p:blipFill>
        <p:spPr>
          <a:xfrm>
            <a:off x="108000" y="6488280"/>
            <a:ext cx="1542960" cy="369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正方形/長方形 12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e2c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正方形/長方形 13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84240"/>
            <a:ext cx="822960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785520"/>
            <a:ext cx="82296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60360" indent="-24120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622440" indent="-262080"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808200" indent="-185760"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982800" indent="-174600"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4" marL="1166760" indent="-183960">
              <a:buClr>
                <a:srgbClr val="4ea5d8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5" marL="1166760" indent="-18396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6" marL="1166760" indent="-18396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正方形/長方形 9"/>
          <p:cNvSpPr/>
          <p:nvPr/>
        </p:nvSpPr>
        <p:spPr>
          <a:xfrm>
            <a:off x="0" y="596880"/>
            <a:ext cx="9144000" cy="1764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0" y="0"/>
            <a:ext cx="9144000" cy="571680"/>
          </a:xfrm>
          <a:prstGeom prst="rect">
            <a:avLst/>
          </a:prstGeom>
          <a:solidFill>
            <a:srgbClr val="0e2c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10"/>
          <p:cNvSpPr/>
          <p:nvPr/>
        </p:nvSpPr>
        <p:spPr>
          <a:xfrm>
            <a:off x="7380360" y="260280"/>
            <a:ext cx="104436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2f2f2"/>
                </a:solidFill>
                <a:latin typeface="Arial"/>
              </a:rPr>
              <a:t>JCTVC-G3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C:\Documents and Settings\yasugi\My Documents\My Pictures\sharplogo.gif"/>
          <p:cNvPicPr/>
          <p:nvPr/>
        </p:nvPicPr>
        <p:blipFill>
          <a:blip r:embed="rId2"/>
          <a:stretch/>
        </p:blipFill>
        <p:spPr>
          <a:xfrm>
            <a:off x="108000" y="6488280"/>
            <a:ext cx="1542960" cy="36972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84240"/>
            <a:ext cx="822960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785520"/>
            <a:ext cx="82296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60360" indent="-24120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22440" indent="-262080"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808200" indent="-185760"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982800" indent="-174600"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1166760" indent="-183960">
              <a:buClr>
                <a:srgbClr val="4ea5d8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1166760" indent="-18396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1166760" indent="-18396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3f3f3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0E8A7-069A-46E1-A32F-98F63199FE0F}" type="datetime">
              <a:rPr b="0" lang="ja-JP" sz="1200" spc="-1" strike="noStrike">
                <a:solidFill>
                  <a:srgbClr val="3f3f3f"/>
                </a:solidFill>
                <a:latin typeface="Calibri"/>
              </a:rPr>
              <a:t>26/0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3f3f3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94DCE-4F19-46FA-A008-55F481D92B35}" type="slidenum">
              <a:rPr b="0" lang="ja-JP" sz="1200" spc="-1" strike="noStrike">
                <a:solidFill>
                  <a:srgbClr val="3f3f3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84240"/>
            <a:ext cx="822960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457200" y="785520"/>
            <a:ext cx="82296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60360" indent="-24120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22440" indent="-262080"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808200" indent="-185760"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982800" indent="-174600"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1166760" indent="-183960">
              <a:buClr>
                <a:srgbClr val="4ea5d8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1166760" indent="-18396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1166760" indent="-18396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3f3f3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C63EB-88B0-4631-885D-49C6B2AF6E5D}" type="datetime">
              <a:rPr b="0" lang="ja-JP" sz="1200" spc="-1" strike="noStrike">
                <a:solidFill>
                  <a:srgbClr val="3f3f3f"/>
                </a:solidFill>
                <a:latin typeface="Calibri"/>
              </a:rPr>
              <a:t>26/0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3f3f3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4A19D-8330-4B6B-ACC7-295FF44E0916}" type="slidenum">
              <a:rPr b="0" lang="ja-JP" sz="1200" spc="-1" strike="noStrike">
                <a:solidFill>
                  <a:srgbClr val="3f3f3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1341360"/>
            <a:ext cx="8077320" cy="1208160"/>
          </a:xfrm>
          <a:prstGeom prst="rect">
            <a:avLst/>
          </a:prstGeom>
          <a:noFill/>
          <a:ln w="0">
            <a:noFill/>
          </a:ln>
        </p:spPr>
        <p:txBody>
          <a:bodyPr rIns="4572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omplexity reduction of significant map coding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(JCTVC-G308)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71320" y="6428880"/>
            <a:ext cx="3855960" cy="42876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360360" indent="-241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JCT-VC 7th Meeting in Geneva, 21-30 November , 2011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1258560" y="3357720"/>
            <a:ext cx="7561080" cy="1366560"/>
          </a:xfrm>
          <a:prstGeom prst="rect">
            <a:avLst/>
          </a:prstGeom>
          <a:noFill/>
          <a:ln w="0">
            <a:noFill/>
          </a:ln>
        </p:spPr>
        <p:txBody>
          <a:bodyPr lIns="118800" rIns="4572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Tomohiro Ikai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SHARP Corporation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96480"/>
            <a:ext cx="8229600" cy="415800"/>
          </a:xfrm>
          <a:prstGeom prst="rect">
            <a:avLst/>
          </a:prstGeom>
          <a:noFill/>
          <a:ln w="0">
            <a:noFill/>
          </a:ln>
        </p:spPr>
        <p:txBody>
          <a:bodyPr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Overall summary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657000"/>
            <a:ext cx="8470800" cy="59194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360360" indent="-24120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etho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22440" indent="-262080">
              <a:spcBef>
                <a:spcPts val="499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o reduce the worst case of coefficients decoding process in CABA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22440" indent="-262080">
              <a:spcBef>
                <a:spcPts val="499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gnificant_coeff_flag context derivation in 16x16 and 32x32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808200" indent="-185760">
              <a:spcBef>
                <a:spcPts val="451"/>
              </a:spcBef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duce the number of reference  in high frequency coeff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982800" indent="-174600">
              <a:spcBef>
                <a:spcPts val="451"/>
              </a:spcBef>
              <a:buClr>
                <a:srgbClr val="4ea5d8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rom 5 (HM) to 0 or 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982800" indent="-174600">
              <a:spcBef>
                <a:spcPts val="451"/>
              </a:spcBef>
              <a:buClr>
                <a:srgbClr val="4ea5d8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bout 60 % coef’s compucation is reduced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982800" indent="-174600">
              <a:spcBef>
                <a:spcPts val="451"/>
              </a:spcBef>
              <a:buClr>
                <a:srgbClr val="4ea5d8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 context addition for position con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22440" indent="-262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60360" indent="-24120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xperimental resul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22440" indent="-262080">
              <a:spcBef>
                <a:spcPts val="499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p to 0.09 % los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60360" indent="-24120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60360" indent="-241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60360" indent="-241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60360" indent="-24120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commend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22440" indent="-262080">
              <a:spcBef>
                <a:spcPts val="499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pose to adopt in HM and W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スライド番号プレースホルダ 3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4351F-7850-43E7-9023-53804575BA5F}" type="slidenum">
              <a:rPr b="0" lang="ja-JP" sz="1200" spc="-1" strike="noStrike">
                <a:solidFill>
                  <a:srgbClr val="3f3f3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5759280" y="2168640"/>
          <a:ext cx="2779920" cy="4663800"/>
        </p:xfrm>
        <a:graphic>
          <a:graphicData uri="http://schemas.openxmlformats.org/drawingml/2006/table">
            <a:tbl>
              <a:tblPr/>
              <a:tblGrid>
                <a:gridCol w="806760"/>
                <a:gridCol w="657000"/>
                <a:gridCol w="658800"/>
                <a:gridCol w="657360"/>
              </a:tblGrid>
              <a:tr h="918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 Intra HE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8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8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A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18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B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18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C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18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D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18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E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18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F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DIV/0!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DIV/0!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DIV/0!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8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verall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4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7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9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18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04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17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19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8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c Time[%]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8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 Time[%]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8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8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ndom Access HE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8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8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A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18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B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18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C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18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D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18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E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18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F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DIV/0!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DIV/0!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DIV/0!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8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verall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6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9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7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18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06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06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03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8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c Time[%]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8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 Time[%]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8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8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 delay B HE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8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8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A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18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B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18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C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18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D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4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18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E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7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8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18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F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DIV/0!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DIV/0!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DIV/0!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8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verall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9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8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1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18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10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-0.09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-0.06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8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c Time[%]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8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 Time[%]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8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8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 delay P HE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8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8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A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18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B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18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C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18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D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4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18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E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3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18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F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DIV/0!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DIV/0!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DIV/0!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8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verall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6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0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8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18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06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06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-0.14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8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c Time[%]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8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 Time[%]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正方形/長方形 18"/>
          <p:cNvSpPr/>
          <p:nvPr/>
        </p:nvSpPr>
        <p:spPr>
          <a:xfrm>
            <a:off x="863640" y="5229360"/>
            <a:ext cx="2736720" cy="395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96480"/>
            <a:ext cx="8229600" cy="415800"/>
          </a:xfrm>
          <a:prstGeom prst="rect">
            <a:avLst/>
          </a:prstGeom>
          <a:noFill/>
          <a:ln w="0">
            <a:noFill/>
          </a:ln>
        </p:spPr>
        <p:txBody>
          <a:bodyPr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otivation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57200" y="785880"/>
            <a:ext cx="8229600" cy="530712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360360" indent="-241200">
              <a:spcBef>
                <a:spcPts val="1199"/>
              </a:spcBef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6x16 and 32x32 significant_coeff_flag decoding in HM 4.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22440" indent="-262080">
              <a:spcBef>
                <a:spcPts val="1199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decoded bin is used to derive context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22440" indent="-262080">
              <a:spcBef>
                <a:spcPts val="1199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number of referen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808200" indent="-185760">
              <a:spcBef>
                <a:spcPts val="1199"/>
              </a:spcBef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is 5 in most coefficient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622440" indent="-262080">
              <a:spcBef>
                <a:spcPts val="1199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maximum number o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808200" indent="-185760">
              <a:spcBef>
                <a:spcPts val="1199"/>
              </a:spcBef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lags is 255 or 102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808200" indent="-185760">
              <a:spcBef>
                <a:spcPts val="1199"/>
              </a:spcBef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808200" indent="-185760">
              <a:spcBef>
                <a:spcPts val="1199"/>
              </a:spcBef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22440" indent="-262080">
              <a:spcBef>
                <a:spcPts val="1199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808200" indent="-185760">
              <a:spcBef>
                <a:spcPts val="1199"/>
              </a:spcBef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622440" indent="-262080">
              <a:spcBef>
                <a:spcPts val="1199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60360" indent="-241200">
              <a:spcBef>
                <a:spcPts val="1199"/>
              </a:spcBef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スライド番号プレースホルダ 3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C5780-7B14-45D2-A413-7FC309D23F43}" type="slidenum">
              <a:rPr b="0" lang="ja-JP" sz="1200" spc="-1" strike="noStrike">
                <a:solidFill>
                  <a:srgbClr val="3f3f3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正方形/長方形 10"/>
          <p:cNvSpPr/>
          <p:nvPr/>
        </p:nvSpPr>
        <p:spPr>
          <a:xfrm>
            <a:off x="5111640" y="2924280"/>
            <a:ext cx="2880000" cy="2881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テキスト ボックス 11"/>
          <p:cNvSpPr/>
          <p:nvPr/>
        </p:nvSpPr>
        <p:spPr>
          <a:xfrm>
            <a:off x="5977080" y="3716280"/>
            <a:ext cx="790560" cy="246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2 (5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直線コネクタ 12"/>
          <p:cNvSpPr/>
          <p:nvPr/>
        </p:nvSpPr>
        <p:spPr>
          <a:xfrm>
            <a:off x="5113440" y="3357720"/>
            <a:ext cx="215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直線コネクタ 13"/>
          <p:cNvSpPr/>
          <p:nvPr/>
        </p:nvSpPr>
        <p:spPr>
          <a:xfrm>
            <a:off x="5329080" y="3141720"/>
            <a:ext cx="216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直線コネクタ 15"/>
          <p:cNvSpPr/>
          <p:nvPr/>
        </p:nvSpPr>
        <p:spPr>
          <a:xfrm flipH="1">
            <a:off x="5544720" y="2925720"/>
            <a:ext cx="1800" cy="21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直線コネクタ 16"/>
          <p:cNvSpPr/>
          <p:nvPr/>
        </p:nvSpPr>
        <p:spPr>
          <a:xfrm flipH="1">
            <a:off x="5328720" y="3141720"/>
            <a:ext cx="1800" cy="21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テキスト ボックス 17"/>
          <p:cNvSpPr/>
          <p:nvPr/>
        </p:nvSpPr>
        <p:spPr>
          <a:xfrm>
            <a:off x="5327640" y="2565360"/>
            <a:ext cx="6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0 (0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直線コネクタ 19"/>
          <p:cNvSpPr/>
          <p:nvPr/>
        </p:nvSpPr>
        <p:spPr>
          <a:xfrm>
            <a:off x="5111640" y="3789360"/>
            <a:ext cx="216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直線コネクタ 20"/>
          <p:cNvSpPr/>
          <p:nvPr/>
        </p:nvSpPr>
        <p:spPr>
          <a:xfrm>
            <a:off x="5327640" y="3573360"/>
            <a:ext cx="216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直線コネクタ 21"/>
          <p:cNvSpPr/>
          <p:nvPr/>
        </p:nvSpPr>
        <p:spPr>
          <a:xfrm>
            <a:off x="5543640" y="3357720"/>
            <a:ext cx="215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直線コネクタ 22"/>
          <p:cNvSpPr/>
          <p:nvPr/>
        </p:nvSpPr>
        <p:spPr>
          <a:xfrm flipH="1">
            <a:off x="5327640" y="3573360"/>
            <a:ext cx="1440" cy="21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直線コネクタ 23"/>
          <p:cNvSpPr/>
          <p:nvPr/>
        </p:nvSpPr>
        <p:spPr>
          <a:xfrm flipH="1">
            <a:off x="5543640" y="3357720"/>
            <a:ext cx="1440" cy="215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直線コネクタ 24"/>
          <p:cNvSpPr/>
          <p:nvPr/>
        </p:nvSpPr>
        <p:spPr>
          <a:xfrm flipH="1">
            <a:off x="5758920" y="3141720"/>
            <a:ext cx="1800" cy="214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直線コネクタ 25"/>
          <p:cNvSpPr/>
          <p:nvPr/>
        </p:nvSpPr>
        <p:spPr>
          <a:xfrm>
            <a:off x="5759280" y="3141720"/>
            <a:ext cx="2178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直線コネクタ 26"/>
          <p:cNvSpPr/>
          <p:nvPr/>
        </p:nvSpPr>
        <p:spPr>
          <a:xfrm flipH="1">
            <a:off x="5977080" y="2924280"/>
            <a:ext cx="1440" cy="215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テキスト ボックス 27"/>
          <p:cNvSpPr/>
          <p:nvPr/>
        </p:nvSpPr>
        <p:spPr>
          <a:xfrm>
            <a:off x="5256360" y="3141720"/>
            <a:ext cx="57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1 (5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直線コネクタ 28"/>
          <p:cNvSpPr/>
          <p:nvPr/>
        </p:nvSpPr>
        <p:spPr>
          <a:xfrm flipH="1">
            <a:off x="5256360" y="2852640"/>
            <a:ext cx="71280" cy="216000"/>
          </a:xfrm>
          <a:prstGeom prst="line">
            <a:avLst/>
          </a:prstGeom>
          <a:ln w="9360">
            <a:solidFill>
              <a:srgbClr val="f07c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テキスト ボックス 29"/>
          <p:cNvSpPr/>
          <p:nvPr/>
        </p:nvSpPr>
        <p:spPr>
          <a:xfrm>
            <a:off x="5759280" y="206064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M4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下矢印 30"/>
          <p:cNvSpPr/>
          <p:nvPr/>
        </p:nvSpPr>
        <p:spPr>
          <a:xfrm>
            <a:off x="2087640" y="3645000"/>
            <a:ext cx="504720" cy="468360"/>
          </a:xfrm>
          <a:prstGeom prst="downArrow">
            <a:avLst>
              <a:gd name="adj1" fmla="val 50000"/>
              <a:gd name="adj2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テキスト ボックス 31"/>
          <p:cNvSpPr/>
          <p:nvPr/>
        </p:nvSpPr>
        <p:spPr>
          <a:xfrm>
            <a:off x="971640" y="5265720"/>
            <a:ext cx="331308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worst case complexity is lar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下矢印 32"/>
          <p:cNvSpPr/>
          <p:nvPr/>
        </p:nvSpPr>
        <p:spPr>
          <a:xfrm>
            <a:off x="2050920" y="4761000"/>
            <a:ext cx="505080" cy="468360"/>
          </a:xfrm>
          <a:prstGeom prst="downArrow">
            <a:avLst>
              <a:gd name="adj1" fmla="val 50000"/>
              <a:gd name="adj2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テキスト ボックス 33"/>
          <p:cNvSpPr/>
          <p:nvPr/>
        </p:nvSpPr>
        <p:spPr>
          <a:xfrm>
            <a:off x="934920" y="4149720"/>
            <a:ext cx="3313080" cy="6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transform can be 16x16 or 32x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st pos can be 256 or 10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erence is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96480"/>
            <a:ext cx="8229600" cy="415800"/>
          </a:xfrm>
          <a:prstGeom prst="rect">
            <a:avLst/>
          </a:prstGeom>
          <a:noFill/>
          <a:ln w="0">
            <a:noFill/>
          </a:ln>
        </p:spPr>
        <p:txBody>
          <a:bodyPr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Proposed method (1)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6840" y="785520"/>
            <a:ext cx="8543880" cy="16714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360360" indent="-24120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troduce smaller number of reference in high frequency coeff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スライド番号プレースホルダ 3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C2A1B-D280-42F2-977B-D39E69F11108}" type="slidenum">
              <a:rPr b="0" lang="ja-JP" sz="1200" spc="-1" strike="noStrike">
                <a:solidFill>
                  <a:srgbClr val="3f3f3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正方形/長方形 5"/>
          <p:cNvSpPr/>
          <p:nvPr/>
        </p:nvSpPr>
        <p:spPr>
          <a:xfrm>
            <a:off x="6985080" y="2492280"/>
            <a:ext cx="287280" cy="324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正方形/長方形 6"/>
          <p:cNvSpPr/>
          <p:nvPr/>
        </p:nvSpPr>
        <p:spPr>
          <a:xfrm>
            <a:off x="6985080" y="2816280"/>
            <a:ext cx="287280" cy="325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正方形/長方形 7"/>
          <p:cNvSpPr/>
          <p:nvPr/>
        </p:nvSpPr>
        <p:spPr>
          <a:xfrm>
            <a:off x="7272360" y="2492280"/>
            <a:ext cx="287280" cy="324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直線コネクタ 8"/>
          <p:cNvSpPr/>
          <p:nvPr/>
        </p:nvSpPr>
        <p:spPr>
          <a:xfrm>
            <a:off x="828720" y="2602080"/>
            <a:ext cx="216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直線コネクタ 10"/>
          <p:cNvSpPr/>
          <p:nvPr/>
        </p:nvSpPr>
        <p:spPr>
          <a:xfrm>
            <a:off x="1044720" y="2386080"/>
            <a:ext cx="215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直線コネクタ 11"/>
          <p:cNvSpPr/>
          <p:nvPr/>
        </p:nvSpPr>
        <p:spPr>
          <a:xfrm flipH="1">
            <a:off x="1260000" y="2170080"/>
            <a:ext cx="1800" cy="21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直線コネクタ 12"/>
          <p:cNvSpPr/>
          <p:nvPr/>
        </p:nvSpPr>
        <p:spPr>
          <a:xfrm flipH="1">
            <a:off x="1044720" y="2386080"/>
            <a:ext cx="1440" cy="21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正方形/長方形 13"/>
          <p:cNvSpPr/>
          <p:nvPr/>
        </p:nvSpPr>
        <p:spPr>
          <a:xfrm>
            <a:off x="826920" y="2168640"/>
            <a:ext cx="2880000" cy="2881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テキスト ボックス 14"/>
          <p:cNvSpPr/>
          <p:nvPr/>
        </p:nvSpPr>
        <p:spPr>
          <a:xfrm>
            <a:off x="826920" y="180972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0 (0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直線コネクタ 15"/>
          <p:cNvSpPr/>
          <p:nvPr/>
        </p:nvSpPr>
        <p:spPr>
          <a:xfrm>
            <a:off x="826920" y="3033720"/>
            <a:ext cx="216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直線コネクタ 16"/>
          <p:cNvSpPr/>
          <p:nvPr/>
        </p:nvSpPr>
        <p:spPr>
          <a:xfrm>
            <a:off x="1042920" y="2817720"/>
            <a:ext cx="216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直線コネクタ 17"/>
          <p:cNvSpPr/>
          <p:nvPr/>
        </p:nvSpPr>
        <p:spPr>
          <a:xfrm>
            <a:off x="1258920" y="2602080"/>
            <a:ext cx="2174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直線コネクタ 18"/>
          <p:cNvSpPr/>
          <p:nvPr/>
        </p:nvSpPr>
        <p:spPr>
          <a:xfrm flipH="1">
            <a:off x="1042560" y="2817720"/>
            <a:ext cx="1800" cy="21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直線コネクタ 19"/>
          <p:cNvSpPr/>
          <p:nvPr/>
        </p:nvSpPr>
        <p:spPr>
          <a:xfrm flipH="1">
            <a:off x="1258920" y="2602080"/>
            <a:ext cx="1440" cy="214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直線コネクタ 20"/>
          <p:cNvSpPr/>
          <p:nvPr/>
        </p:nvSpPr>
        <p:spPr>
          <a:xfrm flipH="1">
            <a:off x="1476360" y="2384280"/>
            <a:ext cx="1440" cy="21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直線コネクタ 21"/>
          <p:cNvSpPr/>
          <p:nvPr/>
        </p:nvSpPr>
        <p:spPr>
          <a:xfrm flipV="1">
            <a:off x="1476360" y="2383920"/>
            <a:ext cx="21600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直線コネクタ 22"/>
          <p:cNvSpPr/>
          <p:nvPr/>
        </p:nvSpPr>
        <p:spPr>
          <a:xfrm>
            <a:off x="1692360" y="3897360"/>
            <a:ext cx="215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直線コネクタ 23"/>
          <p:cNvSpPr/>
          <p:nvPr/>
        </p:nvSpPr>
        <p:spPr>
          <a:xfrm>
            <a:off x="1908000" y="3681360"/>
            <a:ext cx="216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直線コネクタ 24"/>
          <p:cNvSpPr/>
          <p:nvPr/>
        </p:nvSpPr>
        <p:spPr>
          <a:xfrm flipH="1">
            <a:off x="1692360" y="2168640"/>
            <a:ext cx="1440" cy="215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直線コネクタ 25"/>
          <p:cNvSpPr/>
          <p:nvPr/>
        </p:nvSpPr>
        <p:spPr>
          <a:xfrm flipH="1">
            <a:off x="1907640" y="3681360"/>
            <a:ext cx="1800" cy="21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直線コネクタ 26"/>
          <p:cNvSpPr/>
          <p:nvPr/>
        </p:nvSpPr>
        <p:spPr>
          <a:xfrm flipH="1">
            <a:off x="2123640" y="3465360"/>
            <a:ext cx="1800" cy="21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直線コネクタ 27"/>
          <p:cNvSpPr/>
          <p:nvPr/>
        </p:nvSpPr>
        <p:spPr>
          <a:xfrm>
            <a:off x="2124000" y="3465360"/>
            <a:ext cx="216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直線コネクタ 28"/>
          <p:cNvSpPr/>
          <p:nvPr/>
        </p:nvSpPr>
        <p:spPr>
          <a:xfrm>
            <a:off x="2340000" y="3249720"/>
            <a:ext cx="216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直線コネクタ 29"/>
          <p:cNvSpPr/>
          <p:nvPr/>
        </p:nvSpPr>
        <p:spPr>
          <a:xfrm>
            <a:off x="2556000" y="3033720"/>
            <a:ext cx="215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直線コネクタ 30"/>
          <p:cNvSpPr/>
          <p:nvPr/>
        </p:nvSpPr>
        <p:spPr>
          <a:xfrm flipH="1">
            <a:off x="2340000" y="3249720"/>
            <a:ext cx="1440" cy="215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直線コネクタ 31"/>
          <p:cNvSpPr/>
          <p:nvPr/>
        </p:nvSpPr>
        <p:spPr>
          <a:xfrm flipH="1">
            <a:off x="2556000" y="3033720"/>
            <a:ext cx="1440" cy="21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直線コネクタ 32"/>
          <p:cNvSpPr/>
          <p:nvPr/>
        </p:nvSpPr>
        <p:spPr>
          <a:xfrm flipH="1">
            <a:off x="2771280" y="2817720"/>
            <a:ext cx="1800" cy="21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直線コネクタ 33"/>
          <p:cNvSpPr/>
          <p:nvPr/>
        </p:nvSpPr>
        <p:spPr>
          <a:xfrm>
            <a:off x="2771640" y="2817720"/>
            <a:ext cx="216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直線コネクタ 34"/>
          <p:cNvSpPr/>
          <p:nvPr/>
        </p:nvSpPr>
        <p:spPr>
          <a:xfrm flipV="1">
            <a:off x="2987640" y="2599920"/>
            <a:ext cx="21600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直線コネクタ 35"/>
          <p:cNvSpPr/>
          <p:nvPr/>
        </p:nvSpPr>
        <p:spPr>
          <a:xfrm>
            <a:off x="3203640" y="2384280"/>
            <a:ext cx="216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直線コネクタ 36"/>
          <p:cNvSpPr/>
          <p:nvPr/>
        </p:nvSpPr>
        <p:spPr>
          <a:xfrm flipH="1">
            <a:off x="2987280" y="2602080"/>
            <a:ext cx="1800" cy="214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直線コネクタ 37"/>
          <p:cNvSpPr/>
          <p:nvPr/>
        </p:nvSpPr>
        <p:spPr>
          <a:xfrm flipH="1">
            <a:off x="3203640" y="2384280"/>
            <a:ext cx="1440" cy="21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直線コネクタ 38"/>
          <p:cNvSpPr/>
          <p:nvPr/>
        </p:nvSpPr>
        <p:spPr>
          <a:xfrm flipH="1">
            <a:off x="3419640" y="2168640"/>
            <a:ext cx="1440" cy="215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テキスト ボックス 39"/>
          <p:cNvSpPr/>
          <p:nvPr/>
        </p:nvSpPr>
        <p:spPr>
          <a:xfrm>
            <a:off x="971640" y="2384280"/>
            <a:ext cx="57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1 (5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直線コネクタ 40"/>
          <p:cNvSpPr/>
          <p:nvPr/>
        </p:nvSpPr>
        <p:spPr>
          <a:xfrm flipV="1">
            <a:off x="826920" y="4761000"/>
            <a:ext cx="21600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直線コネクタ 41"/>
          <p:cNvSpPr/>
          <p:nvPr/>
        </p:nvSpPr>
        <p:spPr>
          <a:xfrm>
            <a:off x="1042920" y="4545000"/>
            <a:ext cx="216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直線コネクタ 42"/>
          <p:cNvSpPr/>
          <p:nvPr/>
        </p:nvSpPr>
        <p:spPr>
          <a:xfrm>
            <a:off x="1258920" y="4329000"/>
            <a:ext cx="2174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直線コネクタ 43"/>
          <p:cNvSpPr/>
          <p:nvPr/>
        </p:nvSpPr>
        <p:spPr>
          <a:xfrm flipH="1">
            <a:off x="1042560" y="4545000"/>
            <a:ext cx="1800" cy="21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直線コネクタ 44"/>
          <p:cNvSpPr/>
          <p:nvPr/>
        </p:nvSpPr>
        <p:spPr>
          <a:xfrm flipH="1">
            <a:off x="1258920" y="4329000"/>
            <a:ext cx="1440" cy="21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直線コネクタ 45"/>
          <p:cNvSpPr/>
          <p:nvPr/>
        </p:nvSpPr>
        <p:spPr>
          <a:xfrm flipH="1">
            <a:off x="1476360" y="4113360"/>
            <a:ext cx="1440" cy="215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直線コネクタ 46"/>
          <p:cNvSpPr/>
          <p:nvPr/>
        </p:nvSpPr>
        <p:spPr>
          <a:xfrm>
            <a:off x="1476360" y="4113360"/>
            <a:ext cx="216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直線コネクタ 47"/>
          <p:cNvSpPr/>
          <p:nvPr/>
        </p:nvSpPr>
        <p:spPr>
          <a:xfrm flipH="1">
            <a:off x="1692360" y="3897360"/>
            <a:ext cx="1440" cy="21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テキスト ボックス 48"/>
          <p:cNvSpPr/>
          <p:nvPr/>
        </p:nvSpPr>
        <p:spPr>
          <a:xfrm>
            <a:off x="1692360" y="2960640"/>
            <a:ext cx="57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2 (5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直線コネクタ 49"/>
          <p:cNvSpPr/>
          <p:nvPr/>
        </p:nvSpPr>
        <p:spPr>
          <a:xfrm>
            <a:off x="2627280" y="4186080"/>
            <a:ext cx="216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直線コネクタ 50"/>
          <p:cNvSpPr/>
          <p:nvPr/>
        </p:nvSpPr>
        <p:spPr>
          <a:xfrm>
            <a:off x="2843280" y="3970440"/>
            <a:ext cx="216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直線コネクタ 51"/>
          <p:cNvSpPr/>
          <p:nvPr/>
        </p:nvSpPr>
        <p:spPr>
          <a:xfrm flipH="1">
            <a:off x="2843280" y="3970440"/>
            <a:ext cx="1440" cy="214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直線コネクタ 52"/>
          <p:cNvSpPr/>
          <p:nvPr/>
        </p:nvSpPr>
        <p:spPr>
          <a:xfrm flipV="1">
            <a:off x="3059280" y="3753000"/>
            <a:ext cx="21744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直線コネクタ 53"/>
          <p:cNvSpPr/>
          <p:nvPr/>
        </p:nvSpPr>
        <p:spPr>
          <a:xfrm flipV="1">
            <a:off x="3276720" y="3537000"/>
            <a:ext cx="21564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直線コネクタ 54"/>
          <p:cNvSpPr/>
          <p:nvPr/>
        </p:nvSpPr>
        <p:spPr>
          <a:xfrm>
            <a:off x="3492360" y="3321000"/>
            <a:ext cx="216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直線コネクタ 55"/>
          <p:cNvSpPr/>
          <p:nvPr/>
        </p:nvSpPr>
        <p:spPr>
          <a:xfrm flipH="1">
            <a:off x="3276720" y="3537000"/>
            <a:ext cx="1440" cy="21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直線コネクタ 56"/>
          <p:cNvSpPr/>
          <p:nvPr/>
        </p:nvSpPr>
        <p:spPr>
          <a:xfrm flipH="1">
            <a:off x="3492000" y="3321000"/>
            <a:ext cx="1800" cy="21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直線コネクタ 57"/>
          <p:cNvSpPr/>
          <p:nvPr/>
        </p:nvSpPr>
        <p:spPr>
          <a:xfrm>
            <a:off x="1979640" y="4834080"/>
            <a:ext cx="216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直線コネクタ 58"/>
          <p:cNvSpPr/>
          <p:nvPr/>
        </p:nvSpPr>
        <p:spPr>
          <a:xfrm flipV="1">
            <a:off x="2195640" y="4615920"/>
            <a:ext cx="21564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直線コネクタ 59"/>
          <p:cNvSpPr/>
          <p:nvPr/>
        </p:nvSpPr>
        <p:spPr>
          <a:xfrm flipH="1">
            <a:off x="1979640" y="4834080"/>
            <a:ext cx="1440" cy="214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直線コネクタ 60"/>
          <p:cNvSpPr/>
          <p:nvPr/>
        </p:nvSpPr>
        <p:spPr>
          <a:xfrm flipH="1">
            <a:off x="2195640" y="4616280"/>
            <a:ext cx="1440" cy="21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直線コネクタ 61"/>
          <p:cNvSpPr/>
          <p:nvPr/>
        </p:nvSpPr>
        <p:spPr>
          <a:xfrm flipH="1">
            <a:off x="2410920" y="4400640"/>
            <a:ext cx="1800" cy="215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直線コネクタ 62"/>
          <p:cNvSpPr/>
          <p:nvPr/>
        </p:nvSpPr>
        <p:spPr>
          <a:xfrm flipV="1">
            <a:off x="2411280" y="4400640"/>
            <a:ext cx="21600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直線コネクタ 63"/>
          <p:cNvSpPr/>
          <p:nvPr/>
        </p:nvSpPr>
        <p:spPr>
          <a:xfrm flipH="1">
            <a:off x="2626920" y="4186080"/>
            <a:ext cx="1800" cy="21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直線コネクタ 64"/>
          <p:cNvSpPr/>
          <p:nvPr/>
        </p:nvSpPr>
        <p:spPr>
          <a:xfrm flipH="1">
            <a:off x="3059280" y="3753000"/>
            <a:ext cx="1440" cy="215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テキスト ボックス 65"/>
          <p:cNvSpPr/>
          <p:nvPr/>
        </p:nvSpPr>
        <p:spPr>
          <a:xfrm>
            <a:off x="2268360" y="3681360"/>
            <a:ext cx="574920" cy="246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3 (3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テキスト ボックス 66"/>
          <p:cNvSpPr/>
          <p:nvPr/>
        </p:nvSpPr>
        <p:spPr>
          <a:xfrm>
            <a:off x="2916360" y="42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4 (0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直線コネクタ 67"/>
          <p:cNvSpPr/>
          <p:nvPr/>
        </p:nvSpPr>
        <p:spPr>
          <a:xfrm flipH="1">
            <a:off x="971640" y="2025720"/>
            <a:ext cx="71280" cy="216000"/>
          </a:xfrm>
          <a:prstGeom prst="line">
            <a:avLst/>
          </a:prstGeom>
          <a:ln w="9360">
            <a:solidFill>
              <a:srgbClr val="f07c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正方形/長方形 68"/>
          <p:cNvSpPr/>
          <p:nvPr/>
        </p:nvSpPr>
        <p:spPr>
          <a:xfrm>
            <a:off x="5003640" y="2492280"/>
            <a:ext cx="289080" cy="324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正方形/長方形 69"/>
          <p:cNvSpPr/>
          <p:nvPr/>
        </p:nvSpPr>
        <p:spPr>
          <a:xfrm>
            <a:off x="5003640" y="2816280"/>
            <a:ext cx="289080" cy="325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正方形/長方形 70"/>
          <p:cNvSpPr/>
          <p:nvPr/>
        </p:nvSpPr>
        <p:spPr>
          <a:xfrm>
            <a:off x="5292720" y="2492280"/>
            <a:ext cx="287280" cy="324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正方形/長方形 71"/>
          <p:cNvSpPr/>
          <p:nvPr/>
        </p:nvSpPr>
        <p:spPr>
          <a:xfrm>
            <a:off x="5292720" y="2816280"/>
            <a:ext cx="287280" cy="325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正方形/長方形 72"/>
          <p:cNvSpPr/>
          <p:nvPr/>
        </p:nvSpPr>
        <p:spPr>
          <a:xfrm>
            <a:off x="7272360" y="2816280"/>
            <a:ext cx="287280" cy="325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正方形/長方形 73"/>
          <p:cNvSpPr/>
          <p:nvPr/>
        </p:nvSpPr>
        <p:spPr>
          <a:xfrm>
            <a:off x="5003640" y="3141720"/>
            <a:ext cx="289080" cy="32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正方形/長方形 74"/>
          <p:cNvSpPr/>
          <p:nvPr/>
        </p:nvSpPr>
        <p:spPr>
          <a:xfrm>
            <a:off x="5580000" y="2492280"/>
            <a:ext cx="287280" cy="324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右矢印 75"/>
          <p:cNvSpPr/>
          <p:nvPr/>
        </p:nvSpPr>
        <p:spPr>
          <a:xfrm>
            <a:off x="6156360" y="2781360"/>
            <a:ext cx="503280" cy="468360"/>
          </a:xfrm>
          <a:prstGeom prst="rightArrow">
            <a:avLst>
              <a:gd name="adj1" fmla="val 50000"/>
              <a:gd name="adj2" fmla="val 4999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テキスト ボックス 76"/>
          <p:cNvSpPr/>
          <p:nvPr/>
        </p:nvSpPr>
        <p:spPr>
          <a:xfrm>
            <a:off x="4248000" y="1592280"/>
            <a:ext cx="3600720" cy="4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R3, the number of reference reduced to 3 from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be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テキスト ボックス 77"/>
          <p:cNvSpPr/>
          <p:nvPr/>
        </p:nvSpPr>
        <p:spPr>
          <a:xfrm>
            <a:off x="3095640" y="1844640"/>
            <a:ext cx="900000" cy="254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 or 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テキスト ボックス 78"/>
          <p:cNvSpPr/>
          <p:nvPr/>
        </p:nvSpPr>
        <p:spPr>
          <a:xfrm>
            <a:off x="3780000" y="3141720"/>
            <a:ext cx="90000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2 or 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テキスト ボックス 79"/>
          <p:cNvSpPr/>
          <p:nvPr/>
        </p:nvSpPr>
        <p:spPr>
          <a:xfrm>
            <a:off x="3924360" y="3824280"/>
            <a:ext cx="5003640" cy="226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wise (xC  +  yC is less than ( 1 &lt;&lt; log2TrafoSize )  + 6), sigCtx is derived using previously decoded bins of the syntax element significant_coeff_flag as follow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variable sigCtx is initialized as follow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igCtx  =  39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(9‑1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xC is less than ( 1 &lt;&lt; log2TrafoSize ) − 1, the following ap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igCtx  =  sigCtx  +  significant_coeff_flag[ xC + 1 ][ yC 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xC and yC are less than ( 1 &lt;&lt; log2TrafoSize ) − 1, the following ap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igCtx  =  sigCtx  +  significant_coeff_flag[ xC + 1 ][ yC + 1 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yC is less than ( 1 &lt;&lt; log2TrafoSize ) − 1, the following ap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igCtx  =  sigCtx  +  significant_coeff_flag[ xC ][ yC + 1 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テキスト ボックス 80"/>
          <p:cNvSpPr/>
          <p:nvPr/>
        </p:nvSpPr>
        <p:spPr>
          <a:xfrm>
            <a:off x="3887640" y="3567240"/>
            <a:ext cx="417672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osed W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96480"/>
            <a:ext cx="8229600" cy="415800"/>
          </a:xfrm>
          <a:prstGeom prst="rect">
            <a:avLst/>
          </a:prstGeom>
          <a:noFill/>
          <a:ln w="0">
            <a:noFill/>
          </a:ln>
        </p:spPr>
        <p:txBody>
          <a:bodyPr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Proposed method (2)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457200" y="785520"/>
            <a:ext cx="8229600" cy="561492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360360" indent="-24120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e position context for the most highest frequency coeff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スライド番号プレースホルダ 3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1F3B4-8946-492F-B427-51C15AC1BF06}" type="slidenum">
              <a:rPr b="0" lang="ja-JP" sz="1200" spc="-1" strike="noStrike">
                <a:solidFill>
                  <a:srgbClr val="3f3f3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直線コネクタ 7"/>
          <p:cNvSpPr/>
          <p:nvPr/>
        </p:nvSpPr>
        <p:spPr>
          <a:xfrm>
            <a:off x="828720" y="2602080"/>
            <a:ext cx="216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直線コネクタ 8"/>
          <p:cNvSpPr/>
          <p:nvPr/>
        </p:nvSpPr>
        <p:spPr>
          <a:xfrm>
            <a:off x="1044720" y="2386080"/>
            <a:ext cx="215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直線コネクタ 9"/>
          <p:cNvSpPr/>
          <p:nvPr/>
        </p:nvSpPr>
        <p:spPr>
          <a:xfrm flipH="1">
            <a:off x="1260000" y="2170080"/>
            <a:ext cx="1800" cy="21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直線コネクタ 10"/>
          <p:cNvSpPr/>
          <p:nvPr/>
        </p:nvSpPr>
        <p:spPr>
          <a:xfrm flipH="1">
            <a:off x="1044720" y="2386080"/>
            <a:ext cx="1440" cy="21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正方形/長方形 11"/>
          <p:cNvSpPr/>
          <p:nvPr/>
        </p:nvSpPr>
        <p:spPr>
          <a:xfrm>
            <a:off x="826920" y="2168640"/>
            <a:ext cx="2880000" cy="2881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テキスト ボックス 12"/>
          <p:cNvSpPr/>
          <p:nvPr/>
        </p:nvSpPr>
        <p:spPr>
          <a:xfrm>
            <a:off x="826920" y="180972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0 (0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直線コネクタ 13"/>
          <p:cNvSpPr/>
          <p:nvPr/>
        </p:nvSpPr>
        <p:spPr>
          <a:xfrm>
            <a:off x="826920" y="3033720"/>
            <a:ext cx="216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直線コネクタ 14"/>
          <p:cNvSpPr/>
          <p:nvPr/>
        </p:nvSpPr>
        <p:spPr>
          <a:xfrm>
            <a:off x="1042920" y="2817720"/>
            <a:ext cx="216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直線コネクタ 15"/>
          <p:cNvSpPr/>
          <p:nvPr/>
        </p:nvSpPr>
        <p:spPr>
          <a:xfrm>
            <a:off x="1258920" y="2602080"/>
            <a:ext cx="2174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直線コネクタ 16"/>
          <p:cNvSpPr/>
          <p:nvPr/>
        </p:nvSpPr>
        <p:spPr>
          <a:xfrm flipH="1">
            <a:off x="1042560" y="2817720"/>
            <a:ext cx="1800" cy="21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直線コネクタ 17"/>
          <p:cNvSpPr/>
          <p:nvPr/>
        </p:nvSpPr>
        <p:spPr>
          <a:xfrm flipH="1">
            <a:off x="1258920" y="2602080"/>
            <a:ext cx="1440" cy="214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直線コネクタ 18"/>
          <p:cNvSpPr/>
          <p:nvPr/>
        </p:nvSpPr>
        <p:spPr>
          <a:xfrm flipH="1">
            <a:off x="1476360" y="2384280"/>
            <a:ext cx="1440" cy="21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直線コネクタ 19"/>
          <p:cNvSpPr/>
          <p:nvPr/>
        </p:nvSpPr>
        <p:spPr>
          <a:xfrm flipV="1">
            <a:off x="1476360" y="2383920"/>
            <a:ext cx="21600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直線コネクタ 20"/>
          <p:cNvSpPr/>
          <p:nvPr/>
        </p:nvSpPr>
        <p:spPr>
          <a:xfrm>
            <a:off x="1692360" y="3897360"/>
            <a:ext cx="215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直線コネクタ 21"/>
          <p:cNvSpPr/>
          <p:nvPr/>
        </p:nvSpPr>
        <p:spPr>
          <a:xfrm>
            <a:off x="1908000" y="3681360"/>
            <a:ext cx="216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直線コネクタ 22"/>
          <p:cNvSpPr/>
          <p:nvPr/>
        </p:nvSpPr>
        <p:spPr>
          <a:xfrm flipH="1">
            <a:off x="1692360" y="2168640"/>
            <a:ext cx="1440" cy="215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直線コネクタ 23"/>
          <p:cNvSpPr/>
          <p:nvPr/>
        </p:nvSpPr>
        <p:spPr>
          <a:xfrm flipH="1">
            <a:off x="1907640" y="3681360"/>
            <a:ext cx="1800" cy="21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直線コネクタ 24"/>
          <p:cNvSpPr/>
          <p:nvPr/>
        </p:nvSpPr>
        <p:spPr>
          <a:xfrm flipH="1">
            <a:off x="2123640" y="3465360"/>
            <a:ext cx="1800" cy="21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直線コネクタ 25"/>
          <p:cNvSpPr/>
          <p:nvPr/>
        </p:nvSpPr>
        <p:spPr>
          <a:xfrm>
            <a:off x="2124000" y="3465360"/>
            <a:ext cx="216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直線コネクタ 26"/>
          <p:cNvSpPr/>
          <p:nvPr/>
        </p:nvSpPr>
        <p:spPr>
          <a:xfrm>
            <a:off x="2340000" y="3249720"/>
            <a:ext cx="216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直線コネクタ 27"/>
          <p:cNvSpPr/>
          <p:nvPr/>
        </p:nvSpPr>
        <p:spPr>
          <a:xfrm>
            <a:off x="2556000" y="3033720"/>
            <a:ext cx="215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直線コネクタ 28"/>
          <p:cNvSpPr/>
          <p:nvPr/>
        </p:nvSpPr>
        <p:spPr>
          <a:xfrm flipH="1">
            <a:off x="2340000" y="3249720"/>
            <a:ext cx="1440" cy="215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直線コネクタ 29"/>
          <p:cNvSpPr/>
          <p:nvPr/>
        </p:nvSpPr>
        <p:spPr>
          <a:xfrm flipH="1">
            <a:off x="2556000" y="3033720"/>
            <a:ext cx="1440" cy="21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直線コネクタ 30"/>
          <p:cNvSpPr/>
          <p:nvPr/>
        </p:nvSpPr>
        <p:spPr>
          <a:xfrm flipH="1">
            <a:off x="2771280" y="2817720"/>
            <a:ext cx="1800" cy="21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直線コネクタ 31"/>
          <p:cNvSpPr/>
          <p:nvPr/>
        </p:nvSpPr>
        <p:spPr>
          <a:xfrm>
            <a:off x="2771640" y="2817720"/>
            <a:ext cx="216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直線コネクタ 32"/>
          <p:cNvSpPr/>
          <p:nvPr/>
        </p:nvSpPr>
        <p:spPr>
          <a:xfrm flipV="1">
            <a:off x="2987640" y="2599920"/>
            <a:ext cx="21600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直線コネクタ 33"/>
          <p:cNvSpPr/>
          <p:nvPr/>
        </p:nvSpPr>
        <p:spPr>
          <a:xfrm>
            <a:off x="3203640" y="2384280"/>
            <a:ext cx="216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直線コネクタ 34"/>
          <p:cNvSpPr/>
          <p:nvPr/>
        </p:nvSpPr>
        <p:spPr>
          <a:xfrm flipH="1">
            <a:off x="2987280" y="2602080"/>
            <a:ext cx="1800" cy="214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直線コネクタ 35"/>
          <p:cNvSpPr/>
          <p:nvPr/>
        </p:nvSpPr>
        <p:spPr>
          <a:xfrm flipH="1">
            <a:off x="3203640" y="2384280"/>
            <a:ext cx="1440" cy="21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直線コネクタ 36"/>
          <p:cNvSpPr/>
          <p:nvPr/>
        </p:nvSpPr>
        <p:spPr>
          <a:xfrm flipH="1">
            <a:off x="3419640" y="2168640"/>
            <a:ext cx="1440" cy="215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テキスト ボックス 37"/>
          <p:cNvSpPr/>
          <p:nvPr/>
        </p:nvSpPr>
        <p:spPr>
          <a:xfrm>
            <a:off x="971640" y="2384280"/>
            <a:ext cx="57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1 (5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直線コネクタ 38"/>
          <p:cNvSpPr/>
          <p:nvPr/>
        </p:nvSpPr>
        <p:spPr>
          <a:xfrm flipV="1">
            <a:off x="826920" y="4761000"/>
            <a:ext cx="21600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直線コネクタ 39"/>
          <p:cNvSpPr/>
          <p:nvPr/>
        </p:nvSpPr>
        <p:spPr>
          <a:xfrm>
            <a:off x="1042920" y="4545000"/>
            <a:ext cx="216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直線コネクタ 40"/>
          <p:cNvSpPr/>
          <p:nvPr/>
        </p:nvSpPr>
        <p:spPr>
          <a:xfrm>
            <a:off x="1258920" y="4329000"/>
            <a:ext cx="2174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直線コネクタ 41"/>
          <p:cNvSpPr/>
          <p:nvPr/>
        </p:nvSpPr>
        <p:spPr>
          <a:xfrm flipH="1">
            <a:off x="1042560" y="4545000"/>
            <a:ext cx="1800" cy="21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直線コネクタ 42"/>
          <p:cNvSpPr/>
          <p:nvPr/>
        </p:nvSpPr>
        <p:spPr>
          <a:xfrm flipH="1">
            <a:off x="1258920" y="4329000"/>
            <a:ext cx="1440" cy="21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直線コネクタ 43"/>
          <p:cNvSpPr/>
          <p:nvPr/>
        </p:nvSpPr>
        <p:spPr>
          <a:xfrm flipH="1">
            <a:off x="1476360" y="4113360"/>
            <a:ext cx="1440" cy="215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直線コネクタ 44"/>
          <p:cNvSpPr/>
          <p:nvPr/>
        </p:nvSpPr>
        <p:spPr>
          <a:xfrm>
            <a:off x="1476360" y="4113360"/>
            <a:ext cx="216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直線コネクタ 45"/>
          <p:cNvSpPr/>
          <p:nvPr/>
        </p:nvSpPr>
        <p:spPr>
          <a:xfrm flipH="1">
            <a:off x="1692360" y="3897360"/>
            <a:ext cx="1440" cy="21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テキスト ボックス 46"/>
          <p:cNvSpPr/>
          <p:nvPr/>
        </p:nvSpPr>
        <p:spPr>
          <a:xfrm>
            <a:off x="1692360" y="2960640"/>
            <a:ext cx="57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2 (5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直線コネクタ 47"/>
          <p:cNvSpPr/>
          <p:nvPr/>
        </p:nvSpPr>
        <p:spPr>
          <a:xfrm>
            <a:off x="2627280" y="4186080"/>
            <a:ext cx="216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直線コネクタ 48"/>
          <p:cNvSpPr/>
          <p:nvPr/>
        </p:nvSpPr>
        <p:spPr>
          <a:xfrm>
            <a:off x="2843280" y="3970440"/>
            <a:ext cx="216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直線コネクタ 49"/>
          <p:cNvSpPr/>
          <p:nvPr/>
        </p:nvSpPr>
        <p:spPr>
          <a:xfrm flipH="1">
            <a:off x="2843280" y="3970440"/>
            <a:ext cx="1440" cy="214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直線コネクタ 50"/>
          <p:cNvSpPr/>
          <p:nvPr/>
        </p:nvSpPr>
        <p:spPr>
          <a:xfrm flipV="1">
            <a:off x="3059280" y="3753000"/>
            <a:ext cx="21744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直線コネクタ 51"/>
          <p:cNvSpPr/>
          <p:nvPr/>
        </p:nvSpPr>
        <p:spPr>
          <a:xfrm flipV="1">
            <a:off x="3276720" y="3537000"/>
            <a:ext cx="21564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直線コネクタ 52"/>
          <p:cNvSpPr/>
          <p:nvPr/>
        </p:nvSpPr>
        <p:spPr>
          <a:xfrm>
            <a:off x="3492360" y="3321000"/>
            <a:ext cx="216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直線コネクタ 53"/>
          <p:cNvSpPr/>
          <p:nvPr/>
        </p:nvSpPr>
        <p:spPr>
          <a:xfrm flipH="1">
            <a:off x="3276720" y="3537000"/>
            <a:ext cx="1440" cy="21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直線コネクタ 54"/>
          <p:cNvSpPr/>
          <p:nvPr/>
        </p:nvSpPr>
        <p:spPr>
          <a:xfrm flipH="1">
            <a:off x="3492000" y="3321000"/>
            <a:ext cx="1800" cy="21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直線コネクタ 55"/>
          <p:cNvSpPr/>
          <p:nvPr/>
        </p:nvSpPr>
        <p:spPr>
          <a:xfrm>
            <a:off x="1979640" y="4834080"/>
            <a:ext cx="216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直線コネクタ 56"/>
          <p:cNvSpPr/>
          <p:nvPr/>
        </p:nvSpPr>
        <p:spPr>
          <a:xfrm flipV="1">
            <a:off x="2195640" y="4615920"/>
            <a:ext cx="21564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直線コネクタ 57"/>
          <p:cNvSpPr/>
          <p:nvPr/>
        </p:nvSpPr>
        <p:spPr>
          <a:xfrm flipH="1">
            <a:off x="1979640" y="4834080"/>
            <a:ext cx="1440" cy="214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直線コネクタ 58"/>
          <p:cNvSpPr/>
          <p:nvPr/>
        </p:nvSpPr>
        <p:spPr>
          <a:xfrm flipH="1">
            <a:off x="2195640" y="4616280"/>
            <a:ext cx="1440" cy="21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直線コネクタ 59"/>
          <p:cNvSpPr/>
          <p:nvPr/>
        </p:nvSpPr>
        <p:spPr>
          <a:xfrm flipH="1">
            <a:off x="2410920" y="4400640"/>
            <a:ext cx="1800" cy="215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直線コネクタ 60"/>
          <p:cNvSpPr/>
          <p:nvPr/>
        </p:nvSpPr>
        <p:spPr>
          <a:xfrm flipV="1">
            <a:off x="2411280" y="4400640"/>
            <a:ext cx="21600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直線コネクタ 61"/>
          <p:cNvSpPr/>
          <p:nvPr/>
        </p:nvSpPr>
        <p:spPr>
          <a:xfrm flipH="1">
            <a:off x="2626920" y="4186080"/>
            <a:ext cx="1800" cy="21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直線コネクタ 62"/>
          <p:cNvSpPr/>
          <p:nvPr/>
        </p:nvSpPr>
        <p:spPr>
          <a:xfrm flipH="1">
            <a:off x="3059280" y="3753000"/>
            <a:ext cx="1440" cy="215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テキスト ボックス 63"/>
          <p:cNvSpPr/>
          <p:nvPr/>
        </p:nvSpPr>
        <p:spPr>
          <a:xfrm>
            <a:off x="2268360" y="3681360"/>
            <a:ext cx="57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3 (3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テキスト ボックス 64"/>
          <p:cNvSpPr/>
          <p:nvPr/>
        </p:nvSpPr>
        <p:spPr>
          <a:xfrm>
            <a:off x="2916360" y="4257720"/>
            <a:ext cx="647640" cy="246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4 (0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直線コネクタ 65"/>
          <p:cNvSpPr/>
          <p:nvPr/>
        </p:nvSpPr>
        <p:spPr>
          <a:xfrm flipH="1">
            <a:off x="971640" y="2025720"/>
            <a:ext cx="71280" cy="216000"/>
          </a:xfrm>
          <a:prstGeom prst="line">
            <a:avLst/>
          </a:prstGeom>
          <a:ln w="9360">
            <a:solidFill>
              <a:srgbClr val="f07c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テキスト ボックス 74"/>
          <p:cNvSpPr/>
          <p:nvPr/>
        </p:nvSpPr>
        <p:spPr>
          <a:xfrm>
            <a:off x="4248000" y="1592280"/>
            <a:ext cx="360072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R4, the number of reference reduced to 0 from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テキスト ボックス 76"/>
          <p:cNvSpPr/>
          <p:nvPr/>
        </p:nvSpPr>
        <p:spPr>
          <a:xfrm>
            <a:off x="4140360" y="4473720"/>
            <a:ext cx="4356000" cy="6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wise (xC  +  yC is equal to or greater than ( 1 &lt;&lt; log2TrafoSize )  + 6), sigCtx is derived as follow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igCtx  =  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テキスト ボックス 77"/>
          <p:cNvSpPr/>
          <p:nvPr/>
        </p:nvSpPr>
        <p:spPr>
          <a:xfrm>
            <a:off x="3095640" y="1844640"/>
            <a:ext cx="90000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 or 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テキスト ボックス 78"/>
          <p:cNvSpPr/>
          <p:nvPr/>
        </p:nvSpPr>
        <p:spPr>
          <a:xfrm>
            <a:off x="3780000" y="3141720"/>
            <a:ext cx="900000" cy="254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2 or 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テキスト ボックス 79"/>
          <p:cNvSpPr/>
          <p:nvPr/>
        </p:nvSpPr>
        <p:spPr>
          <a:xfrm>
            <a:off x="4032360" y="4149720"/>
            <a:ext cx="417672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osed W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96480"/>
            <a:ext cx="8229600" cy="415800"/>
          </a:xfrm>
          <a:prstGeom prst="rect">
            <a:avLst/>
          </a:prstGeom>
          <a:noFill/>
          <a:ln w="0">
            <a:noFill/>
          </a:ln>
        </p:spPr>
        <p:txBody>
          <a:bodyPr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Experimental resul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0" name="スライド番号プレースホルダ 3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A66C4-07DD-428E-BEF0-517158D925D3}" type="slidenum">
              <a:rPr b="0" lang="ja-JP" sz="1200" spc="-1" strike="noStrike">
                <a:solidFill>
                  <a:srgbClr val="3f3f3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457200" y="785520"/>
            <a:ext cx="4510080" cy="561492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360360" indent="-24120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bout 0.1 % lo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60360" indent="-24120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nc/Dec time shows no impa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60360" indent="-24120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60360" indent="-24120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sults are cross checked by Panasonic (JCTVC-G751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52" name=""/>
          <p:cNvGraphicFramePr/>
          <p:nvPr/>
        </p:nvGraphicFramePr>
        <p:xfrm>
          <a:off x="5003640" y="657360"/>
          <a:ext cx="2953080" cy="6095880"/>
        </p:xfrm>
        <a:graphic>
          <a:graphicData uri="http://schemas.openxmlformats.org/drawingml/2006/table">
            <a:tbl>
              <a:tblPr/>
              <a:tblGrid>
                <a:gridCol w="855720"/>
                <a:gridCol w="700200"/>
                <a:gridCol w="698400"/>
                <a:gridCol w="698760"/>
              </a:tblGrid>
              <a:tr h="122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 Intra H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2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22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B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2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2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2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2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F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veral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4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7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9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22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04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17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19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c Time[%]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2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 Time[%]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2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ndom Access H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2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22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B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2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2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2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2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F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veral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6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9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7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22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06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06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03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c Time[%]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2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 Time[%]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2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 delay B H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2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22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B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2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2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4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2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7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8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2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F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veral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9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8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1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22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1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-0.09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-0.06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c Time[%]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2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 Time[%]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2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 delay P H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2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22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B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2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2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4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2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3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2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F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veral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6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8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22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06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06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-0.14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c Time[%]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96480"/>
            <a:ext cx="8229600" cy="415800"/>
          </a:xfrm>
          <a:prstGeom prst="rect">
            <a:avLst/>
          </a:prstGeom>
          <a:noFill/>
          <a:ln w="0">
            <a:noFill/>
          </a:ln>
        </p:spPr>
        <p:txBody>
          <a:bodyPr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dditional experiments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7200" y="785520"/>
            <a:ext cx="8229600" cy="561492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360360" indent="-24120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ree reference only c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22440" indent="-262080">
              <a:spcBef>
                <a:spcPts val="499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0.0 % los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スライド番号プレースホルダ 3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F3D53-FA94-48EA-B9DD-3711991B909C}" type="slidenum">
              <a:rPr b="0" lang="ja-JP" sz="1200" spc="-1" strike="noStrike">
                <a:solidFill>
                  <a:srgbClr val="3f3f3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直線コネクタ 4"/>
          <p:cNvSpPr/>
          <p:nvPr/>
        </p:nvSpPr>
        <p:spPr>
          <a:xfrm>
            <a:off x="828720" y="2602080"/>
            <a:ext cx="216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直線コネクタ 5"/>
          <p:cNvSpPr/>
          <p:nvPr/>
        </p:nvSpPr>
        <p:spPr>
          <a:xfrm>
            <a:off x="1044720" y="2386080"/>
            <a:ext cx="215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直線コネクタ 6"/>
          <p:cNvSpPr/>
          <p:nvPr/>
        </p:nvSpPr>
        <p:spPr>
          <a:xfrm flipH="1">
            <a:off x="1260000" y="2170080"/>
            <a:ext cx="1800" cy="21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直線コネクタ 7"/>
          <p:cNvSpPr/>
          <p:nvPr/>
        </p:nvSpPr>
        <p:spPr>
          <a:xfrm flipH="1">
            <a:off x="1044720" y="2386080"/>
            <a:ext cx="1440" cy="21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正方形/長方形 8"/>
          <p:cNvSpPr/>
          <p:nvPr/>
        </p:nvSpPr>
        <p:spPr>
          <a:xfrm>
            <a:off x="826920" y="2168640"/>
            <a:ext cx="2880000" cy="2881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テキスト ボックス 9"/>
          <p:cNvSpPr/>
          <p:nvPr/>
        </p:nvSpPr>
        <p:spPr>
          <a:xfrm>
            <a:off x="826920" y="180972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0 (0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直線コネクタ 10"/>
          <p:cNvSpPr/>
          <p:nvPr/>
        </p:nvSpPr>
        <p:spPr>
          <a:xfrm>
            <a:off x="826920" y="3033720"/>
            <a:ext cx="216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直線コネクタ 11"/>
          <p:cNvSpPr/>
          <p:nvPr/>
        </p:nvSpPr>
        <p:spPr>
          <a:xfrm>
            <a:off x="1042920" y="2817720"/>
            <a:ext cx="216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直線コネクタ 12"/>
          <p:cNvSpPr/>
          <p:nvPr/>
        </p:nvSpPr>
        <p:spPr>
          <a:xfrm>
            <a:off x="1258920" y="2602080"/>
            <a:ext cx="2174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直線コネクタ 13"/>
          <p:cNvSpPr/>
          <p:nvPr/>
        </p:nvSpPr>
        <p:spPr>
          <a:xfrm flipH="1">
            <a:off x="1042560" y="2817720"/>
            <a:ext cx="1800" cy="21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直線コネクタ 14"/>
          <p:cNvSpPr/>
          <p:nvPr/>
        </p:nvSpPr>
        <p:spPr>
          <a:xfrm flipH="1">
            <a:off x="1258920" y="2602080"/>
            <a:ext cx="1440" cy="214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直線コネクタ 15"/>
          <p:cNvSpPr/>
          <p:nvPr/>
        </p:nvSpPr>
        <p:spPr>
          <a:xfrm flipH="1">
            <a:off x="1476360" y="2384280"/>
            <a:ext cx="1440" cy="21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直線コネクタ 16"/>
          <p:cNvSpPr/>
          <p:nvPr/>
        </p:nvSpPr>
        <p:spPr>
          <a:xfrm flipV="1">
            <a:off x="1476360" y="2383920"/>
            <a:ext cx="21600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直線コネクタ 17"/>
          <p:cNvSpPr/>
          <p:nvPr/>
        </p:nvSpPr>
        <p:spPr>
          <a:xfrm>
            <a:off x="1692360" y="3897360"/>
            <a:ext cx="215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直線コネクタ 18"/>
          <p:cNvSpPr/>
          <p:nvPr/>
        </p:nvSpPr>
        <p:spPr>
          <a:xfrm>
            <a:off x="1908000" y="3681360"/>
            <a:ext cx="216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直線コネクタ 19"/>
          <p:cNvSpPr/>
          <p:nvPr/>
        </p:nvSpPr>
        <p:spPr>
          <a:xfrm flipH="1">
            <a:off x="1692360" y="2168640"/>
            <a:ext cx="1440" cy="215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直線コネクタ 20"/>
          <p:cNvSpPr/>
          <p:nvPr/>
        </p:nvSpPr>
        <p:spPr>
          <a:xfrm flipH="1">
            <a:off x="1907640" y="3681360"/>
            <a:ext cx="1800" cy="21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直線コネクタ 21"/>
          <p:cNvSpPr/>
          <p:nvPr/>
        </p:nvSpPr>
        <p:spPr>
          <a:xfrm flipH="1">
            <a:off x="2123640" y="3465360"/>
            <a:ext cx="1800" cy="21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直線コネクタ 22"/>
          <p:cNvSpPr/>
          <p:nvPr/>
        </p:nvSpPr>
        <p:spPr>
          <a:xfrm>
            <a:off x="2124000" y="3465360"/>
            <a:ext cx="216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直線コネクタ 23"/>
          <p:cNvSpPr/>
          <p:nvPr/>
        </p:nvSpPr>
        <p:spPr>
          <a:xfrm>
            <a:off x="2340000" y="3249720"/>
            <a:ext cx="216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直線コネクタ 24"/>
          <p:cNvSpPr/>
          <p:nvPr/>
        </p:nvSpPr>
        <p:spPr>
          <a:xfrm>
            <a:off x="2556000" y="3033720"/>
            <a:ext cx="215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直線コネクタ 25"/>
          <p:cNvSpPr/>
          <p:nvPr/>
        </p:nvSpPr>
        <p:spPr>
          <a:xfrm flipH="1">
            <a:off x="2340000" y="3249720"/>
            <a:ext cx="1440" cy="215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直線コネクタ 26"/>
          <p:cNvSpPr/>
          <p:nvPr/>
        </p:nvSpPr>
        <p:spPr>
          <a:xfrm flipH="1">
            <a:off x="2556000" y="3033720"/>
            <a:ext cx="1440" cy="21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直線コネクタ 27"/>
          <p:cNvSpPr/>
          <p:nvPr/>
        </p:nvSpPr>
        <p:spPr>
          <a:xfrm flipH="1">
            <a:off x="2771280" y="2817720"/>
            <a:ext cx="1800" cy="21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直線コネクタ 28"/>
          <p:cNvSpPr/>
          <p:nvPr/>
        </p:nvSpPr>
        <p:spPr>
          <a:xfrm>
            <a:off x="2771640" y="2817720"/>
            <a:ext cx="216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直線コネクタ 29"/>
          <p:cNvSpPr/>
          <p:nvPr/>
        </p:nvSpPr>
        <p:spPr>
          <a:xfrm flipV="1">
            <a:off x="2987640" y="2599920"/>
            <a:ext cx="21600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直線コネクタ 30"/>
          <p:cNvSpPr/>
          <p:nvPr/>
        </p:nvSpPr>
        <p:spPr>
          <a:xfrm>
            <a:off x="3203640" y="2384280"/>
            <a:ext cx="216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直線コネクタ 31"/>
          <p:cNvSpPr/>
          <p:nvPr/>
        </p:nvSpPr>
        <p:spPr>
          <a:xfrm flipH="1">
            <a:off x="2987280" y="2602080"/>
            <a:ext cx="1800" cy="214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直線コネクタ 32"/>
          <p:cNvSpPr/>
          <p:nvPr/>
        </p:nvSpPr>
        <p:spPr>
          <a:xfrm flipH="1">
            <a:off x="3203640" y="2384280"/>
            <a:ext cx="1440" cy="21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直線コネクタ 33"/>
          <p:cNvSpPr/>
          <p:nvPr/>
        </p:nvSpPr>
        <p:spPr>
          <a:xfrm flipH="1">
            <a:off x="3419640" y="2168640"/>
            <a:ext cx="1440" cy="215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テキスト ボックス 34"/>
          <p:cNvSpPr/>
          <p:nvPr/>
        </p:nvSpPr>
        <p:spPr>
          <a:xfrm>
            <a:off x="971640" y="2384280"/>
            <a:ext cx="57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1 (5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直線コネクタ 35"/>
          <p:cNvSpPr/>
          <p:nvPr/>
        </p:nvSpPr>
        <p:spPr>
          <a:xfrm flipV="1">
            <a:off x="826920" y="4761000"/>
            <a:ext cx="21600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直線コネクタ 36"/>
          <p:cNvSpPr/>
          <p:nvPr/>
        </p:nvSpPr>
        <p:spPr>
          <a:xfrm>
            <a:off x="1042920" y="4545000"/>
            <a:ext cx="216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直線コネクタ 37"/>
          <p:cNvSpPr/>
          <p:nvPr/>
        </p:nvSpPr>
        <p:spPr>
          <a:xfrm>
            <a:off x="1258920" y="4329000"/>
            <a:ext cx="2174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直線コネクタ 38"/>
          <p:cNvSpPr/>
          <p:nvPr/>
        </p:nvSpPr>
        <p:spPr>
          <a:xfrm flipH="1">
            <a:off x="1042560" y="4545000"/>
            <a:ext cx="1800" cy="21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直線コネクタ 39"/>
          <p:cNvSpPr/>
          <p:nvPr/>
        </p:nvSpPr>
        <p:spPr>
          <a:xfrm flipH="1">
            <a:off x="1258920" y="4329000"/>
            <a:ext cx="1440" cy="21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直線コネクタ 40"/>
          <p:cNvSpPr/>
          <p:nvPr/>
        </p:nvSpPr>
        <p:spPr>
          <a:xfrm flipH="1">
            <a:off x="1476360" y="4113360"/>
            <a:ext cx="1440" cy="215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直線コネクタ 41"/>
          <p:cNvSpPr/>
          <p:nvPr/>
        </p:nvSpPr>
        <p:spPr>
          <a:xfrm>
            <a:off x="1476360" y="4113360"/>
            <a:ext cx="216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直線コネクタ 42"/>
          <p:cNvSpPr/>
          <p:nvPr/>
        </p:nvSpPr>
        <p:spPr>
          <a:xfrm flipH="1">
            <a:off x="1692360" y="3897360"/>
            <a:ext cx="1440" cy="21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テキスト ボックス 43"/>
          <p:cNvSpPr/>
          <p:nvPr/>
        </p:nvSpPr>
        <p:spPr>
          <a:xfrm>
            <a:off x="1692360" y="2960640"/>
            <a:ext cx="57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2 (5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テキスト ボックス 60"/>
          <p:cNvSpPr/>
          <p:nvPr/>
        </p:nvSpPr>
        <p:spPr>
          <a:xfrm>
            <a:off x="2268360" y="3681360"/>
            <a:ext cx="574920" cy="246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3 (3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直線コネクタ 62"/>
          <p:cNvSpPr/>
          <p:nvPr/>
        </p:nvSpPr>
        <p:spPr>
          <a:xfrm flipH="1">
            <a:off x="971640" y="2025720"/>
            <a:ext cx="71280" cy="216000"/>
          </a:xfrm>
          <a:prstGeom prst="line">
            <a:avLst/>
          </a:prstGeom>
          <a:ln w="9360">
            <a:solidFill>
              <a:srgbClr val="f07c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テキスト ボックス 77"/>
          <p:cNvSpPr/>
          <p:nvPr/>
        </p:nvSpPr>
        <p:spPr>
          <a:xfrm>
            <a:off x="3095640" y="1844640"/>
            <a:ext cx="90000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 or 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9" name=""/>
          <p:cNvGraphicFramePr/>
          <p:nvPr/>
        </p:nvGraphicFramePr>
        <p:xfrm>
          <a:off x="5003640" y="620640"/>
          <a:ext cx="3024360" cy="6218280"/>
        </p:xfrm>
        <a:graphic>
          <a:graphicData uri="http://schemas.openxmlformats.org/drawingml/2006/table">
            <a:tbl>
              <a:tblPr/>
              <a:tblGrid>
                <a:gridCol w="878040"/>
                <a:gridCol w="716040"/>
                <a:gridCol w="714240"/>
                <a:gridCol w="716040"/>
              </a:tblGrid>
              <a:tr h="122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 Intra H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2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22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B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2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2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2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2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F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veral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1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3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22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01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0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03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c Time[%]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2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 Time[%]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2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ndom Access H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2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22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B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2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2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2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2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F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veral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2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1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22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02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-0.03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-0.03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c Time[%]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2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 Time[%]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2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 delay B H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2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22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B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2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2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2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7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8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2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F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DIV/0!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DIV/0!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DIV/0!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veral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2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22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03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-0.1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1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c Time[%]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2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 Time[%]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2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 delay P H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2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22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B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2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2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2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3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2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F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veral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1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8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5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22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01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04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-0.11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c Time[%]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2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 Time[%]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96480"/>
            <a:ext cx="8229600" cy="415800"/>
          </a:xfrm>
          <a:prstGeom prst="rect">
            <a:avLst/>
          </a:prstGeom>
          <a:noFill/>
          <a:ln w="0">
            <a:noFill/>
          </a:ln>
        </p:spPr>
        <p:txBody>
          <a:bodyPr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Overall summary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457200" y="657000"/>
            <a:ext cx="8470800" cy="59194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360360" indent="-24120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etho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22440" indent="-262080">
              <a:spcBef>
                <a:spcPts val="499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o reduce the worst case of coefficients decoding process in CABA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22440" indent="-262080">
              <a:spcBef>
                <a:spcPts val="499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gnificant_coeff_flag context derivation in 16x16 and 32x32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808200" indent="-185760">
              <a:spcBef>
                <a:spcPts val="451"/>
              </a:spcBef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duce the number of reference  in high frequency coeff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982800" indent="-174600">
              <a:spcBef>
                <a:spcPts val="451"/>
              </a:spcBef>
              <a:buClr>
                <a:srgbClr val="4ea5d8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rom 5 (HM) to 0 or 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982800" indent="-174600">
              <a:spcBef>
                <a:spcPts val="451"/>
              </a:spcBef>
              <a:buClr>
                <a:srgbClr val="4ea5d8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bout 60 % coef’s compucation is reduced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982800" indent="-174600">
              <a:spcBef>
                <a:spcPts val="451"/>
              </a:spcBef>
              <a:buClr>
                <a:srgbClr val="4ea5d8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 context addition for position con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22440" indent="-262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60360" indent="-24120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xperimental resul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22440" indent="-262080">
              <a:spcBef>
                <a:spcPts val="499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p to 0.09 % los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60360" indent="-24120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60360" indent="-241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60360" indent="-241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60360" indent="-24120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commend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22440" indent="-262080">
              <a:spcBef>
                <a:spcPts val="499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pose to adopt in HM and W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スライド番号プレースホルダ 3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69109-E60E-43EB-9F9E-90F80D828DD3}" type="slidenum">
              <a:rPr b="0" lang="ja-JP" sz="1200" spc="-1" strike="noStrike">
                <a:solidFill>
                  <a:srgbClr val="3f3f3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5759280" y="2168640"/>
          <a:ext cx="2779920" cy="4663800"/>
        </p:xfrm>
        <a:graphic>
          <a:graphicData uri="http://schemas.openxmlformats.org/drawingml/2006/table">
            <a:tbl>
              <a:tblPr/>
              <a:tblGrid>
                <a:gridCol w="806760"/>
                <a:gridCol w="657000"/>
                <a:gridCol w="658800"/>
                <a:gridCol w="657360"/>
              </a:tblGrid>
              <a:tr h="918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 Intra HE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8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8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A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18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B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18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C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18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D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18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E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18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F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DIV/0!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DIV/0!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DIV/0!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8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verall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4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7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9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18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04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17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19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8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c Time[%]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8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 Time[%]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8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8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ndom Access HE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8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8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A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18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B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18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C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18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D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18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E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18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F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DIV/0!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DIV/0!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DIV/0!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8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verall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6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9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7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18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06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06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03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8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c Time[%]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8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 Time[%]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8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8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 delay B HE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8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8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A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18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B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18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C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18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D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4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18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E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7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8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18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F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DIV/0!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DIV/0!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DIV/0!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8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verall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9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8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1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18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10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-0.09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-0.06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8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c Time[%]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8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 Time[%]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8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8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 delay P HE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8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8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A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18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B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18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C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18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D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4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18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E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3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18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F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DIV/0!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DIV/0!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DIV/0!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8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verall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6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0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8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18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06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06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-0.14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8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c Time[%]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8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 Time[%]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4T05:19:20Z</dcterms:created>
  <dc:creator>.</dc:creator>
  <dc:description/>
  <dc:language>en-US</dc:language>
  <cp:lastModifiedBy>S124087_1029</cp:lastModifiedBy>
  <dcterms:modified xsi:type="dcterms:W3CDTF">2011-11-18T07:19:18Z</dcterms:modified>
  <cp:revision>2419</cp:revision>
  <dc:subject/>
  <dc:title>.</dc:title>
</cp:coreProperties>
</file>