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32A-D1C2-40A2-8133-4470D216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C9F-9294-4F24-8294-BA4FAEB0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74C7-AC15-40E9-AD6C-05AA7BBD0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5C06-AA2C-45A6-9541-E4166F5C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D42-25C5-48AB-ABAA-F69B4A157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B9D2-2A33-4600-BF40-F7931D37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3D0F-FB87-48EB-AB09-9A24AF5A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2349-DE19-42BA-A07E-3A8C2EDF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92C4-56A5-4AF4-9C3E-1F76898E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41DB-618D-4E44-9F0E-CFD7B2E3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38A-0912-4C62-8BA4-F3246DD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F893-00C0-46DD-BCD4-24772204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86C4-2171-4A75-8971-C680FAB7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F91-8314-4E03-B015-FCD9A74A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5926-7DE8-4AF1-BE02-CA8DE936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ECED-8388-43D3-9ABA-FE81208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7083-CC81-491C-B095-8D4FE527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BD2-5067-418B-B91D-6EA0C0725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8DB3-576B-412F-BB62-E8F3FD7C1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8972-75DF-4F91-AD34-F94E4792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601E0-C1E2-4FF6-804B-7196DCD8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39D-663C-4D89-BD32-F60C9B14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7EFEF-AA96-4C98-9BF0-2BF3207C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16000-2A9F-4597-A85C-768C5479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AB593-7882-4D7A-9708-9172EE46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8691E-1164-48E5-A2BF-FCD1462C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E4019-59B4-4F25-A21F-43E6C268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30604-B77D-4F36-AAD2-2F0E1474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E3661-726F-434F-ACF0-367B0B82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C423F-0FC8-4165-80AF-E9F773B9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78552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718440"/>
            <a:ext cx="264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C1AB7-7BBD-4EC7-93A1-4CBD14691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F7B-42C5-4F43-ABC0-1B43D297D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84240"/>
            <a:ext cx="8229600" cy="19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47B-9DD8-4AA3-893F-12B4A8F3C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3131-1B7D-412A-8AB4-7F0FEC0B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1844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8D8-39A6-4047-840F-6E025B3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48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785520"/>
            <a:ext cx="40158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18440"/>
            <a:ext cx="8229600" cy="26780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984-CE74-4D20-A167-BCC98070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8301-2283-4561-B1D3-516ABDAA2DC4}" type="datetime">
              <a:rPr b="0" lang="ja-JP" sz="1000" spc="-1" strike="noStrike">
                <a:solidFill>
                  <a:srgbClr val="000000"/>
                </a:solidFill>
                <a:latin typeface="Calibri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222222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4D66-6EE6-40A9-886F-4C4D76FBA52A}" type="slidenum">
              <a:rPr b="0" lang="ja-JP" sz="1400" spc="-1" strike="noStrike">
                <a:solidFill>
                  <a:srgbClr val="222222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テキスト ボックス 8"/>
          <p:cNvSpPr/>
          <p:nvPr/>
        </p:nvSpPr>
        <p:spPr>
          <a:xfrm>
            <a:off x="7596360" y="152280"/>
            <a:ext cx="1116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G3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4" descr="C:\Documents and Settings\yasugi\My Documents\My Pictures\sharplogo.gif"/>
          <p:cNvPicPr/>
          <p:nvPr/>
        </p:nvPicPr>
        <p:blipFill>
          <a:blip r:embed="rId2"/>
          <a:stretch/>
        </p:blipFill>
        <p:spPr>
          <a:xfrm>
            <a:off x="108000" y="6488280"/>
            <a:ext cx="1542960" cy="36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正方形/長方形 10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1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1166760" indent="-1839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正方形/長方形 9"/>
          <p:cNvSpPr/>
          <p:nvPr/>
        </p:nvSpPr>
        <p:spPr>
          <a:xfrm>
            <a:off x="0" y="596880"/>
            <a:ext cx="9144000" cy="17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0e2c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8"/>
          <p:cNvSpPr/>
          <p:nvPr/>
        </p:nvSpPr>
        <p:spPr>
          <a:xfrm>
            <a:off x="7596360" y="152280"/>
            <a:ext cx="11160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CTVC-G3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C:\Documents and Settings\yasugi\My Documents\My Pictures\sharplogo.gif"/>
          <p:cNvPicPr/>
          <p:nvPr/>
        </p:nvPicPr>
        <p:blipFill>
          <a:blip r:embed="rId2"/>
          <a:stretch/>
        </p:blipFill>
        <p:spPr>
          <a:xfrm>
            <a:off x="108000" y="6488280"/>
            <a:ext cx="1542960" cy="369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3C31-AC92-45B7-8464-7D8E106D977F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AD4A-884C-4899-878F-F188F148A4B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82800" indent="-174600"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166760" indent="-183960">
              <a:buClr>
                <a:srgbClr val="4ea5d8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1166760" indent="-1839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CDC4-3B8C-47CB-A96F-BB64F54D865A}" type="datetime">
              <a:rPr b="0" lang="ja-JP" sz="1200" spc="-1" strike="noStrike">
                <a:solidFill>
                  <a:srgbClr val="3f3f3f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f3f3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E959-A233-4E24-BE0B-05AAE73EDFE6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341360"/>
            <a:ext cx="8077320" cy="120816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Bi-prediction restrictio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n small PU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(JCTVC-G307)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71320" y="6428880"/>
            <a:ext cx="3855960" cy="428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JCT-VC 7th Meeting in Geneva, 21-30 November , 201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58560" y="3357720"/>
            <a:ext cx="7561080" cy="136656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omohiro Ikai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HARP Corpor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all summ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hibit 4x8, 8x4 bi-p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educe MC 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_pred_fla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ot coded in 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deriv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rg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is bi-pred, convert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i-pred to uni-pr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L1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0 % – 0.1%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e is 5 % to 7% fa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23C9-2EC6-4896-AB95-0AD83277DC7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92400" y="2276640"/>
          <a:ext cx="4864320" cy="3925800"/>
        </p:xfrm>
        <a:graphic>
          <a:graphicData uri="http://schemas.openxmlformats.org/drawingml/2006/table">
            <a:tbl>
              <a:tblPr/>
              <a:tblGrid>
                <a:gridCol w="825840"/>
                <a:gridCol w="676080"/>
                <a:gridCol w="666720"/>
                <a:gridCol w="676440"/>
                <a:gridCol w="676080"/>
                <a:gridCol w="666720"/>
                <a:gridCol w="676440"/>
              </a:tblGrid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正方形/長方形 18"/>
          <p:cNvSpPr/>
          <p:nvPr/>
        </p:nvSpPr>
        <p:spPr>
          <a:xfrm>
            <a:off x="1187280" y="5769000"/>
            <a:ext cx="5256360" cy="574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tiv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785880"/>
            <a:ext cx="8507520" cy="5307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mall 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C complexity of bi-pred is l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formance of bi-pred  is sm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om our investi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ss of no-bipred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n-merge P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4x8 and 8x4 is z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loss of no-bipred i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rge PU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4x8 and 8x4 is not zero but neglig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11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spcBef>
                <a:spcPts val="1199"/>
              </a:spcBef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5371-0842-4A98-AB08-DF36E2D0D891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下矢印 9"/>
          <p:cNvSpPr/>
          <p:nvPr/>
        </p:nvSpPr>
        <p:spPr>
          <a:xfrm>
            <a:off x="3203640" y="2421000"/>
            <a:ext cx="396720" cy="503280"/>
          </a:xfrm>
          <a:prstGeom prst="downArrow">
            <a:avLst>
              <a:gd name="adj1" fmla="val 50000"/>
              <a:gd name="adj2" fmla="val 500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テキスト ボックス 11"/>
          <p:cNvSpPr/>
          <p:nvPr/>
        </p:nvSpPr>
        <p:spPr>
          <a:xfrm>
            <a:off x="1150920" y="3068640"/>
            <a:ext cx="5257800" cy="559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t bi-pred in small 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正方形/長方形 14"/>
          <p:cNvSpPr/>
          <p:nvPr/>
        </p:nvSpPr>
        <p:spPr>
          <a:xfrm>
            <a:off x="7056360" y="1773360"/>
            <a:ext cx="71928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テキスト ボックス 17"/>
          <p:cNvSpPr/>
          <p:nvPr/>
        </p:nvSpPr>
        <p:spPr>
          <a:xfrm>
            <a:off x="1224000" y="5769000"/>
            <a:ext cx="56880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hibit 4x8 and 8x4 bi-p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正方形/長方形 10"/>
          <p:cNvSpPr/>
          <p:nvPr/>
        </p:nvSpPr>
        <p:spPr>
          <a:xfrm>
            <a:off x="6696000" y="1449360"/>
            <a:ext cx="1440000" cy="21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直線矢印コネクタ 12"/>
          <p:cNvCxnSpPr/>
          <p:nvPr/>
        </p:nvCxnSpPr>
        <p:spPr>
          <a:xfrm>
            <a:off x="7019640" y="1700280"/>
            <a:ext cx="756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8" name="直線矢印コネクタ 13"/>
          <p:cNvCxnSpPr/>
          <p:nvPr/>
        </p:nvCxnSpPr>
        <p:spPr>
          <a:xfrm flipH="1">
            <a:off x="6946560" y="1773000"/>
            <a:ext cx="2160" cy="14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89" name="テキスト ボックス 17"/>
          <p:cNvSpPr/>
          <p:nvPr/>
        </p:nvSpPr>
        <p:spPr>
          <a:xfrm>
            <a:off x="7272360" y="1484280"/>
            <a:ext cx="431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19"/>
          <p:cNvSpPr/>
          <p:nvPr/>
        </p:nvSpPr>
        <p:spPr>
          <a:xfrm>
            <a:off x="6767640" y="2384280"/>
            <a:ext cx="2523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直線矢印コネクタ 21"/>
          <p:cNvCxnSpPr/>
          <p:nvPr/>
        </p:nvCxnSpPr>
        <p:spPr>
          <a:xfrm flipH="1">
            <a:off x="6767280" y="1052280"/>
            <a:ext cx="2894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2" name="テキスト ボックス 22"/>
          <p:cNvSpPr/>
          <p:nvPr/>
        </p:nvSpPr>
        <p:spPr>
          <a:xfrm>
            <a:off x="7164360" y="873000"/>
            <a:ext cx="129528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テキスト ボックス 23"/>
          <p:cNvSpPr/>
          <p:nvPr/>
        </p:nvSpPr>
        <p:spPr>
          <a:xfrm>
            <a:off x="7093080" y="2384280"/>
            <a:ext cx="863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sed restriction in non-merge PU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785520"/>
            <a:ext cx="8229600" cy="167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tric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_pred_fla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6725-AEC9-4E33-A9CB-1A8629EA0542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表 9" descr=""/>
          <p:cNvPicPr/>
          <p:nvPr/>
        </p:nvPicPr>
        <p:blipFill>
          <a:blip r:embed="rId1"/>
          <a:stretch/>
        </p:blipFill>
        <p:spPr>
          <a:xfrm>
            <a:off x="646200" y="1805040"/>
            <a:ext cx="7778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posed changes in merge PU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vert bi-pred to uni-pre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the derived inter prediction parameter is bi-pred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1 predi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p combined and non-scaled bi-pred candidate de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0054-39B2-44FC-A3AD-ACDE0F90692B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テキスト ボックス 7"/>
          <p:cNvSpPr/>
          <p:nvPr/>
        </p:nvSpPr>
        <p:spPr>
          <a:xfrm>
            <a:off x="971640" y="2276640"/>
            <a:ext cx="7596000" cy="61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noBipredFlag is equal to 1, predFlagL0[ xN, yN ] is equal to 1 and predFlagL1[ xN, yN ] is equal to 1, predFlagL0[ xN, yN ] is set to be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フローチャート: 処理 9"/>
          <p:cNvSpPr/>
          <p:nvPr/>
        </p:nvSpPr>
        <p:spPr>
          <a:xfrm>
            <a:off x="2232000" y="3716280"/>
            <a:ext cx="2771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ighbour merge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フローチャート: 処理 11"/>
          <p:cNvSpPr/>
          <p:nvPr/>
        </p:nvSpPr>
        <p:spPr>
          <a:xfrm>
            <a:off x="2232000" y="4221000"/>
            <a:ext cx="2771640" cy="287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mporal merge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フローチャート: 処理 12"/>
          <p:cNvSpPr/>
          <p:nvPr/>
        </p:nvSpPr>
        <p:spPr>
          <a:xfrm>
            <a:off x="2232000" y="5300640"/>
            <a:ext cx="2771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bined bi-pred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フローチャート: 処理 13"/>
          <p:cNvSpPr/>
          <p:nvPr/>
        </p:nvSpPr>
        <p:spPr>
          <a:xfrm>
            <a:off x="2195640" y="5769000"/>
            <a:ext cx="284472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n-scaled bi-pred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フローチャート : 判断 14"/>
          <p:cNvSpPr/>
          <p:nvPr/>
        </p:nvSpPr>
        <p:spPr>
          <a:xfrm>
            <a:off x="2808360" y="4724280"/>
            <a:ext cx="1619280" cy="4543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x8, 8x4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フローチャート : 結合子 15"/>
          <p:cNvSpPr/>
          <p:nvPr/>
        </p:nvSpPr>
        <p:spPr>
          <a:xfrm>
            <a:off x="3564000" y="3465360"/>
            <a:ext cx="108000" cy="1429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フローチャート : 結合子 16"/>
          <p:cNvSpPr/>
          <p:nvPr/>
        </p:nvSpPr>
        <p:spPr>
          <a:xfrm>
            <a:off x="3564000" y="6669000"/>
            <a:ext cx="108000" cy="1447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カギ線コネクタ 18"/>
          <p:cNvCxnSpPr>
            <a:stCxn id="207" idx="4"/>
            <a:endCxn id="202" idx="0"/>
          </p:cNvCxnSpPr>
          <p:nvPr/>
        </p:nvCxnSpPr>
        <p:spPr>
          <a:xfrm rot="5400000">
            <a:off x="3562200" y="3663000"/>
            <a:ext cx="108720" cy="2520"/>
          </a:xfrm>
          <a:prstGeom prst="bentConnector3">
            <a:avLst>
              <a:gd name="adj1" fmla="val 49833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カギ線コネクタ 22"/>
          <p:cNvCxnSpPr>
            <a:stCxn id="202" idx="2"/>
            <a:endCxn id="203" idx="0"/>
          </p:cNvCxnSpPr>
          <p:nvPr/>
        </p:nvCxnSpPr>
        <p:spPr>
          <a:xfrm rot="5400000">
            <a:off x="3508560" y="4111920"/>
            <a:ext cx="216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カギ線コネクタ 24"/>
          <p:cNvCxnSpPr>
            <a:stCxn id="203" idx="2"/>
            <a:endCxn id="206" idx="0"/>
          </p:cNvCxnSpPr>
          <p:nvPr/>
        </p:nvCxnSpPr>
        <p:spPr>
          <a:xfrm rot="5400000">
            <a:off x="3508200" y="4617000"/>
            <a:ext cx="21672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カギ線コネクタ 26"/>
          <p:cNvCxnSpPr>
            <a:stCxn id="206" idx="2"/>
            <a:endCxn id="204" idx="0"/>
          </p:cNvCxnSpPr>
          <p:nvPr/>
        </p:nvCxnSpPr>
        <p:spPr>
          <a:xfrm rot="5400000">
            <a:off x="3554640" y="5239080"/>
            <a:ext cx="1242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3" name="カギ線コネクタ 28"/>
          <p:cNvCxnSpPr>
            <a:stCxn id="204" idx="2"/>
            <a:endCxn id="205" idx="0"/>
          </p:cNvCxnSpPr>
          <p:nvPr/>
        </p:nvCxnSpPr>
        <p:spPr>
          <a:xfrm rot="5400000">
            <a:off x="3527640" y="5679000"/>
            <a:ext cx="180000" cy="1080"/>
          </a:xfrm>
          <a:prstGeom prst="bentConnector3">
            <a:avLst>
              <a:gd name="adj1" fmla="val 49899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4" name="カギ線コネクタ 29"/>
          <p:cNvCxnSpPr>
            <a:stCxn id="205" idx="2"/>
            <a:endCxn id="215" idx="0"/>
          </p:cNvCxnSpPr>
          <p:nvPr/>
        </p:nvCxnSpPr>
        <p:spPr>
          <a:xfrm flipH="1" rot="16200000">
            <a:off x="3546000" y="6129000"/>
            <a:ext cx="143280" cy="10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5" name="フローチャート: 処理 41"/>
          <p:cNvSpPr/>
          <p:nvPr/>
        </p:nvSpPr>
        <p:spPr>
          <a:xfrm>
            <a:off x="2232000" y="6200640"/>
            <a:ext cx="2771640" cy="2890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ero candi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カギ線コネクタ 43"/>
          <p:cNvCxnSpPr>
            <a:stCxn id="215" idx="2"/>
            <a:endCxn id="208" idx="0"/>
          </p:cNvCxnSpPr>
          <p:nvPr/>
        </p:nvCxnSpPr>
        <p:spPr>
          <a:xfrm rot="5400000">
            <a:off x="3525840" y="6579000"/>
            <a:ext cx="1818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7" name="直線コネクタ 47"/>
          <p:cNvSpPr/>
          <p:nvPr/>
        </p:nvSpPr>
        <p:spPr>
          <a:xfrm flipH="1" flipV="1">
            <a:off x="3635280" y="6129360"/>
            <a:ext cx="237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線コネクタ 48"/>
          <p:cNvSpPr/>
          <p:nvPr/>
        </p:nvSpPr>
        <p:spPr>
          <a:xfrm flipH="1" flipV="1">
            <a:off x="4427280" y="4941360"/>
            <a:ext cx="15843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線コネクタ 51"/>
          <p:cNvSpPr/>
          <p:nvPr/>
        </p:nvSpPr>
        <p:spPr>
          <a:xfrm flipH="1">
            <a:off x="6012000" y="4941720"/>
            <a:ext cx="1440" cy="118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テキスト ボックス 55"/>
          <p:cNvSpPr/>
          <p:nvPr/>
        </p:nvSpPr>
        <p:spPr>
          <a:xfrm>
            <a:off x="6551640" y="4545000"/>
            <a:ext cx="1981080" cy="4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erivation complexity is also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57"/>
          <p:cNvSpPr/>
          <p:nvPr/>
        </p:nvSpPr>
        <p:spPr>
          <a:xfrm flipH="1">
            <a:off x="6011640" y="4764960"/>
            <a:ext cx="53964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テキスト ボックス 58"/>
          <p:cNvSpPr/>
          <p:nvPr/>
        </p:nvSpPr>
        <p:spPr>
          <a:xfrm>
            <a:off x="5148360" y="4616280"/>
            <a:ext cx="8636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テキスト ボックス 59"/>
          <p:cNvSpPr/>
          <p:nvPr/>
        </p:nvSpPr>
        <p:spPr>
          <a:xfrm>
            <a:off x="5040360" y="3824280"/>
            <a:ext cx="151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with uni-pred con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テキスト ボックス 60"/>
          <p:cNvSpPr/>
          <p:nvPr/>
        </p:nvSpPr>
        <p:spPr>
          <a:xfrm>
            <a:off x="5040360" y="4292640"/>
            <a:ext cx="151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with uni-pred convers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テキスト ボックス 61"/>
          <p:cNvSpPr/>
          <p:nvPr/>
        </p:nvSpPr>
        <p:spPr>
          <a:xfrm>
            <a:off x="5076720" y="6308640"/>
            <a:ext cx="15112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with uni-pred zero c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テキスト ボックス 62"/>
          <p:cNvSpPr/>
          <p:nvPr/>
        </p:nvSpPr>
        <p:spPr>
          <a:xfrm>
            <a:off x="4464000" y="4976640"/>
            <a:ext cx="576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テキスト ボックス 63"/>
          <p:cNvSpPr/>
          <p:nvPr/>
        </p:nvSpPr>
        <p:spPr>
          <a:xfrm>
            <a:off x="3708360" y="5121360"/>
            <a:ext cx="576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perimental resul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0142-5FF7-44D9-8B60-A5BC770B0A9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03280" y="584280"/>
          <a:ext cx="8029440" cy="5869080"/>
        </p:xfrm>
        <a:graphic>
          <a:graphicData uri="http://schemas.openxmlformats.org/drawingml/2006/table">
            <a:tbl>
              <a:tblPr/>
              <a:tblGrid>
                <a:gridCol w="1361880"/>
                <a:gridCol w="1111320"/>
                <a:gridCol w="1111320"/>
                <a:gridCol w="1111320"/>
                <a:gridCol w="1111320"/>
                <a:gridCol w="1110960"/>
                <a:gridCol w="1111320"/>
              </a:tblGrid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47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0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657000"/>
            <a:ext cx="8470800" cy="5919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hibit 4x8, 8x4 bi-pr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reduce MC complex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_pred_fla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ot coded in the P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08200" indent="-185760">
              <a:spcBef>
                <a:spcPts val="451"/>
              </a:spcBef>
              <a:buClr>
                <a:srgbClr val="4ea5d8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derive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rg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 is uni-pred, convert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i-pred to unipred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L1 predi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rimental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0.0 % – 0.1% lo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code is 5 % to 7% fas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ose to adopt in HM and W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A3C4-77B9-4EB9-AF17-A9D357673C85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992400" y="2276640"/>
          <a:ext cx="4864320" cy="3925800"/>
        </p:xfrm>
        <a:graphic>
          <a:graphicData uri="http://schemas.openxmlformats.org/drawingml/2006/table">
            <a:tbl>
              <a:tblPr/>
              <a:tblGrid>
                <a:gridCol w="825840"/>
                <a:gridCol w="676080"/>
                <a:gridCol w="666720"/>
                <a:gridCol w="676440"/>
                <a:gridCol w="676080"/>
                <a:gridCol w="666720"/>
                <a:gridCol w="676440"/>
              </a:tblGrid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76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2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3352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experiment (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L1 to L0 for merge P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difference is small, but L1 is a bit bet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5BC3-82B4-49BA-A4CA-15F715B70274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967280" y="1765440"/>
          <a:ext cx="3637080" cy="4363920"/>
        </p:xfrm>
        <a:graphic>
          <a:graphicData uri="http://schemas.openxmlformats.org/drawingml/2006/table">
            <a:tbl>
              <a:tblPr/>
              <a:tblGrid>
                <a:gridCol w="615960"/>
                <a:gridCol w="504720"/>
                <a:gridCol w="503280"/>
                <a:gridCol w="503280"/>
                <a:gridCol w="503280"/>
                <a:gridCol w="503280"/>
                <a:gridCol w="50328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11280" y="1800360"/>
          <a:ext cx="3763800" cy="4363920"/>
        </p:xfrm>
        <a:graphic>
          <a:graphicData uri="http://schemas.openxmlformats.org/drawingml/2006/table">
            <a:tbl>
              <a:tblPr/>
              <a:tblGrid>
                <a:gridCol w="637920"/>
                <a:gridCol w="520920"/>
                <a:gridCol w="520560"/>
                <a:gridCol w="522360"/>
                <a:gridCol w="520560"/>
                <a:gridCol w="520920"/>
                <a:gridCol w="52056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2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8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テキスト ボックス 8"/>
          <p:cNvSpPr/>
          <p:nvPr/>
        </p:nvSpPr>
        <p:spPr>
          <a:xfrm>
            <a:off x="287280" y="1700280"/>
            <a:ext cx="612720" cy="25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テキスト ボックス 9"/>
          <p:cNvSpPr/>
          <p:nvPr/>
        </p:nvSpPr>
        <p:spPr>
          <a:xfrm>
            <a:off x="4751280" y="1665360"/>
            <a:ext cx="612720" cy="254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experiment (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785520"/>
            <a:ext cx="8229600" cy="5614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6036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n merge on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546120" indent="-241200">
              <a:buClr>
                <a:srgbClr val="0e2c3e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loss of no-bipred i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n-merge P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f 4x8 and 8x4 is z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22440" indent="-262080">
              <a:spcBef>
                <a:spcPts val="499"/>
              </a:spcBef>
              <a:buClr>
                <a:srgbClr val="14425d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スライド番号プレースホルダ 3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AB6-E617-4704-AF79-5526B2C14213}" type="slidenum">
              <a:rPr b="0" lang="ja-JP" sz="1200" spc="-1" strike="noStrike">
                <a:solidFill>
                  <a:srgbClr val="3f3f3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835280" y="1916280"/>
          <a:ext cx="4863960" cy="3895560"/>
        </p:xfrm>
        <a:graphic>
          <a:graphicData uri="http://schemas.openxmlformats.org/drawingml/2006/table">
            <a:tbl>
              <a:tblPr/>
              <a:tblGrid>
                <a:gridCol w="825480"/>
                <a:gridCol w="672840"/>
                <a:gridCol w="673200"/>
                <a:gridCol w="673200"/>
                <a:gridCol w="673200"/>
                <a:gridCol w="672840"/>
                <a:gridCol w="673200"/>
              </a:tblGrid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B L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-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1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0.0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5:19:20Z</dcterms:created>
  <dc:creator>.</dc:creator>
  <dc:description/>
  <dc:language>en-US</dc:language>
  <cp:lastModifiedBy>s124087</cp:lastModifiedBy>
  <dcterms:modified xsi:type="dcterms:W3CDTF">2011-11-22T20:49:03Z</dcterms:modified>
  <cp:revision>2420</cp:revision>
  <dc:subject/>
  <dc:title>.</dc:title>
</cp:coreProperties>
</file>