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440" y="184752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668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440" y="4156200"/>
            <a:ext cx="2466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9960" y="55224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2480" y="415620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66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480" y="1847520"/>
            <a:ext cx="3738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6680" y="4156200"/>
            <a:ext cx="7661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36080" cy="45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07280"/>
            <a:ext cx="9136080" cy="45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6480" y="64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6480" y="595008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6640" y="2033640"/>
            <a:ext cx="747072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  <a:ea typeface="宋体"/>
              </a:rPr>
              <a:t>Results on Context Simplification for Coefficients Coding</a:t>
            </a:r>
            <a:endParaRPr b="1" lang="en-US" sz="36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1258920" y="3357720"/>
            <a:ext cx="6840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JCTVC-G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Wenpeng Ding, Jizheng Xu and  Xiaoyin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Beijing University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Summar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 number of contexts used for coefficients coding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-&gt;2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both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eff_abs_level_greater1_flag and coeff_abs_level_greater2_flag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 with similar 0/1 probability can be grouped together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coding performance comparied with HM4.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DRate increase 0.02 for Intra, -0.03 for Random access and -0.13 for Low delay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Proposed scheme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duce the number of used contexts by remapping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pping tables to map similar contexts to one context. Four tables for luma/chroma/inter/intr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04760" y="3933720"/>
          <a:ext cx="7272360" cy="1843200"/>
        </p:xfrm>
        <a:graphic>
          <a:graphicData uri="http://schemas.openxmlformats.org/drawingml/2006/table">
            <a:tbl>
              <a:tblPr/>
              <a:tblGrid>
                <a:gridCol w="828720"/>
                <a:gridCol w="428760"/>
                <a:gridCol w="430200"/>
                <a:gridCol w="430200"/>
                <a:gridCol w="428760"/>
                <a:gridCol w="430200"/>
                <a:gridCol w="430200"/>
                <a:gridCol w="428400"/>
                <a:gridCol w="430200"/>
                <a:gridCol w="428760"/>
                <a:gridCol w="430200"/>
                <a:gridCol w="430200"/>
                <a:gridCol w="428760"/>
                <a:gridCol w="430200"/>
                <a:gridCol w="428400"/>
                <a:gridCol w="430200"/>
              </a:tblGrid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1332000" y="35866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xt simplification on coeff_abs_level_greater1_flag for Intra Luma : 30 maps to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Working draft modificat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Derivation process of ctxIdxInc for the syntax element coeff_abs_level_greater1_fla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5 )  +  min( 4, greater1Ctx )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(9‑70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宋体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abs_level_greater1_map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[IsChroma]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[ctxIdxInc]  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  <a:ea typeface="宋体"/>
              </a:rPr>
              <a:t>(9‑71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Derivation process of ctxIdxInc for the syntax element coeff_abs_level_greater2_fla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38844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( ctxSet  *  5 )  +  min(4, greater2Ctx )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  <a:ea typeface="宋体"/>
              </a:rPr>
              <a:t>(9‑7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388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  <a:ea typeface="宋体"/>
              </a:rPr>
              <a:t>ctxIdxInc  =  abs_level_greater2_map[IsChroma] [ctxIdxInc]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宋体"/>
              </a:rPr>
              <a:t>(9‑76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aramond"/>
                <a:ea typeface="宋体"/>
              </a:rPr>
              <a:t>Results</a:t>
            </a:r>
            <a:endParaRPr b="1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595440"/>
          <a:ext cx="6553440" cy="5138640"/>
        </p:xfrm>
        <a:graphic>
          <a:graphicData uri="http://schemas.openxmlformats.org/drawingml/2006/table">
            <a:tbl>
              <a:tblPr/>
              <a:tblGrid>
                <a:gridCol w="1236600"/>
                <a:gridCol w="885960"/>
                <a:gridCol w="885960"/>
                <a:gridCol w="885600"/>
                <a:gridCol w="887400"/>
                <a:gridCol w="885960"/>
                <a:gridCol w="885960"/>
              </a:tblGrid>
              <a:tr h="190440"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a L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 L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ross-checking Results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96680" y="1847520"/>
            <a:ext cx="766116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 TI for cross-checking our result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2421000"/>
          <a:ext cx="8281800" cy="3530520"/>
        </p:xfrm>
        <a:graphic>
          <a:graphicData uri="http://schemas.openxmlformats.org/drawingml/2006/table">
            <a:tbl>
              <a:tblPr/>
              <a:tblGrid>
                <a:gridCol w="1033200"/>
                <a:gridCol w="808200"/>
                <a:gridCol w="806400"/>
                <a:gridCol w="801720"/>
                <a:gridCol w="809640"/>
                <a:gridCol w="811080"/>
                <a:gridCol w="800280"/>
                <a:gridCol w="806400"/>
                <a:gridCol w="808200"/>
                <a:gridCol w="796680"/>
              </a:tblGrid>
              <a:tr h="295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mplexity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ected to be same as HM4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unning times in our results is obtained using different machines, which makes it unreliabl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nning time from TI  shows that the complexity is the same or less than that of HM4.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960" y="55224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Garamond"/>
                <a:ea typeface="宋体"/>
              </a:rPr>
              <a:t>Conclusion</a:t>
            </a:r>
            <a:endParaRPr b="1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96680" y="18475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xts for are reduced by 60% f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greater1_fl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c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gre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fl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coding gai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solution by mapping contex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or less runtime complexity as HM4.0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commend to adop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12:01Z</dcterms:created>
  <dc:creator>FtpDown</dc:creator>
  <dc:description/>
  <dc:language>en-US</dc:language>
  <cp:lastModifiedBy>wpding</cp:lastModifiedBy>
  <dcterms:modified xsi:type="dcterms:W3CDTF">2011-11-18T04:58:27Z</dcterms:modified>
  <cp:revision>91</cp:revision>
  <dc:subject/>
  <dc:title>2004年职称聘任个人简介</dc:title>
</cp:coreProperties>
</file>