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96680" y="415620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224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744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9668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744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59960" y="55224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24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96680" y="415620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24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724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7744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9668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8724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7744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59960" y="55224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224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36080" cy="45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407280"/>
            <a:ext cx="9136080" cy="45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6480" y="6480"/>
            <a:ext cx="9129600" cy="90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6480" y="5950080"/>
            <a:ext cx="9129600" cy="90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6640" y="2033640"/>
            <a:ext cx="7470720" cy="14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Garamond"/>
                <a:ea typeface="宋体"/>
              </a:rPr>
              <a:t>Results on Context Simplification for Coefficients Coding</a:t>
            </a:r>
            <a:endParaRPr b="1" lang="en-US" sz="36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1" name="副标题 2"/>
          <p:cNvSpPr/>
          <p:nvPr/>
        </p:nvSpPr>
        <p:spPr>
          <a:xfrm>
            <a:off x="1258920" y="3357720"/>
            <a:ext cx="684036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JCTVC-G3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Wenpeng Ding, Jizheng X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Beijing University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Summary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Large number of contexts used for coefficients coding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宋体"/>
              </a:rPr>
              <a:t>-&gt;24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or both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coeff_abs_level_greater1_flag and coeff_abs_level_greater2_flag.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 (60%) contexts are removed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xt with similar 0/1 probability can be grouped together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mall coding performance comparied with HM4.0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3000"/>
              </a:lnSpc>
              <a:spcBef>
                <a:spcPts val="55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BDRate increase 0.02 for Intra, -0.03 for Random access and -0.13 for Low delay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Proposed scheme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duce the number of used contexts by remapping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pping tables to map similar contexts to one context. Four tables for luma/chroma/inter/intra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04760" y="3933720"/>
          <a:ext cx="7272360" cy="1843200"/>
        </p:xfrm>
        <a:graphic>
          <a:graphicData uri="http://schemas.openxmlformats.org/drawingml/2006/table">
            <a:tbl>
              <a:tblPr/>
              <a:tblGrid>
                <a:gridCol w="828720"/>
                <a:gridCol w="428760"/>
                <a:gridCol w="430200"/>
                <a:gridCol w="430200"/>
                <a:gridCol w="428760"/>
                <a:gridCol w="430200"/>
                <a:gridCol w="430200"/>
                <a:gridCol w="428400"/>
                <a:gridCol w="430200"/>
                <a:gridCol w="428760"/>
                <a:gridCol w="430200"/>
                <a:gridCol w="430200"/>
                <a:gridCol w="428760"/>
                <a:gridCol w="430200"/>
                <a:gridCol w="428400"/>
                <a:gridCol w="430200"/>
              </a:tblGrid>
              <a:tr h="487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rig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po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rig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po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1"/>
          <p:cNvSpPr/>
          <p:nvPr/>
        </p:nvSpPr>
        <p:spPr>
          <a:xfrm>
            <a:off x="1332000" y="3586680"/>
            <a:ext cx="69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ext simplification on coeff_abs_level_greater1_flag for Intra Luma : 30 maps to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Working draft modification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Derivation process of ctxIdxInc for the syntax element coeff_abs_level_greater1_fla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ctxIdxInc  =  ( ctxSet  *  5 )  +  Min( 4, greater1Ctx )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mapIdx = (slide_type&gt;1?2:0)+(cIdx&gt;1?1:0)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ctxIdxInc = abs_level_greater1_map[mapIdx][ctxIdxInc  ] </a:t>
            </a: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(9‑70)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Derivation process of ctxIdxInc for the syntax element coeff_abs_level_greater2_fla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ctxIdxInc  =  ( ctxSet  *  5 )  +  Min( 4, greater1Ctx )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mapIdx = (slide_type&gt;1?2:0)+(cIdx&gt;1?1:0)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ctxIdxInc = abs_level_greater2_map[mapIdx][ctxIdxInc  ] </a:t>
            </a: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aramond"/>
                <a:ea typeface="宋体"/>
              </a:rPr>
              <a:t>(9‑77)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54900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4d"/>
                </a:solidFill>
                <a:latin typeface="Garamond"/>
                <a:ea typeface="宋体"/>
              </a:rPr>
              <a:t>Results</a:t>
            </a:r>
            <a:endParaRPr b="1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47640" y="549360"/>
          <a:ext cx="6480360" cy="5603760"/>
        </p:xfrm>
        <a:graphic>
          <a:graphicData uri="http://schemas.openxmlformats.org/drawingml/2006/table">
            <a:tbl>
              <a:tblPr/>
              <a:tblGrid>
                <a:gridCol w="1098720"/>
                <a:gridCol w="897120"/>
                <a:gridCol w="896760"/>
                <a:gridCol w="896760"/>
                <a:gridCol w="897120"/>
                <a:gridCol w="896760"/>
                <a:gridCol w="897120"/>
              </a:tblGrid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L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Cross-checking Results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1557000"/>
            <a:ext cx="8424720" cy="7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anks TI and Huawei for cross-checking our result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1280" y="2205000"/>
          <a:ext cx="8281800" cy="3530520"/>
        </p:xfrm>
        <a:graphic>
          <a:graphicData uri="http://schemas.openxmlformats.org/drawingml/2006/table">
            <a:tbl>
              <a:tblPr/>
              <a:tblGrid>
                <a:gridCol w="1033200"/>
                <a:gridCol w="808200"/>
                <a:gridCol w="806400"/>
                <a:gridCol w="801720"/>
                <a:gridCol w="809640"/>
                <a:gridCol w="811080"/>
                <a:gridCol w="800280"/>
                <a:gridCol w="806400"/>
                <a:gridCol w="808200"/>
                <a:gridCol w="796680"/>
              </a:tblGrid>
              <a:tr h="29520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andom 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ow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Complexity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xpected to be same as HM4.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running times in our results is obtained using different machines, which makes it unreliabl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nning time from cross-checkers shows that the complexity is the same as that of HM4.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Conclusion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2 Contexts (60%) are removed fo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greater1_fl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c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grea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fl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all coding gai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 solution by mapping contexts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me or less runtime complexity as HM4.0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commend to adop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3:12:01Z</dcterms:created>
  <dc:creator>FtpDown</dc:creator>
  <dc:description/>
  <dc:language>en-US</dc:language>
  <cp:lastModifiedBy>wpding</cp:lastModifiedBy>
  <dcterms:modified xsi:type="dcterms:W3CDTF">2011-11-21T03:18:19Z</dcterms:modified>
  <cp:revision>95</cp:revision>
  <dc:subject/>
  <dc:title>2004年职称聘任个人简介</dc:title>
</cp:coreProperties>
</file>