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D3F6-3DD3-42A5-A501-25ED4E855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C365-5022-4F16-8A09-F923D4155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848-E308-4C19-B3D7-2088605A05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9A00-C4AA-4D74-8F1E-137E2FBACA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C92E-D676-4F14-B492-60C19287A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C5DA-9194-49DC-B41F-8898151BA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1FC7-8579-4F3D-A076-CE5AC1B0F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0487-AF84-4A42-BE47-40C669E80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9FE0-FEEA-48F5-85B1-F43D58706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3751-5CF4-47AE-99A5-A79465D56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36CA-36E6-4052-9809-1FCB9F185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CB58-9F8A-4B9A-8D33-D4B2CBBC5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A939-AA71-4054-BFBE-40321569D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287F-C465-4DC3-8434-2617C4ADB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D3DE-3C54-48DF-9481-4278E52A7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136B-E918-4CB6-A161-FBCE3A037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D13-1826-4E3F-91C3-5D7FB5C1B2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12 Subtest 1: Chroma Deblocking Fil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ian Huang, Jicheng An, Xun Guo, Shawmin Lei, Andrey Norkin, Kenneth Andersson and Rickard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  <a:ea typeface="SimSun"/>
              </a:rPr>
              <a:t>Sjö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and Eric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1-30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8" name="Logo_TM" descr="ERI_FH_rgb"/>
          <p:cNvPicPr/>
          <p:nvPr/>
        </p:nvPicPr>
        <p:blipFill>
          <a:blip r:embed="rId10"/>
          <a:stretch/>
        </p:blipFill>
        <p:spPr>
          <a:xfrm>
            <a:off x="5786280" y="0"/>
            <a:ext cx="984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768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 compared to JCTVC-F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ing 4x4 filtering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difications in chro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filtering on/off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a components share the filtering decision results of l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filter inter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oundaries with Bs &gt; 0 could be fil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reductions of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4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5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2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I, RA and L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roma compon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HM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B20E-B858-42A1-8635-C810C16892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FEAA-1EEE-492C-8C6B-B82F0FAC14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on/off Decision in HM4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pply on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5A67-3C04-4534-8A85-C77AC06971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857160" y="5429160"/>
            <a:ext cx="7155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d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d &lt; beta (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571760" y="1633680"/>
            <a:ext cx="600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use luma filtering decision information for 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ra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the comput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2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u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Intra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use the filtering decision results of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filter in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with Bs &gt; 0 could be filtered, which is Bs &gt; 2 in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7E6-BB31-4CDC-BDF0-D20F2D36DC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632320" y="2786040"/>
            <a:ext cx="121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lt; 2x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CA35-6E14-4B88-9196-CDB05591A5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hor – HM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 test conditions in JCTVC-F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 Microsoft for crosschecking (JCTVC-G4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85960" y="2428920"/>
          <a:ext cx="5300640" cy="1000080"/>
        </p:xfrm>
        <a:graphic>
          <a:graphicData uri="http://schemas.openxmlformats.org/drawingml/2006/table">
            <a:tbl>
              <a:tblPr/>
              <a:tblGrid>
                <a:gridCol w="947880"/>
                <a:gridCol w="728640"/>
                <a:gridCol w="728640"/>
                <a:gridCol w="718920"/>
                <a:gridCol w="728640"/>
                <a:gridCol w="728640"/>
                <a:gridCol w="719280"/>
              </a:tblGrid>
              <a:tr h="17136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_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85960" y="3500280"/>
          <a:ext cx="5300640" cy="1009800"/>
        </p:xfrm>
        <a:graphic>
          <a:graphicData uri="http://schemas.openxmlformats.org/drawingml/2006/table">
            <a:tbl>
              <a:tblPr/>
              <a:tblGrid>
                <a:gridCol w="947880"/>
                <a:gridCol w="728640"/>
                <a:gridCol w="728640"/>
                <a:gridCol w="718920"/>
                <a:gridCol w="728640"/>
                <a:gridCol w="728640"/>
                <a:gridCol w="719280"/>
              </a:tblGrid>
              <a:tr h="17172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Access_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85960" y="4627440"/>
          <a:ext cx="5300640" cy="1009800"/>
        </p:xfrm>
        <a:graphic>
          <a:graphicData uri="http://schemas.openxmlformats.org/drawingml/2006/table">
            <a:tbl>
              <a:tblPr/>
              <a:tblGrid>
                <a:gridCol w="947880"/>
                <a:gridCol w="728640"/>
                <a:gridCol w="728640"/>
                <a:gridCol w="718920"/>
                <a:gridCol w="728640"/>
                <a:gridCol w="728640"/>
                <a:gridCol w="719280"/>
              </a:tblGrid>
              <a:tr h="17172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_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ified chroma deblocking filter is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on/off decision is added for chroma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boundary filtering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ductions of  0.4%, 1.5% and 1.2% for AI, RA and LD chroma components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 time is almost the same as that of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131D-3D26-4C9C-BF52-10D65B30F2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Statistics of Filtering D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s of identical filtering decisions for luma and ch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2909-82AA-4C0E-B22D-1A18437844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287360" y="1521000"/>
            <a:ext cx="649944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11-21T11:28:35Z</dcterms:modified>
  <cp:revision>1535</cp:revision>
  <dc:subject/>
  <dc:title>Title: Arial Bold 32pt</dc:title>
</cp:coreProperties>
</file>