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FC8-D6E2-4167-B933-D497D5B99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E0D9-4E38-4A91-AB49-F0C52433B4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ED0D-2E29-4266-820F-60DBF4942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0EC-66FA-4D46-878A-0BB0428FA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6E39-69A0-4C0C-8705-C8B3C7E25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B44B-EA5E-4299-B04B-84B0A6CDC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E7E6-FA16-494C-B7D2-ED0A0C451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8CFA0-2ABC-4B74-A300-11FBF7C3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E513-B170-4FBC-8D1F-05570D5CC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0FD6-13F5-4749-ACF0-5CD6334FC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B67B-23B5-40B0-BE91-B16D1BC09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548E-667A-4089-8EC1-A49BBFE17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A5D1-EF9C-4718-AF3B-4E29225E7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1818-2946-4532-A50D-4BA1F8435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6834-8D1F-44B1-933D-BA6F847E1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BE24-35B6-4E12-964C-31609E931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C3F-ED2E-45BF-B3AB-33A8BCC85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12 Subtest 1: Chroma Deblocking Fil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Qian Huang, Jicheng An, Xun Guo, Shawmin Lei, Andrey Norkin, Kenneth Andersson and Rickard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SimSun"/>
              </a:rPr>
              <a:t>Sjö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and Eric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1-30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8" name="Logo_TM" descr="ERI_FH_rgb"/>
          <p:cNvPicPr/>
          <p:nvPr/>
        </p:nvPicPr>
        <p:blipFill>
          <a:blip r:embed="rId10"/>
          <a:stretch/>
        </p:blipFill>
        <p:spPr>
          <a:xfrm>
            <a:off x="5786280" y="0"/>
            <a:ext cx="984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768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 compared to JCTVC-F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ing 4x4 filtering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difications in chroma deblocking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 filtering on/off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a components make decision indpend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filter inter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oundaries with Bs &gt; 1 could be filt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D-rate reductions of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3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7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.9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AI, RA and LD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roma compon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ectiv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ilar to HM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5EA0-7B61-48CE-A238-7FB7200D15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E5B-C953-44A1-AFF7-FC8814DB9A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ering Decision in HM4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pply on 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C5BF-33CE-4F48-A564-296AA6413A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857160" y="5429160"/>
            <a:ext cx="7155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d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p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- 2*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 + q0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d &lt; beta (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luma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571760" y="1633680"/>
            <a:ext cx="6000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Filtering Decision for Chro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ing on/off decision for each 4x4 boundary with Bs ≥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 2 pixels on each side of the boundary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dition line buffer is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E668-E390-49F6-9257-1944C458DF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357280" y="2928960"/>
            <a:ext cx="4051440" cy="2143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1928880" y="5241960"/>
            <a:ext cx="49291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q1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+ |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q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&lt; beta (QP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  <a:ea typeface="SimSun"/>
              </a:rPr>
              <a:t>chroma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9B2-FD6F-4E83-B3FD-C2D48075FD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hor –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ed test conditions in JCTVC-G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nk Microsoft for crosschecking (JCTVC-G4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04960" y="2235240"/>
          <a:ext cx="5267520" cy="1000080"/>
        </p:xfrm>
        <a:graphic>
          <a:graphicData uri="http://schemas.openxmlformats.org/drawingml/2006/table">
            <a:tbl>
              <a:tblPr/>
              <a:tblGrid>
                <a:gridCol w="927000"/>
                <a:gridCol w="725760"/>
                <a:gridCol w="726840"/>
                <a:gridCol w="717480"/>
                <a:gridCol w="725760"/>
                <a:gridCol w="726840"/>
                <a:gridCol w="717840"/>
              </a:tblGrid>
              <a:tr h="1713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04960" y="3429000"/>
          <a:ext cx="5267520" cy="1009800"/>
        </p:xfrm>
        <a:graphic>
          <a:graphicData uri="http://schemas.openxmlformats.org/drawingml/2006/table">
            <a:tbl>
              <a:tblPr/>
              <a:tblGrid>
                <a:gridCol w="927000"/>
                <a:gridCol w="725760"/>
                <a:gridCol w="726840"/>
                <a:gridCol w="717480"/>
                <a:gridCol w="725760"/>
                <a:gridCol w="726840"/>
                <a:gridCol w="717840"/>
              </a:tblGrid>
              <a:tr h="17136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Access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04960" y="4627440"/>
          <a:ext cx="5267520" cy="1009800"/>
        </p:xfrm>
        <a:graphic>
          <a:graphicData uri="http://schemas.openxmlformats.org/drawingml/2006/table">
            <a:tbl>
              <a:tblPr/>
              <a:tblGrid>
                <a:gridCol w="927000"/>
                <a:gridCol w="725760"/>
                <a:gridCol w="726840"/>
                <a:gridCol w="717480"/>
                <a:gridCol w="725760"/>
                <a:gridCol w="726840"/>
                <a:gridCol w="717840"/>
              </a:tblGrid>
              <a:tr h="17172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Delay_L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1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chroma deblocking filter is pro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ing on/off decision is added for chroma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boundary filtering is a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-rate reductions of  0.3%, 0.7% and 0.9% for AI, RA and LD chroma components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HM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 time is almost the same as that of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7310-4977-4000-8489-28CD115873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1T11:28:00Z</dcterms:modified>
  <cp:revision>1509</cp:revision>
  <dc:subject/>
  <dc:title>Title: Arial Bold 32pt</dc:title>
</cp:coreProperties>
</file>