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F3A8-3DE3-4D03-BB4F-42C476B36F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FC89-105D-4C0E-86AF-96425037E4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34B2-F0CA-4C83-8AE7-3570CD84AF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0C1F-941D-4BCF-8EA4-A9C30ECCE0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48BF-92F9-4B86-AAC2-631934D806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8D0A-3C14-4500-BB12-306DAC3EBF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6E81-188A-47E2-811F-63545CAD7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63BA-AAE5-43AC-9D53-7DF75E4FE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D506-3989-47CD-AAE1-EC60CF68E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A3AA-B01C-44FF-B53C-96F9D3946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CACC-65C8-4AF0-A567-E7EEE6F41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1D77-2BE9-450A-80F0-03FE6DAFE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7868B-C544-485A-9FCD-67924EBED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F305-1A95-45A2-9D97-72E3DFE2C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66DA-9B02-4278-9AE8-223AF6450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7C7F-8EB6-48CB-BE83-2CDB2157B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00E1-1D66-419C-A966-0382F66518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黑体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1640" y="2347920"/>
            <a:ext cx="7224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E11: Methods for Solving the Parsing Issue of MD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in Zhao, Xun Guo, Chih-Wei Hsu, Tzu-Der Chuang, Yu-Wen Huang and Shawmi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21-30 Nov.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 of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D6DF-439F-47FA-8E30-DA3E1E7CA4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357200" y="1785960"/>
          <a:ext cx="6286680" cy="3894120"/>
        </p:xfrm>
        <a:graphic>
          <a:graphicData uri="http://schemas.openxmlformats.org/drawingml/2006/table">
            <a:tbl>
              <a:tblPr/>
              <a:tblGrid>
                <a:gridCol w="1092240"/>
                <a:gridCol w="865440"/>
                <a:gridCol w="865080"/>
                <a:gridCol w="866880"/>
                <a:gridCol w="865080"/>
                <a:gridCol w="865080"/>
                <a:gridCol w="866880"/>
              </a:tblGrid>
              <a:tr h="190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Intra,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Random Access,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3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3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0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2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ow Delay B,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ow Delay P,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9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2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of solving parsing issue of MDCS in CA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modifications residual coding of MD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ca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dditional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BD-rate increase of 0.22% in AI-HE for both of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n time is almost the same as that of HM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E326-D78F-4E2B-A717-784C6244BD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ion to solve the parsing issue of MDCS is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riving the context in index of significance map using horizontal scan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ng the last significant position with horizontal scan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HM4.0 and conditions of JCTVC-F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BD-rate increase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22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I-HE for both of the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verall coding gain of MDCS is about 1.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the same as that of HM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C096-8E0A-4AC0-90EF-819ACE1918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20CD-B010-49A4-87A6-7B3A6C1918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6760" y="99972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CS in HM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on TU sizes of 4x4 and 8x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onal, horizontal and vertical scans are used according to the intra prediction m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ce map and last coefficient position is highly dependant on scan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a prediction modes have to be derived in parsing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parsing issue was focused and fixed by a number of contributions in Torino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the number of M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the number of M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issue of MDCS is the only lef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0D64-AADF-4D6B-B4EB-4C77798154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 of the Proposed Solution - Deco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3DED-529F-4EAF-B432-876AB3114B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622440" y="162864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-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622440" y="393372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1042920" y="2306520"/>
            <a:ext cx="1441440" cy="13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780000" y="2306520"/>
            <a:ext cx="1439640" cy="1332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.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6588000" y="2306520"/>
            <a:ext cx="1440000" cy="13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/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20"/>
          <p:cNvSpPr/>
          <p:nvPr/>
        </p:nvSpPr>
        <p:spPr>
          <a:xfrm>
            <a:off x="2658960" y="2840040"/>
            <a:ext cx="792360" cy="2890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1"/>
          <p:cNvSpPr/>
          <p:nvPr/>
        </p:nvSpPr>
        <p:spPr>
          <a:xfrm>
            <a:off x="2874960" y="20908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ight Arrow 22"/>
          <p:cNvSpPr/>
          <p:nvPr/>
        </p:nvSpPr>
        <p:spPr>
          <a:xfrm rot="19598400">
            <a:off x="2600280" y="2484000"/>
            <a:ext cx="792360" cy="2890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ight Arrow 23"/>
          <p:cNvSpPr/>
          <p:nvPr/>
        </p:nvSpPr>
        <p:spPr>
          <a:xfrm rot="2043000">
            <a:off x="2614320" y="3147840"/>
            <a:ext cx="792000" cy="28764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3132000" y="255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2803680" y="34322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ight Arrow 26"/>
          <p:cNvSpPr/>
          <p:nvPr/>
        </p:nvSpPr>
        <p:spPr>
          <a:xfrm>
            <a:off x="5580000" y="2967120"/>
            <a:ext cx="79236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7"/>
          <p:cNvSpPr/>
          <p:nvPr/>
        </p:nvSpPr>
        <p:spPr>
          <a:xfrm>
            <a:off x="5724360" y="25671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1042920" y="4646520"/>
            <a:ext cx="1441440" cy="13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AC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29"/>
          <p:cNvSpPr/>
          <p:nvPr/>
        </p:nvSpPr>
        <p:spPr>
          <a:xfrm>
            <a:off x="2771640" y="5259240"/>
            <a:ext cx="792360" cy="28764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0"/>
          <p:cNvSpPr/>
          <p:nvPr/>
        </p:nvSpPr>
        <p:spPr>
          <a:xfrm>
            <a:off x="2916360" y="4859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1"/>
          <p:cNvSpPr/>
          <p:nvPr/>
        </p:nvSpPr>
        <p:spPr>
          <a:xfrm>
            <a:off x="3780000" y="4646520"/>
            <a:ext cx="1439640" cy="1332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.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6588000" y="4646520"/>
            <a:ext cx="1440000" cy="13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/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33"/>
          <p:cNvSpPr/>
          <p:nvPr/>
        </p:nvSpPr>
        <p:spPr>
          <a:xfrm>
            <a:off x="5435640" y="5259240"/>
            <a:ext cx="792000" cy="28764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4"/>
          <p:cNvSpPr/>
          <p:nvPr/>
        </p:nvSpPr>
        <p:spPr>
          <a:xfrm>
            <a:off x="5651640" y="4508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ight Arrow 35"/>
          <p:cNvSpPr/>
          <p:nvPr/>
        </p:nvSpPr>
        <p:spPr>
          <a:xfrm rot="19598400">
            <a:off x="5378400" y="4903920"/>
            <a:ext cx="79236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ight Arrow 36"/>
          <p:cNvSpPr/>
          <p:nvPr/>
        </p:nvSpPr>
        <p:spPr>
          <a:xfrm rot="2043000">
            <a:off x="5392440" y="5565240"/>
            <a:ext cx="79200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5908680" y="4968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8"/>
          <p:cNvSpPr/>
          <p:nvPr/>
        </p:nvSpPr>
        <p:spPr>
          <a:xfrm>
            <a:off x="5580000" y="5778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0"/>
          <p:cNvSpPr/>
          <p:nvPr/>
        </p:nvSpPr>
        <p:spPr>
          <a:xfrm>
            <a:off x="4500720" y="1042920"/>
            <a:ext cx="0" cy="58150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1"/>
          <p:cNvSpPr/>
          <p:nvPr/>
        </p:nvSpPr>
        <p:spPr>
          <a:xfrm>
            <a:off x="1625760" y="1166760"/>
            <a:ext cx="229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sing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2"/>
          <p:cNvSpPr/>
          <p:nvPr/>
        </p:nvSpPr>
        <p:spPr>
          <a:xfrm>
            <a:off x="4730760" y="1125360"/>
            <a:ext cx="30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onstruction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3"/>
          <p:cNvSpPr/>
          <p:nvPr/>
        </p:nvSpPr>
        <p:spPr>
          <a:xfrm>
            <a:off x="2489040" y="1628640"/>
            <a:ext cx="12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D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4"/>
          <p:cNvSpPr/>
          <p:nvPr/>
        </p:nvSpPr>
        <p:spPr>
          <a:xfrm>
            <a:off x="5194440" y="39337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D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>
            <a:off x="1349280" y="6051600"/>
            <a:ext cx="2619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ways parsing with horizontal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 of the Proposed Solution - Enco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E4B7-6420-4AA3-B2D6-930090850F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42920" y="2184480"/>
            <a:ext cx="1441440" cy="13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5"/>
          <p:cNvSpPr/>
          <p:nvPr/>
        </p:nvSpPr>
        <p:spPr>
          <a:xfrm>
            <a:off x="2771640" y="2797200"/>
            <a:ext cx="79236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916360" y="23972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780000" y="2184480"/>
            <a:ext cx="1439640" cy="133200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.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588000" y="2184480"/>
            <a:ext cx="1440000" cy="13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9"/>
          <p:cNvSpPr/>
          <p:nvPr/>
        </p:nvSpPr>
        <p:spPr>
          <a:xfrm>
            <a:off x="5435640" y="2797200"/>
            <a:ext cx="792000" cy="2872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5651640" y="20462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ight Arrow 11"/>
          <p:cNvSpPr/>
          <p:nvPr/>
        </p:nvSpPr>
        <p:spPr>
          <a:xfrm rot="19598400">
            <a:off x="5378400" y="2441520"/>
            <a:ext cx="79236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12"/>
          <p:cNvSpPr/>
          <p:nvPr/>
        </p:nvSpPr>
        <p:spPr>
          <a:xfrm rot="2043000">
            <a:off x="5392440" y="3103200"/>
            <a:ext cx="79200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5908680" y="25066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5580000" y="33163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622440" y="162864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-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622440" y="393372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1042920" y="4638600"/>
            <a:ext cx="1441440" cy="13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/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3780000" y="4638600"/>
            <a:ext cx="1439640" cy="1333440"/>
          </a:xfrm>
          <a:prstGeom prst="rect">
            <a:avLst/>
          </a:prstGeom>
          <a:solidFill>
            <a:srgbClr val="cc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.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6588000" y="4638600"/>
            <a:ext cx="1440000" cy="1333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20"/>
          <p:cNvSpPr/>
          <p:nvPr/>
        </p:nvSpPr>
        <p:spPr>
          <a:xfrm>
            <a:off x="2658960" y="5173560"/>
            <a:ext cx="792360" cy="287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1"/>
          <p:cNvSpPr/>
          <p:nvPr/>
        </p:nvSpPr>
        <p:spPr>
          <a:xfrm>
            <a:off x="2874960" y="4422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22"/>
          <p:cNvSpPr/>
          <p:nvPr/>
        </p:nvSpPr>
        <p:spPr>
          <a:xfrm rot="19598400">
            <a:off x="2600280" y="4816080"/>
            <a:ext cx="792360" cy="2890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Arrow 23"/>
          <p:cNvSpPr/>
          <p:nvPr/>
        </p:nvSpPr>
        <p:spPr>
          <a:xfrm rot="2043000">
            <a:off x="2614320" y="5479560"/>
            <a:ext cx="79200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4"/>
          <p:cNvSpPr/>
          <p:nvPr/>
        </p:nvSpPr>
        <p:spPr>
          <a:xfrm>
            <a:off x="3132000" y="48830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5"/>
          <p:cNvSpPr/>
          <p:nvPr/>
        </p:nvSpPr>
        <p:spPr>
          <a:xfrm>
            <a:off x="2803680" y="56926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ight Arrow 26"/>
          <p:cNvSpPr/>
          <p:nvPr/>
        </p:nvSpPr>
        <p:spPr>
          <a:xfrm>
            <a:off x="5580000" y="5299200"/>
            <a:ext cx="792360" cy="28872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7"/>
          <p:cNvSpPr/>
          <p:nvPr/>
        </p:nvSpPr>
        <p:spPr>
          <a:xfrm>
            <a:off x="5724360" y="48988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8"/>
          <p:cNvSpPr/>
          <p:nvPr/>
        </p:nvSpPr>
        <p:spPr>
          <a:xfrm>
            <a:off x="2489040" y="3933720"/>
            <a:ext cx="12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D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9"/>
          <p:cNvSpPr/>
          <p:nvPr/>
        </p:nvSpPr>
        <p:spPr>
          <a:xfrm>
            <a:off x="5194440" y="158580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D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5194440" y="6002280"/>
            <a:ext cx="261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ways coding with horizontal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1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ificance m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index is derived according to the position (X, Y) along with sca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within a 4x4 or 8x8 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t significant coefficient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ordinate (x, y)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rizon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der is trans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formation keep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頁尾版面配置區 3"/>
          <p:cNvSpPr/>
          <p:nvPr/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0B5-0701-41EA-959F-7B7D9E9E71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510720" y="2233440"/>
            <a:ext cx="169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canPo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504240" y="2590920"/>
            <a:ext cx="21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scanP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512880" y="292896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ere N = 4 or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canning patterns are re-mapped into horizontal pattern, then only horizontal scan is used in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agonal, vertical, horizontal) =&gt; 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=&gt; (diagonal, vertical, horizon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B68-01D0-49EB-B38E-96D02F1261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– HM4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d two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xperiments: “A” and “B” for AI-HE, RA-HE and LB-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Intel for crosschecking (JCTVC-G5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E63D-182A-425B-8399-4C22C20389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11-26T15:47:53Z</dcterms:modified>
  <cp:revision>1634</cp:revision>
  <dc:subject/>
  <dc:title>Title: Arial Bold 32pt</dc:title>
</cp:coreProperties>
</file>