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1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13.wmf" ContentType="image/x-wmf"/>
  <Override PartName="/ppt/media/image5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9.png" ContentType="image/png"/>
  <Override PartName="/ppt/media/image1.png" ContentType="image/png"/>
  <Override PartName="/ppt/media/image18.jpeg" ContentType="image/jpeg"/>
  <Override PartName="/ppt/media/image16.jpeg" ContentType="image/jpeg"/>
  <Override PartName="/ppt/media/image15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  <p:sldId id="268" r:id="rId22"/>
    <p:sldId id="269" r:id="rId23"/>
    <p:sldId id="270" r:id="rId24"/>
    <p:sldId id="271" r:id="rId25"/>
    <p:sldId id="272" r:id="rId26"/>
    <p:sldId id="273" r:id="rId27"/>
    <p:sldId id="274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slide" Target="slides/slide13.xml"/><Relationship Id="rId23" Type="http://schemas.openxmlformats.org/officeDocument/2006/relationships/slide" Target="slides/slide14.xml"/><Relationship Id="rId24" Type="http://schemas.openxmlformats.org/officeDocument/2006/relationships/slide" Target="slides/slide15.xml"/><Relationship Id="rId25" Type="http://schemas.openxmlformats.org/officeDocument/2006/relationships/slide" Target="slides/slide16.xml"/><Relationship Id="rId26" Type="http://schemas.openxmlformats.org/officeDocument/2006/relationships/slide" Target="slides/slide17.xml"/><Relationship Id="rId27" Type="http://schemas.openxmlformats.org/officeDocument/2006/relationships/slide" Target="slides/slide18.xml"/><Relationship Id="rId28" Type="http://schemas.openxmlformats.org/officeDocument/2006/relationships/slide" Target="slides/slide19.xml"/><Relationship Id="rId2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 type="dt" idx="12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 type="ftr" idx="13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 type="sldNum" idx="14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1CA39-B9C5-4ACF-9A39-26FF90CD8E4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E3F18-1F4C-49AE-8FB5-CE8BA3D6EAFD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E1788-CED4-4DEA-97C5-0710719FE92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04D69D-AE07-4877-98B2-5419A0F31B7C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6B35-B156-4C8D-A121-31E152FF9F0A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1708EE-3FDF-4854-96C6-AF31EB5461F5}" type="slidenum">
              <a:rPr b="0" lang="en-US" sz="1200" spc="-1" strike="noStrike">
                <a:solidFill>
                  <a:srgbClr val="000000"/>
                </a:solidFill>
                <a:latin typeface="Arial"/>
                <a:ea typeface="黑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91BA4-B55A-4666-A4F3-3EA0CBAF4F1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B18482-CFB2-45CE-A649-F9A15291E3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EAF6FB-5197-41CA-A9D3-21800B1F778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973D6-332D-424E-BADB-71BB2DDA88E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03F766-6423-464B-9404-24C1581CE42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B826-FE16-47FB-9AE3-1F0E9CF0F2E5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9EA24-9570-461E-9292-57526A5D3B0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C8D2-31F9-485F-965C-3A0CA4068F99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06D94-9AD5-463F-A72D-8EAA51504E63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23E47-9F42-4173-B3C5-AB405DE42BC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EA859-C19D-4E01-9677-422FC1F42CF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93D13-B727-4AF8-9617-C5CD85824E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1FA42-73CF-4337-A493-B157A1E05D1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CA75-8572-4B48-AF31-B58AF8418163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78BB2-125F-4A1F-9BD6-1DDA1B08C61D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B126B-0C51-463E-BD83-C04AFA8A318F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130F-D029-4E1D-93A1-5BE846AF2493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AAEE-8011-41CD-B7C9-185D9761EA9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C53B252-E0BC-4370-95C4-D5E67C691CF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EA2C48F-6479-4133-9854-EBEC0919EB78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D3F35D5-A68A-4757-8EAF-597ED02D7EF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29EBFF-EC76-41F5-9D1C-6AE327B10C99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0A92ACA-4CCE-4671-AD4D-B3FB7D1D17A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02F1DDB-B34C-4300-BD8F-1177909BFD83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FBF88F7-015E-4410-8F38-38C13C36E8D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8AB6CC-2844-4EE6-9822-7BBCE4E0B51D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3F6BB96-8385-4570-812B-8BA2ED30C7DD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2009C7-07E9-43AE-A0EA-F4EF24CFE8E1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BCC49B-54F4-4EB3-86BC-7386DAB9C02B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20C2240-1740-42A1-B497-7C21A643C447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2A0F0CE-9503-4D6F-86B5-6FA43C279F45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70AA0E6-0A76-4363-A822-A973901A6FB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45290D-00B3-4384-A4A9-8BA625B666C8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87463D3-671D-4403-96C3-17FC64B26308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64D6A8-3404-4524-BFC9-683ABCDF74C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B53CE02-0DCB-43A0-8D8A-FB5ABFC00A4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F961EDA-881B-46EE-9C13-89459FFEAC3C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ECF6E19-3B18-4A07-9117-F4F78ACE0D0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219C22-9507-421B-895F-7B7C5863525C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DC4FDEB-712F-42CE-A759-347D33E8286F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2C0B74B-CD40-4F16-B281-5B74944EDD9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33EA15A-C132-4CD9-9B6C-5D9ED283056A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6E85C9-5A9C-478E-9814-222F339B43E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CC1F5F-F3D2-4138-A967-3826E3E40532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011F3BB-5AC5-45A8-9AD9-D7452ABFD059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9C6D57-3198-449F-BE12-3F1EFEDA6767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D1922B-7864-442F-AB4A-5DC0D8EC086E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1EFB0B-945A-4CD8-9593-A4E7D15461A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1A0636-3B45-49D6-B801-C658C2A6E615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547AFF-8BA1-4A58-BB7D-5CDB77798A37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67AA49-E311-47E6-9D2B-47BD9596C70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5F7C4C-90A6-4DAC-99E1-4751C959DADA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5E991C-9F5D-4A41-ACDB-A1E6E656BCAB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E19C29-76A0-4700-AAE1-71809C4C78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07A93D-4E94-4831-BB9E-5A3C36A77796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AA1BF78-C78B-4E00-8A84-DF933F4B87E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B69BA-E15D-4AC2-A647-5212D423B37D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6F5EE-D9A8-4227-BAD1-6CC2BE6DF485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9D5338-6BFA-440E-ADE1-7900FB8252B7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subTitle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1CF0DD7-1D6D-45DF-A9FD-3A2B884096B1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24DA64F-3944-419B-9AC5-8D0E1ED76C0F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28F530E-CB4A-484E-B56C-FF885A32A09D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9C9E253-C21D-4FC6-BB60-55EC83E453CF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ubTitle"/>
          </p:nvPr>
        </p:nvSpPr>
        <p:spPr>
          <a:xfrm>
            <a:off x="622440" y="384120"/>
            <a:ext cx="8059680" cy="305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140FF0E-BDE2-4AC1-B841-EF8BEED0278F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9C53759-2DB8-4EE6-AD66-401AD5CD8F2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FCC618-F9F8-4A45-A46D-5D62FB54790A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66F0F7-109A-407C-B850-AC3D56E0DC6A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E5955EC-F820-4129-BB0B-CB2974C3C3BE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45708EA-7BAF-4675-87C2-73B7C1593E63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4754160" y="371160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DB6DD-D2BE-4829-8896-4A0666B51DAB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35016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6073920" y="112356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6267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6"/>
          <p:cNvSpPr>
            <a:spLocks noGrp="1"/>
          </p:cNvSpPr>
          <p:nvPr>
            <p:ph/>
          </p:nvPr>
        </p:nvSpPr>
        <p:spPr>
          <a:xfrm>
            <a:off x="335016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7"/>
          <p:cNvSpPr>
            <a:spLocks noGrp="1"/>
          </p:cNvSpPr>
          <p:nvPr>
            <p:ph/>
          </p:nvPr>
        </p:nvSpPr>
        <p:spPr>
          <a:xfrm>
            <a:off x="6073920" y="3711600"/>
            <a:ext cx="259344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CFB45B9-D1E1-46DC-AA58-43292A02EC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67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54160" y="1123560"/>
            <a:ext cx="393048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6760" y="3711600"/>
            <a:ext cx="8055000" cy="236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D87C08-B8C7-4EB4-B32D-BEB963A403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3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13.xml"/><Relationship Id="rId10" Type="http://schemas.openxmlformats.org/officeDocument/2006/relationships/slideLayout" Target="../slideLayouts/slideLayout14.xml"/><Relationship Id="rId11" Type="http://schemas.openxmlformats.org/officeDocument/2006/relationships/slideLayout" Target="../slideLayouts/slideLayout15.xml"/><Relationship Id="rId12" Type="http://schemas.openxmlformats.org/officeDocument/2006/relationships/slideLayout" Target="../slideLayouts/slideLayout16.xml"/><Relationship Id="rId13" Type="http://schemas.openxmlformats.org/officeDocument/2006/relationships/slideLayout" Target="../slideLayouts/slideLayout17.xml"/><Relationship Id="rId14" Type="http://schemas.openxmlformats.org/officeDocument/2006/relationships/slideLayout" Target="../slideLayouts/slideLayout18.xml"/><Relationship Id="rId15" Type="http://schemas.openxmlformats.org/officeDocument/2006/relationships/slideLayout" Target="../slideLayouts/slideLayout19.xml"/><Relationship Id="rId16" Type="http://schemas.openxmlformats.org/officeDocument/2006/relationships/slideLayout" Target="../slideLayouts/slideLayout20.xml"/><Relationship Id="rId17" Type="http://schemas.openxmlformats.org/officeDocument/2006/relationships/slideLayout" Target="../slideLayouts/slideLayout21.xml"/><Relationship Id="rId18" Type="http://schemas.openxmlformats.org/officeDocument/2006/relationships/slideLayout" Target="../slideLayouts/slideLayout22.xml"/><Relationship Id="rId19" Type="http://schemas.openxmlformats.org/officeDocument/2006/relationships/slideLayout" Target="../slideLayouts/slideLayout23.xml"/><Relationship Id="rId20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sldNum" idx="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A1E9E5-57A6-4564-8575-FA825DAEF902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1" descr="cover_back"/>
          <p:cNvPicPr/>
          <p:nvPr/>
        </p:nvPicPr>
        <p:blipFill>
          <a:blip r:embed="rId2"/>
          <a:stretch/>
        </p:blipFill>
        <p:spPr>
          <a:xfrm>
            <a:off x="0" y="1974960"/>
            <a:ext cx="9163080" cy="335268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26" descr="bar_white_bot"/>
          <p:cNvPicPr/>
          <p:nvPr/>
        </p:nvPicPr>
        <p:blipFill>
          <a:blip r:embed="rId3"/>
          <a:srcRect l="0" t="0" r="0" b="1708"/>
          <a:stretch/>
        </p:blipFill>
        <p:spPr>
          <a:xfrm>
            <a:off x="0" y="5303880"/>
            <a:ext cx="9144000" cy="1554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8" descr="bar_white_2"/>
          <p:cNvPicPr/>
          <p:nvPr/>
        </p:nvPicPr>
        <p:blipFill>
          <a:blip r:embed="rId4"/>
          <a:stretch/>
        </p:blipFill>
        <p:spPr>
          <a:xfrm>
            <a:off x="0" y="0"/>
            <a:ext cx="9144000" cy="200988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4" descr="bar_white_2"/>
          <p:cNvPicPr/>
          <p:nvPr/>
        </p:nvPicPr>
        <p:blipFill>
          <a:blip r:embed="rId5"/>
          <a:srcRect l="47468" t="0" r="4235" b="0"/>
          <a:stretch/>
        </p:blipFill>
        <p:spPr>
          <a:xfrm>
            <a:off x="4178160" y="0"/>
            <a:ext cx="4416480" cy="200988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9" descr="logo"/>
          <p:cNvPicPr/>
          <p:nvPr/>
        </p:nvPicPr>
        <p:blipFill>
          <a:blip r:embed="rId6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35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37" descr="bar_white_bot"/>
          <p:cNvPicPr/>
          <p:nvPr/>
        </p:nvPicPr>
        <p:blipFill>
          <a:blip r:embed="rId7"/>
          <a:srcRect l="36562" t="0" r="27741" b="1708"/>
          <a:stretch/>
        </p:blipFill>
        <p:spPr>
          <a:xfrm>
            <a:off x="3151080" y="5303880"/>
            <a:ext cx="3264120" cy="15541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38" descr="bar_white_bot"/>
          <p:cNvPicPr/>
          <p:nvPr/>
        </p:nvPicPr>
        <p:blipFill>
          <a:blip r:embed="rId8"/>
          <a:srcRect l="0" t="95606" r="0" b="0"/>
          <a:stretch/>
        </p:blipFill>
        <p:spPr>
          <a:xfrm>
            <a:off x="0" y="677052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9"/>
    <p:sldLayoutId id="2147483663" r:id="rId10"/>
    <p:sldLayoutId id="2147483664" r:id="rId11"/>
    <p:sldLayoutId id="2147483665" r:id="rId12"/>
    <p:sldLayoutId id="2147483666" r:id="rId13"/>
    <p:sldLayoutId id="2147483667" r:id="rId14"/>
    <p:sldLayoutId id="2147483668" r:id="rId15"/>
    <p:sldLayoutId id="2147483669" r:id="rId16"/>
    <p:sldLayoutId id="2147483670" r:id="rId17"/>
    <p:sldLayoutId id="2147483671" r:id="rId18"/>
    <p:sldLayoutId id="2147483672" r:id="rId19"/>
    <p:sldLayoutId id="2147483673" r:id="rId20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ftr" idx="2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MediaTek Inc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sldNum" idx="3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95681-9119-40BB-92DA-43C927D775B9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30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ftr" idx="4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MediaTek Inc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sldNum" idx="5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FA94F-5B1A-4089-A7B4-6C5A1EDDD7CC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ftr" idx="6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MediaTek Inc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sldNum" idx="7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1D5704-4478-4CDD-AB3A-7FE64CE4F1C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14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8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MediaTek Inc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4"/>
          <p:cNvSpPr>
            <a:spLocks noGrp="1"/>
          </p:cNvSpPr>
          <p:nvPr>
            <p:ph type="sldNum" idx="9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4BFB2-F28A-41B6-90CD-0E9806D2854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5" name="Picture 29" descr="bar_logoc"/>
          <p:cNvPicPr/>
          <p:nvPr/>
        </p:nvPicPr>
        <p:blipFill>
          <a:blip r:embed="rId2"/>
          <a:srcRect l="6937" t="0" r="0" b="0"/>
          <a:stretch/>
        </p:blipFill>
        <p:spPr>
          <a:xfrm>
            <a:off x="-20520" y="6237360"/>
            <a:ext cx="8913600" cy="239760"/>
          </a:xfrm>
          <a:prstGeom prst="rect">
            <a:avLst/>
          </a:prstGeom>
          <a:ln w="0">
            <a:noFill/>
          </a:ln>
        </p:spPr>
      </p:pic>
      <p:sp>
        <p:nvSpPr>
          <p:cNvPr id="256" name="Rectangle 21"/>
          <p:cNvSpPr/>
          <p:nvPr/>
        </p:nvSpPr>
        <p:spPr>
          <a:xfrm>
            <a:off x="7567560" y="165240"/>
            <a:ext cx="140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e86c1f"/>
                </a:solidFill>
                <a:latin typeface="Arial"/>
                <a:ea typeface="黑体"/>
              </a:rPr>
              <a:t>JCTVC-G28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1500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15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 type="ftr" idx="10"/>
          </p:nvPr>
        </p:nvSpPr>
        <p:spPr>
          <a:xfrm>
            <a:off x="608040" y="6232680"/>
            <a:ext cx="288144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pyright © MediaTek Inc. All rights reserv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 type="sldNum" idx="11"/>
          </p:nvPr>
        </p:nvSpPr>
        <p:spPr>
          <a:xfrm>
            <a:off x="433836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E0C47-CF6E-4BD7-B66C-4E3605CAF26A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png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13.xml"/><Relationship Id="rId11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19.png"/><Relationship Id="rId4" Type="http://schemas.openxmlformats.org/officeDocument/2006/relationships/image" Target="../media/image5.png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<Relationship Id="rId1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17" descr="gray_bot"/>
          <p:cNvPicPr/>
          <p:nvPr/>
        </p:nvPicPr>
        <p:blipFill>
          <a:blip r:embed="rId2"/>
          <a:stretch/>
        </p:blipFill>
        <p:spPr>
          <a:xfrm>
            <a:off x="0" y="5303880"/>
            <a:ext cx="9163080" cy="1581120"/>
          </a:xfrm>
          <a:prstGeom prst="rect">
            <a:avLst/>
          </a:prstGeom>
          <a:ln w="0">
            <a:noFill/>
          </a:ln>
        </p:spPr>
      </p:pic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061640" y="2347920"/>
            <a:ext cx="7224840" cy="144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E11: Extended Mode-Dependent Coefficient Scanning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 type="subTitle"/>
          </p:nvPr>
        </p:nvSpPr>
        <p:spPr>
          <a:xfrm>
            <a:off x="309600" y="3933720"/>
            <a:ext cx="866304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Xin Zhao, Xun Guo, Mei Guo, Shawmin Lei, Siwei Ma and Wen Ga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ediaTek Inc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8" name="Picture 7" descr="logo"/>
          <p:cNvPicPr/>
          <p:nvPr/>
        </p:nvPicPr>
        <p:blipFill>
          <a:blip r:embed="rId3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309" name="Picture 11" descr="bar_white_bot"/>
          <p:cNvPicPr/>
          <p:nvPr/>
        </p:nvPicPr>
        <p:blipFill>
          <a:blip r:embed="rId4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310" name="Text Box 13"/>
          <p:cNvSpPr/>
          <p:nvPr/>
        </p:nvSpPr>
        <p:spPr>
          <a:xfrm>
            <a:off x="5724360" y="5621400"/>
            <a:ext cx="3110040" cy="82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Presented by Xun Gu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7</a:t>
            </a:r>
            <a:r>
              <a:rPr b="0" lang="en-US" sz="1400" spc="-1" strike="noStrike" baseline="30000">
                <a:solidFill>
                  <a:srgbClr val="000000"/>
                </a:solidFill>
                <a:latin typeface="Arial"/>
                <a:ea typeface="黑体"/>
              </a:rPr>
              <a:t>th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 JCT-VC Meeting in Genev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  <a:ea typeface="黑体"/>
              </a:rPr>
              <a:t>21-30 Nov., 201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1" name="Picture 23" descr="icon_1"/>
          <p:cNvPicPr/>
          <p:nvPr/>
        </p:nvPicPr>
        <p:blipFill>
          <a:blip r:embed="rId5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312" name="Picture 24" descr="icon_5"/>
          <p:cNvPicPr/>
          <p:nvPr/>
        </p:nvPicPr>
        <p:blipFill>
          <a:blip r:embed="rId6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313" name="Picture 25" descr="icon_2"/>
          <p:cNvPicPr/>
          <p:nvPr/>
        </p:nvPicPr>
        <p:blipFill>
          <a:blip r:embed="rId7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314" name="Picture 26" descr="icon_3"/>
          <p:cNvPicPr/>
          <p:nvPr/>
        </p:nvPicPr>
        <p:blipFill>
          <a:blip r:embed="rId8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315" name="Picture 27" descr="icon_4"/>
          <p:cNvPicPr/>
          <p:nvPr/>
        </p:nvPicPr>
        <p:blipFill>
          <a:blip r:embed="rId9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canning Order for 32x32 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scanning order is the transposition of 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303877-7262-439E-ADD9-2D20EF04E24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2" name="Picture 9" descr="Scan32X32"/>
          <p:cNvPicPr/>
          <p:nvPr/>
        </p:nvPicPr>
        <p:blipFill>
          <a:blip r:embed="rId1"/>
          <a:stretch/>
        </p:blipFill>
        <p:spPr>
          <a:xfrm>
            <a:off x="1130400" y="1868400"/>
            <a:ext cx="6870600" cy="436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version of M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no additional memory to store the scanning patter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ABAC: support partial parallel context form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r CAVLC: support optimization such as SIMD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ed Scanning Order M1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3AE11-83F9-45B0-BC30-AD49A3475F1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Rectangle 1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Rectangle 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Rectangle 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Rectangle 8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3" name="Picture 183" descr="M1_N_9"/>
          <p:cNvPicPr/>
          <p:nvPr/>
        </p:nvPicPr>
        <p:blipFill>
          <a:blip r:embed="rId1"/>
          <a:stretch/>
        </p:blipFill>
        <p:spPr>
          <a:xfrm>
            <a:off x="3016080" y="2643120"/>
            <a:ext cx="3198960" cy="351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canning Orders for 16x16 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scanning order is the transposition of 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7EA09-8FB5-4FA0-ADFA-8BAA4017B51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8" name="Picture 2" descr="Scan16x16_M1"/>
          <p:cNvPicPr/>
          <p:nvPr/>
        </p:nvPicPr>
        <p:blipFill>
          <a:blip r:embed="rId1"/>
          <a:stretch/>
        </p:blipFill>
        <p:spPr>
          <a:xfrm>
            <a:off x="2143080" y="2071800"/>
            <a:ext cx="5000760" cy="34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canning Order for 32x32 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scanning order is the transposition of 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E1D4-2440-4E12-ADB6-CE9790689F5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3" name="Picture 3" descr="Scan32X32_M1"/>
          <p:cNvPicPr/>
          <p:nvPr/>
        </p:nvPicPr>
        <p:blipFill>
          <a:blip r:embed="rId1"/>
          <a:stretch/>
        </p:blipFill>
        <p:spPr>
          <a:xfrm>
            <a:off x="928800" y="1857240"/>
            <a:ext cx="7215120" cy="436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618E83-2012-4F42-BD6B-3C97F4D6B7D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chor – HM4.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est two modified scan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: modified scan order M0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: modified scan order M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 experiments: “A” and “B” for HE-AI and LC-A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ank Sony for crosschecking (JCTVC-G364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11C4F-7F4D-40D7-87D9-03741D26E3B4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 of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84711F-39F8-4A16-8120-C0A193E2099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3" name=""/>
          <p:cNvGraphicFramePr/>
          <p:nvPr/>
        </p:nvGraphicFramePr>
        <p:xfrm>
          <a:off x="627120" y="2071800"/>
          <a:ext cx="8055000" cy="2643120"/>
        </p:xfrm>
        <a:graphic>
          <a:graphicData uri="http://schemas.openxmlformats.org/drawingml/2006/table">
            <a:tbl>
              <a:tblPr/>
              <a:tblGrid>
                <a:gridCol w="1398600"/>
                <a:gridCol w="1109520"/>
                <a:gridCol w="1109880"/>
                <a:gridCol w="1109520"/>
                <a:gridCol w="1108080"/>
                <a:gridCol w="1109520"/>
                <a:gridCol w="1109880"/>
              </a:tblGrid>
              <a:tr h="264960">
                <a:tc rowSpan="2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C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2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2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perimental results of 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68A58-71E0-42FB-B5E3-36649E208A5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7" name=""/>
          <p:cNvGraphicFramePr/>
          <p:nvPr/>
        </p:nvGraphicFramePr>
        <p:xfrm>
          <a:off x="627120" y="2071800"/>
          <a:ext cx="8055000" cy="2643120"/>
        </p:xfrm>
        <a:graphic>
          <a:graphicData uri="http://schemas.openxmlformats.org/drawingml/2006/table">
            <a:tbl>
              <a:tblPr/>
              <a:tblGrid>
                <a:gridCol w="1398600"/>
                <a:gridCol w="1109520"/>
                <a:gridCol w="1109880"/>
                <a:gridCol w="1109520"/>
                <a:gridCol w="1108080"/>
                <a:gridCol w="1109520"/>
                <a:gridCol w="1109880"/>
              </a:tblGrid>
              <a:tr h="264960">
                <a:tc rowSpan="2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HE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LC-A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V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0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3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2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496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Class 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4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9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6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All Av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1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0.5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-1.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</a:tr>
              <a:tr h="2653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En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100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3520">
                <a:tc>
                  <a:txBody>
                    <a:bodyPr lIns="110520" rIns="11052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Dec Time (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110520" marR="11052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Calibri"/>
                          <a:ea typeface="SimSun"/>
                        </a:rPr>
                        <a:t>97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bd4b4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 extended MDCS method is propos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ified MDCS is applied for 16x16 and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wo modified horizontal/vertical scan orders are propo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0, average BD-rate reductions of 0.2% and 0.6% for HE-AI and LC-AI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M1, average BD-rate reductions of 0.1% and 0.5% for HE-AI and LC-AI respective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un time is almost the same as that of HM4.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FAA998-D0D0-49BF-BE94-0171E28665C7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1" name="Picture 2" descr="cover_back_8"/>
          <p:cNvPicPr/>
          <p:nvPr/>
        </p:nvPicPr>
        <p:blipFill>
          <a:blip r:embed="rId1"/>
          <a:stretch/>
        </p:blipFill>
        <p:spPr>
          <a:xfrm>
            <a:off x="-9360" y="1978200"/>
            <a:ext cx="9153360" cy="3352680"/>
          </a:xfrm>
          <a:prstGeom prst="rect">
            <a:avLst/>
          </a:prstGeom>
          <a:ln w="0">
            <a:noFill/>
          </a:ln>
        </p:spPr>
      </p:pic>
      <p:pic>
        <p:nvPicPr>
          <p:cNvPr id="562" name="Picture 21" descr="gray_bot"/>
          <p:cNvPicPr/>
          <p:nvPr/>
        </p:nvPicPr>
        <p:blipFill>
          <a:blip r:embed="rId2"/>
          <a:stretch/>
        </p:blipFill>
        <p:spPr>
          <a:xfrm>
            <a:off x="-19080" y="5330880"/>
            <a:ext cx="9163080" cy="1581120"/>
          </a:xfrm>
          <a:prstGeom prst="rect">
            <a:avLst/>
          </a:prstGeom>
          <a:ln w="0">
            <a:noFill/>
          </a:ln>
        </p:spPr>
      </p:pic>
      <p:pic>
        <p:nvPicPr>
          <p:cNvPr id="563" name="Picture 4" descr="gray_top"/>
          <p:cNvPicPr/>
          <p:nvPr/>
        </p:nvPicPr>
        <p:blipFill>
          <a:blip r:embed="rId3"/>
          <a:stretch/>
        </p:blipFill>
        <p:spPr>
          <a:xfrm>
            <a:off x="-9360" y="0"/>
            <a:ext cx="9162720" cy="2009880"/>
          </a:xfrm>
          <a:prstGeom prst="rect">
            <a:avLst/>
          </a:prstGeom>
          <a:ln w="0">
            <a:noFill/>
          </a:ln>
        </p:spPr>
      </p:pic>
      <p:pic>
        <p:nvPicPr>
          <p:cNvPr id="564" name="Picture 6" descr="logo"/>
          <p:cNvPicPr/>
          <p:nvPr/>
        </p:nvPicPr>
        <p:blipFill>
          <a:blip r:embed="rId4"/>
          <a:stretch/>
        </p:blipFill>
        <p:spPr>
          <a:xfrm>
            <a:off x="1460520" y="817560"/>
            <a:ext cx="3782880" cy="404640"/>
          </a:xfrm>
          <a:prstGeom prst="rect">
            <a:avLst/>
          </a:prstGeom>
          <a:ln w="0">
            <a:noFill/>
          </a:ln>
        </p:spPr>
      </p:pic>
      <p:pic>
        <p:nvPicPr>
          <p:cNvPr id="565" name="Picture 9" descr="bar_white_bot"/>
          <p:cNvPicPr/>
          <p:nvPr/>
        </p:nvPicPr>
        <p:blipFill>
          <a:blip r:embed="rId5"/>
          <a:srcRect l="0" t="95606" r="0" b="0"/>
          <a:stretch/>
        </p:blipFill>
        <p:spPr>
          <a:xfrm>
            <a:off x="0" y="6781680"/>
            <a:ext cx="9144000" cy="69840"/>
          </a:xfrm>
          <a:prstGeom prst="rect">
            <a:avLst/>
          </a:prstGeom>
          <a:ln w="0">
            <a:noFill/>
          </a:ln>
        </p:spPr>
      </p:pic>
      <p:sp>
        <p:nvSpPr>
          <p:cNvPr id="566" name="Text Box 15"/>
          <p:cNvSpPr/>
          <p:nvPr/>
        </p:nvSpPr>
        <p:spPr>
          <a:xfrm>
            <a:off x="3226320" y="3282840"/>
            <a:ext cx="271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Thank you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Picture 22" descr="icon_1"/>
          <p:cNvPicPr/>
          <p:nvPr/>
        </p:nvPicPr>
        <p:blipFill>
          <a:blip r:embed="rId6"/>
          <a:stretch/>
        </p:blipFill>
        <p:spPr>
          <a:xfrm>
            <a:off x="86364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68" name="Picture 23" descr="icon_5"/>
          <p:cNvPicPr/>
          <p:nvPr/>
        </p:nvPicPr>
        <p:blipFill>
          <a:blip r:embed="rId7"/>
          <a:stretch/>
        </p:blipFill>
        <p:spPr>
          <a:xfrm>
            <a:off x="2533680" y="4572000"/>
            <a:ext cx="590400" cy="59040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24" descr="icon_2"/>
          <p:cNvPicPr/>
          <p:nvPr/>
        </p:nvPicPr>
        <p:blipFill>
          <a:blip r:embed="rId8"/>
          <a:stretch/>
        </p:blipFill>
        <p:spPr>
          <a:xfrm>
            <a:off x="7567560" y="4572000"/>
            <a:ext cx="590760" cy="590400"/>
          </a:xfrm>
          <a:prstGeom prst="rect">
            <a:avLst/>
          </a:prstGeom>
          <a:ln w="0">
            <a:noFill/>
          </a:ln>
        </p:spPr>
      </p:pic>
      <p:pic>
        <p:nvPicPr>
          <p:cNvPr id="570" name="Picture 25" descr="icon_3"/>
          <p:cNvPicPr/>
          <p:nvPr/>
        </p:nvPicPr>
        <p:blipFill>
          <a:blip r:embed="rId9"/>
          <a:stretch/>
        </p:blipFill>
        <p:spPr>
          <a:xfrm>
            <a:off x="4219560" y="4572000"/>
            <a:ext cx="581040" cy="590400"/>
          </a:xfrm>
          <a:prstGeom prst="rect">
            <a:avLst/>
          </a:prstGeom>
          <a:ln w="0">
            <a:noFill/>
          </a:ln>
        </p:spPr>
      </p:pic>
      <p:pic>
        <p:nvPicPr>
          <p:cNvPr id="571" name="Picture 26" descr="icon_4"/>
          <p:cNvPicPr/>
          <p:nvPr/>
        </p:nvPicPr>
        <p:blipFill>
          <a:blip r:embed="rId10"/>
          <a:stretch/>
        </p:blipFill>
        <p:spPr>
          <a:xfrm>
            <a:off x="5891040" y="4572000"/>
            <a:ext cx="581040" cy="59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verall Summary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est on extended Mode-dependent coefficients scanning (MDCS) method in CE7 is report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xtend to TU sizes of 16x16 and 32x3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0: Modified horizontal and vertical scanning order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buClr>
                <a:srgbClr val="ed6d00"/>
              </a:buClr>
              <a:buSzPct val="95000"/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M1: Simplified version of M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erimental resul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Based on HM4.0 and conditions of JCTVC-F90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0: average BD-rate reductions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2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6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I-HE and AI-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M1: average BD-rate reductions of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1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0.5%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for AI-HE and AI-LC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n ti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lmost the same as that of HM4.0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6D25-07F8-4958-B16A-3F71CEDF7ED6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7CED1-8080-428E-8DD1-41E19030A20C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canning Orders in HM4.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gzag, Horizontal, Vertical and Diag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E: Diagonal, Horizontal,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C: Zigzag, Horizontal, Vertica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e scanning order for each TU is determined by it’s intra prediction mod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2914B-6CE0-40C9-AD17-D40125C546DD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117"/>
          <p:cNvSpPr/>
          <p:nvPr/>
        </p:nvSpPr>
        <p:spPr>
          <a:xfrm>
            <a:off x="857160" y="570240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igza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TextBox 118"/>
          <p:cNvSpPr/>
          <p:nvPr/>
        </p:nvSpPr>
        <p:spPr>
          <a:xfrm>
            <a:off x="2989440" y="5702400"/>
            <a:ext cx="151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TextBox 119"/>
          <p:cNvSpPr/>
          <p:nvPr/>
        </p:nvSpPr>
        <p:spPr>
          <a:xfrm>
            <a:off x="5172120" y="5702400"/>
            <a:ext cx="125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Rectangle 12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Rectangle 169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0" name="Group 123"/>
          <p:cNvGrpSpPr/>
          <p:nvPr/>
        </p:nvGrpSpPr>
        <p:grpSpPr>
          <a:xfrm>
            <a:off x="495360" y="3487680"/>
            <a:ext cx="1862280" cy="1891080"/>
            <a:chOff x="495360" y="3487680"/>
            <a:chExt cx="1862280" cy="1891080"/>
          </a:xfrm>
        </p:grpSpPr>
        <p:grpSp>
          <p:nvGrpSpPr>
            <p:cNvPr id="331" name="Group 153"/>
            <p:cNvGrpSpPr/>
            <p:nvPr/>
          </p:nvGrpSpPr>
          <p:grpSpPr>
            <a:xfrm>
              <a:off x="495360" y="3487680"/>
              <a:ext cx="1862280" cy="1891080"/>
              <a:chOff x="495360" y="3487680"/>
              <a:chExt cx="1862280" cy="1891080"/>
            </a:xfrm>
          </p:grpSpPr>
          <p:sp>
            <p:nvSpPr>
              <p:cNvPr id="332" name="Rectangle 168"/>
              <p:cNvSpPr/>
              <p:nvPr/>
            </p:nvSpPr>
            <p:spPr>
              <a:xfrm>
                <a:off x="510480" y="3487680"/>
                <a:ext cx="1846800" cy="1890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33" name="AutoShape 167"/>
              <p:cNvCxnSpPr/>
              <p:nvPr/>
            </p:nvCxnSpPr>
            <p:spPr>
              <a:xfrm>
                <a:off x="510480" y="442008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4" name="AutoShape 166"/>
              <p:cNvCxnSpPr/>
              <p:nvPr/>
            </p:nvCxnSpPr>
            <p:spPr>
              <a:xfrm>
                <a:off x="143064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5" name="AutoShape 165"/>
              <p:cNvCxnSpPr/>
              <p:nvPr/>
            </p:nvCxnSpPr>
            <p:spPr>
              <a:xfrm>
                <a:off x="510480" y="394308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6" name="AutoShape 164"/>
              <p:cNvCxnSpPr/>
              <p:nvPr/>
            </p:nvCxnSpPr>
            <p:spPr>
              <a:xfrm>
                <a:off x="510480" y="372276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7" name="AutoShape 163"/>
              <p:cNvCxnSpPr/>
              <p:nvPr/>
            </p:nvCxnSpPr>
            <p:spPr>
              <a:xfrm>
                <a:off x="502920" y="417564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8" name="AutoShape 162"/>
              <p:cNvCxnSpPr/>
              <p:nvPr/>
            </p:nvCxnSpPr>
            <p:spPr>
              <a:xfrm>
                <a:off x="502920" y="488484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39" name="AutoShape 161"/>
              <p:cNvCxnSpPr/>
              <p:nvPr/>
            </p:nvCxnSpPr>
            <p:spPr>
              <a:xfrm>
                <a:off x="502920" y="466452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0" name="AutoShape 160"/>
              <p:cNvCxnSpPr/>
              <p:nvPr/>
            </p:nvCxnSpPr>
            <p:spPr>
              <a:xfrm>
                <a:off x="495360" y="511740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1" name="AutoShape 159"/>
              <p:cNvCxnSpPr/>
              <p:nvPr/>
            </p:nvCxnSpPr>
            <p:spPr>
              <a:xfrm>
                <a:off x="95832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2" name="AutoShape 158"/>
              <p:cNvCxnSpPr/>
              <p:nvPr/>
            </p:nvCxnSpPr>
            <p:spPr>
              <a:xfrm>
                <a:off x="187308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3" name="AutoShape 157"/>
              <p:cNvCxnSpPr/>
              <p:nvPr/>
            </p:nvCxnSpPr>
            <p:spPr>
              <a:xfrm>
                <a:off x="71964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4" name="AutoShape 156"/>
              <p:cNvCxnSpPr/>
              <p:nvPr/>
            </p:nvCxnSpPr>
            <p:spPr>
              <a:xfrm>
                <a:off x="117936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5" name="AutoShape 155"/>
              <p:cNvCxnSpPr/>
              <p:nvPr/>
            </p:nvCxnSpPr>
            <p:spPr>
              <a:xfrm>
                <a:off x="165708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46" name="AutoShape 154"/>
              <p:cNvCxnSpPr/>
              <p:nvPr/>
            </p:nvCxnSpPr>
            <p:spPr>
              <a:xfrm>
                <a:off x="210600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47" name="Group 124"/>
            <p:cNvGrpSpPr/>
            <p:nvPr/>
          </p:nvGrpSpPr>
          <p:grpSpPr>
            <a:xfrm>
              <a:off x="597240" y="3603960"/>
              <a:ext cx="1644120" cy="1642680"/>
              <a:chOff x="597240" y="3603960"/>
              <a:chExt cx="1644120" cy="1642680"/>
            </a:xfrm>
          </p:grpSpPr>
          <p:cxnSp>
            <p:nvCxnSpPr>
              <p:cNvPr id="348" name="AutoShape 152"/>
              <p:cNvCxnSpPr/>
              <p:nvPr/>
            </p:nvCxnSpPr>
            <p:spPr>
              <a:xfrm flipV="1">
                <a:off x="1302840" y="4299120"/>
                <a:ext cx="932400" cy="94716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grpSp>
            <p:nvGrpSpPr>
              <p:cNvPr id="349" name="Group 125"/>
              <p:cNvGrpSpPr/>
              <p:nvPr/>
            </p:nvGrpSpPr>
            <p:grpSpPr>
              <a:xfrm>
                <a:off x="597240" y="3603960"/>
                <a:ext cx="1644120" cy="1642680"/>
                <a:chOff x="597240" y="3603960"/>
                <a:chExt cx="1644120" cy="1642680"/>
              </a:xfrm>
            </p:grpSpPr>
            <p:cxnSp>
              <p:nvCxnSpPr>
                <p:cNvPr id="350" name="AutoShape 151"/>
                <p:cNvCxnSpPr/>
                <p:nvPr/>
              </p:nvCxnSpPr>
              <p:spPr>
                <a:xfrm>
                  <a:off x="610200" y="3604320"/>
                  <a:ext cx="23184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1" name="AutoShape 150"/>
                <p:cNvCxnSpPr/>
                <p:nvPr/>
              </p:nvCxnSpPr>
              <p:spPr>
                <a:xfrm flipH="1">
                  <a:off x="597240" y="3604320"/>
                  <a:ext cx="231840" cy="23724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2" name="AutoShape 149"/>
                <p:cNvCxnSpPr/>
                <p:nvPr/>
              </p:nvCxnSpPr>
              <p:spPr>
                <a:xfrm>
                  <a:off x="622800" y="3840840"/>
                  <a:ext cx="1080" cy="2329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3" name="AutoShape 148"/>
                <p:cNvCxnSpPr/>
                <p:nvPr/>
              </p:nvCxnSpPr>
              <p:spPr>
                <a:xfrm flipV="1">
                  <a:off x="603720" y="3603960"/>
                  <a:ext cx="479520" cy="46980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4" name="AutoShape 147"/>
                <p:cNvCxnSpPr/>
                <p:nvPr/>
              </p:nvCxnSpPr>
              <p:spPr>
                <a:xfrm>
                  <a:off x="1082880" y="3610800"/>
                  <a:ext cx="22680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5" name="AutoShape 146"/>
                <p:cNvCxnSpPr/>
                <p:nvPr/>
              </p:nvCxnSpPr>
              <p:spPr>
                <a:xfrm flipH="1">
                  <a:off x="609480" y="3604320"/>
                  <a:ext cx="699480" cy="6955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6" name="AutoShape 145"/>
                <p:cNvCxnSpPr/>
                <p:nvPr/>
              </p:nvCxnSpPr>
              <p:spPr>
                <a:xfrm>
                  <a:off x="622800" y="4299840"/>
                  <a:ext cx="1080" cy="2527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7" name="AutoShape 144"/>
                <p:cNvCxnSpPr/>
                <p:nvPr/>
              </p:nvCxnSpPr>
              <p:spPr>
                <a:xfrm flipV="1">
                  <a:off x="609840" y="3603960"/>
                  <a:ext cx="945720" cy="9478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8" name="AutoShape 143"/>
                <p:cNvCxnSpPr/>
                <p:nvPr/>
              </p:nvCxnSpPr>
              <p:spPr>
                <a:xfrm>
                  <a:off x="1555560" y="3610800"/>
                  <a:ext cx="21312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59" name="AutoShape 142"/>
                <p:cNvCxnSpPr/>
                <p:nvPr/>
              </p:nvCxnSpPr>
              <p:spPr>
                <a:xfrm flipH="1">
                  <a:off x="609840" y="3604320"/>
                  <a:ext cx="1158480" cy="11797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0" name="AutoShape 141"/>
                <p:cNvCxnSpPr/>
                <p:nvPr/>
              </p:nvCxnSpPr>
              <p:spPr>
                <a:xfrm>
                  <a:off x="622800" y="4783320"/>
                  <a:ext cx="1080" cy="2113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1" name="AutoShape 140"/>
                <p:cNvCxnSpPr/>
                <p:nvPr/>
              </p:nvCxnSpPr>
              <p:spPr>
                <a:xfrm flipV="1">
                  <a:off x="609840" y="3604320"/>
                  <a:ext cx="1384920" cy="13903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2" name="AutoShape 139"/>
                <p:cNvCxnSpPr/>
                <p:nvPr/>
              </p:nvCxnSpPr>
              <p:spPr>
                <a:xfrm>
                  <a:off x="1994760" y="3610800"/>
                  <a:ext cx="24696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3" name="AutoShape 138"/>
                <p:cNvCxnSpPr/>
                <p:nvPr/>
              </p:nvCxnSpPr>
              <p:spPr>
                <a:xfrm flipH="1">
                  <a:off x="603000" y="3604680"/>
                  <a:ext cx="1637640" cy="16423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4" name="AutoShape 137"/>
                <p:cNvCxnSpPr/>
                <p:nvPr/>
              </p:nvCxnSpPr>
              <p:spPr>
                <a:xfrm>
                  <a:off x="603720" y="5245920"/>
                  <a:ext cx="23832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5" name="AutoShape 136"/>
                <p:cNvCxnSpPr/>
                <p:nvPr/>
              </p:nvCxnSpPr>
              <p:spPr>
                <a:xfrm flipV="1">
                  <a:off x="841320" y="3840840"/>
                  <a:ext cx="1400040" cy="140544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6" name="AutoShape 135"/>
                <p:cNvCxnSpPr/>
                <p:nvPr/>
              </p:nvCxnSpPr>
              <p:spPr>
                <a:xfrm>
                  <a:off x="2240640" y="3840840"/>
                  <a:ext cx="1080" cy="2329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7" name="AutoShape 134"/>
                <p:cNvCxnSpPr/>
                <p:nvPr/>
              </p:nvCxnSpPr>
              <p:spPr>
                <a:xfrm flipH="1">
                  <a:off x="1082520" y="4073760"/>
                  <a:ext cx="1158480" cy="11725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8" name="AutoShape 133"/>
                <p:cNvCxnSpPr/>
                <p:nvPr/>
              </p:nvCxnSpPr>
              <p:spPr>
                <a:xfrm>
                  <a:off x="1082880" y="5245920"/>
                  <a:ext cx="22680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69" name="AutoShape 132"/>
                <p:cNvCxnSpPr/>
                <p:nvPr/>
              </p:nvCxnSpPr>
              <p:spPr>
                <a:xfrm>
                  <a:off x="2240640" y="4299840"/>
                  <a:ext cx="1080" cy="2527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70" name="AutoShape 131"/>
                <p:cNvCxnSpPr/>
                <p:nvPr/>
              </p:nvCxnSpPr>
              <p:spPr>
                <a:xfrm flipH="1">
                  <a:off x="1555200" y="4551840"/>
                  <a:ext cx="685440" cy="69480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71" name="AutoShape 130"/>
                <p:cNvCxnSpPr/>
                <p:nvPr/>
              </p:nvCxnSpPr>
              <p:spPr>
                <a:xfrm>
                  <a:off x="1555560" y="5245920"/>
                  <a:ext cx="21312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72" name="AutoShape 129"/>
                <p:cNvCxnSpPr/>
                <p:nvPr/>
              </p:nvCxnSpPr>
              <p:spPr>
                <a:xfrm flipV="1">
                  <a:off x="1768320" y="4782960"/>
                  <a:ext cx="473040" cy="4633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73" name="AutoShape 128"/>
                <p:cNvCxnSpPr/>
                <p:nvPr/>
              </p:nvCxnSpPr>
              <p:spPr>
                <a:xfrm>
                  <a:off x="2240640" y="4783320"/>
                  <a:ext cx="1080" cy="2113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74" name="AutoShape 127"/>
                <p:cNvCxnSpPr/>
                <p:nvPr/>
              </p:nvCxnSpPr>
              <p:spPr>
                <a:xfrm flipH="1">
                  <a:off x="1994400" y="4994280"/>
                  <a:ext cx="246960" cy="25272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375" name="AutoShape 126"/>
                <p:cNvCxnSpPr/>
                <p:nvPr/>
              </p:nvCxnSpPr>
              <p:spPr>
                <a:xfrm>
                  <a:off x="1994760" y="5245920"/>
                  <a:ext cx="246960" cy="1080"/>
                </a:xfrm>
                <a:prstGeom prst="straightConnector1">
                  <a:avLst/>
                </a:prstGeom>
                <a:ln w="9360">
                  <a:solidFill>
                    <a:srgbClr val="7f7f7f"/>
                  </a:solidFill>
                  <a:prstDash val="dash"/>
                  <a:miter/>
                  <a:tailEnd len="med" type="triangle" w="sm"/>
                </a:ln>
              </p:spPr>
            </p:cxnSp>
          </p:grpSp>
        </p:grpSp>
      </p:grpSp>
      <p:sp>
        <p:nvSpPr>
          <p:cNvPr id="376" name="Rectangle 203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7" name="Group 170"/>
          <p:cNvGrpSpPr/>
          <p:nvPr/>
        </p:nvGrpSpPr>
        <p:grpSpPr>
          <a:xfrm>
            <a:off x="2642760" y="3487680"/>
            <a:ext cx="1862640" cy="1891080"/>
            <a:chOff x="2642760" y="3487680"/>
            <a:chExt cx="1862640" cy="1891080"/>
          </a:xfrm>
        </p:grpSpPr>
        <p:grpSp>
          <p:nvGrpSpPr>
            <p:cNvPr id="378" name="Group 187"/>
            <p:cNvGrpSpPr/>
            <p:nvPr/>
          </p:nvGrpSpPr>
          <p:grpSpPr>
            <a:xfrm>
              <a:off x="2642760" y="3487680"/>
              <a:ext cx="1862640" cy="1891080"/>
              <a:chOff x="2642760" y="3487680"/>
              <a:chExt cx="1862640" cy="1891080"/>
            </a:xfrm>
          </p:grpSpPr>
          <p:sp>
            <p:nvSpPr>
              <p:cNvPr id="379" name="Rectangle 202"/>
              <p:cNvSpPr/>
              <p:nvPr/>
            </p:nvSpPr>
            <p:spPr>
              <a:xfrm>
                <a:off x="2658240" y="3487680"/>
                <a:ext cx="1847160" cy="1890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380" name="AutoShape 201"/>
              <p:cNvCxnSpPr/>
              <p:nvPr/>
            </p:nvCxnSpPr>
            <p:spPr>
              <a:xfrm>
                <a:off x="2657880" y="4420080"/>
                <a:ext cx="1847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1" name="AutoShape 200"/>
              <p:cNvCxnSpPr/>
              <p:nvPr/>
            </p:nvCxnSpPr>
            <p:spPr>
              <a:xfrm>
                <a:off x="357840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2" name="AutoShape 199"/>
              <p:cNvCxnSpPr/>
              <p:nvPr/>
            </p:nvCxnSpPr>
            <p:spPr>
              <a:xfrm>
                <a:off x="2657880" y="3943080"/>
                <a:ext cx="1847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3" name="AutoShape 198"/>
              <p:cNvCxnSpPr/>
              <p:nvPr/>
            </p:nvCxnSpPr>
            <p:spPr>
              <a:xfrm>
                <a:off x="2657880" y="3722760"/>
                <a:ext cx="1847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4" name="AutoShape 197"/>
              <p:cNvCxnSpPr/>
              <p:nvPr/>
            </p:nvCxnSpPr>
            <p:spPr>
              <a:xfrm>
                <a:off x="2650320" y="4175640"/>
                <a:ext cx="1847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5" name="AutoShape 196"/>
              <p:cNvCxnSpPr/>
              <p:nvPr/>
            </p:nvCxnSpPr>
            <p:spPr>
              <a:xfrm>
                <a:off x="2650320" y="4884840"/>
                <a:ext cx="1847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6" name="AutoShape 195"/>
              <p:cNvCxnSpPr/>
              <p:nvPr/>
            </p:nvCxnSpPr>
            <p:spPr>
              <a:xfrm>
                <a:off x="2650320" y="4664520"/>
                <a:ext cx="1847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7" name="AutoShape 194"/>
              <p:cNvCxnSpPr/>
              <p:nvPr/>
            </p:nvCxnSpPr>
            <p:spPr>
              <a:xfrm>
                <a:off x="2642760" y="5117400"/>
                <a:ext cx="184788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8" name="AutoShape 193"/>
              <p:cNvCxnSpPr/>
              <p:nvPr/>
            </p:nvCxnSpPr>
            <p:spPr>
              <a:xfrm>
                <a:off x="310608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89" name="AutoShape 192"/>
              <p:cNvCxnSpPr/>
              <p:nvPr/>
            </p:nvCxnSpPr>
            <p:spPr>
              <a:xfrm>
                <a:off x="402084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0" name="AutoShape 191"/>
              <p:cNvCxnSpPr/>
              <p:nvPr/>
            </p:nvCxnSpPr>
            <p:spPr>
              <a:xfrm>
                <a:off x="286740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1" name="AutoShape 190"/>
              <p:cNvCxnSpPr/>
              <p:nvPr/>
            </p:nvCxnSpPr>
            <p:spPr>
              <a:xfrm>
                <a:off x="332748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2" name="AutoShape 189"/>
              <p:cNvCxnSpPr/>
              <p:nvPr/>
            </p:nvCxnSpPr>
            <p:spPr>
              <a:xfrm>
                <a:off x="380520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393" name="AutoShape 188"/>
              <p:cNvCxnSpPr/>
              <p:nvPr/>
            </p:nvCxnSpPr>
            <p:spPr>
              <a:xfrm>
                <a:off x="425412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394" name="Group 171"/>
            <p:cNvGrpSpPr/>
            <p:nvPr/>
          </p:nvGrpSpPr>
          <p:grpSpPr>
            <a:xfrm>
              <a:off x="2765880" y="3621960"/>
              <a:ext cx="1624320" cy="1635840"/>
              <a:chOff x="2765880" y="3621960"/>
              <a:chExt cx="1624320" cy="1635840"/>
            </a:xfrm>
          </p:grpSpPr>
          <p:cxnSp>
            <p:nvCxnSpPr>
              <p:cNvPr id="395" name="AutoShape 186"/>
              <p:cNvCxnSpPr/>
              <p:nvPr/>
            </p:nvCxnSpPr>
            <p:spPr>
              <a:xfrm>
                <a:off x="2766240" y="362196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396" name="AutoShape 185"/>
              <p:cNvCxnSpPr/>
              <p:nvPr/>
            </p:nvCxnSpPr>
            <p:spPr>
              <a:xfrm flipH="1">
                <a:off x="2765880" y="3621960"/>
                <a:ext cx="1624320" cy="23076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397" name="AutoShape 184"/>
              <p:cNvCxnSpPr/>
              <p:nvPr/>
            </p:nvCxnSpPr>
            <p:spPr>
              <a:xfrm>
                <a:off x="2766240" y="385200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398" name="AutoShape 183"/>
              <p:cNvCxnSpPr/>
              <p:nvPr/>
            </p:nvCxnSpPr>
            <p:spPr>
              <a:xfrm flipH="1">
                <a:off x="2765880" y="3852000"/>
                <a:ext cx="1624320" cy="2329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399" name="AutoShape 182"/>
              <p:cNvCxnSpPr/>
              <p:nvPr/>
            </p:nvCxnSpPr>
            <p:spPr>
              <a:xfrm>
                <a:off x="2766240" y="408456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0" name="AutoShape 181"/>
              <p:cNvCxnSpPr/>
              <p:nvPr/>
            </p:nvCxnSpPr>
            <p:spPr>
              <a:xfrm flipH="1">
                <a:off x="2765880" y="4084560"/>
                <a:ext cx="1624320" cy="2264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1" name="AutoShape 180"/>
              <p:cNvCxnSpPr/>
              <p:nvPr/>
            </p:nvCxnSpPr>
            <p:spPr>
              <a:xfrm>
                <a:off x="2766240" y="431028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2" name="AutoShape 179"/>
              <p:cNvCxnSpPr/>
              <p:nvPr/>
            </p:nvCxnSpPr>
            <p:spPr>
              <a:xfrm flipH="1">
                <a:off x="2765880" y="4310640"/>
                <a:ext cx="1624320" cy="2527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3" name="AutoShape 178"/>
              <p:cNvCxnSpPr/>
              <p:nvPr/>
            </p:nvCxnSpPr>
            <p:spPr>
              <a:xfrm>
                <a:off x="2766240" y="456264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4" name="AutoShape 177"/>
              <p:cNvCxnSpPr/>
              <p:nvPr/>
            </p:nvCxnSpPr>
            <p:spPr>
              <a:xfrm flipH="1">
                <a:off x="2765880" y="4562640"/>
                <a:ext cx="1624320" cy="23220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5" name="AutoShape 176"/>
              <p:cNvCxnSpPr/>
              <p:nvPr/>
            </p:nvCxnSpPr>
            <p:spPr>
              <a:xfrm>
                <a:off x="2766240" y="479448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6" name="AutoShape 175"/>
              <p:cNvCxnSpPr/>
              <p:nvPr/>
            </p:nvCxnSpPr>
            <p:spPr>
              <a:xfrm flipH="1">
                <a:off x="2765880" y="4794480"/>
                <a:ext cx="1624320" cy="2113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7" name="AutoShape 174"/>
              <p:cNvCxnSpPr/>
              <p:nvPr/>
            </p:nvCxnSpPr>
            <p:spPr>
              <a:xfrm>
                <a:off x="2766240" y="500508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8" name="AutoShape 173"/>
              <p:cNvCxnSpPr/>
              <p:nvPr/>
            </p:nvCxnSpPr>
            <p:spPr>
              <a:xfrm flipH="1">
                <a:off x="2765880" y="5005440"/>
                <a:ext cx="1624320" cy="2527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09" name="AutoShape 172"/>
              <p:cNvCxnSpPr/>
              <p:nvPr/>
            </p:nvCxnSpPr>
            <p:spPr>
              <a:xfrm>
                <a:off x="2766240" y="5257080"/>
                <a:ext cx="1624320" cy="108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</p:grpSp>
      </p:grpSp>
      <p:sp>
        <p:nvSpPr>
          <p:cNvPr id="410" name="Rectangle 23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1" name="Group 204"/>
          <p:cNvGrpSpPr/>
          <p:nvPr/>
        </p:nvGrpSpPr>
        <p:grpSpPr>
          <a:xfrm>
            <a:off x="4857840" y="3487680"/>
            <a:ext cx="1862280" cy="1891080"/>
            <a:chOff x="4857840" y="3487680"/>
            <a:chExt cx="1862280" cy="1891080"/>
          </a:xfrm>
        </p:grpSpPr>
        <p:grpSp>
          <p:nvGrpSpPr>
            <p:cNvPr id="412" name="Group 221"/>
            <p:cNvGrpSpPr/>
            <p:nvPr/>
          </p:nvGrpSpPr>
          <p:grpSpPr>
            <a:xfrm>
              <a:off x="4857840" y="3487680"/>
              <a:ext cx="1862280" cy="1891080"/>
              <a:chOff x="4857840" y="3487680"/>
              <a:chExt cx="1862280" cy="1891080"/>
            </a:xfrm>
          </p:grpSpPr>
          <p:sp>
            <p:nvSpPr>
              <p:cNvPr id="413" name="Rectangle 236"/>
              <p:cNvSpPr/>
              <p:nvPr/>
            </p:nvSpPr>
            <p:spPr>
              <a:xfrm>
                <a:off x="4872960" y="3487680"/>
                <a:ext cx="1846800" cy="189072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cxnSp>
            <p:nvCxnSpPr>
              <p:cNvPr id="414" name="AutoShape 235"/>
              <p:cNvCxnSpPr/>
              <p:nvPr/>
            </p:nvCxnSpPr>
            <p:spPr>
              <a:xfrm>
                <a:off x="4872960" y="442008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5" name="AutoShape 234"/>
              <p:cNvCxnSpPr/>
              <p:nvPr/>
            </p:nvCxnSpPr>
            <p:spPr>
              <a:xfrm>
                <a:off x="579312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6" name="AutoShape 233"/>
              <p:cNvCxnSpPr/>
              <p:nvPr/>
            </p:nvCxnSpPr>
            <p:spPr>
              <a:xfrm>
                <a:off x="4872960" y="394308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7" name="AutoShape 232"/>
              <p:cNvCxnSpPr/>
              <p:nvPr/>
            </p:nvCxnSpPr>
            <p:spPr>
              <a:xfrm>
                <a:off x="4872960" y="372276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8" name="AutoShape 231"/>
              <p:cNvCxnSpPr/>
              <p:nvPr/>
            </p:nvCxnSpPr>
            <p:spPr>
              <a:xfrm>
                <a:off x="4865400" y="417564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19" name="AutoShape 230"/>
              <p:cNvCxnSpPr/>
              <p:nvPr/>
            </p:nvCxnSpPr>
            <p:spPr>
              <a:xfrm>
                <a:off x="4865400" y="488484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0" name="AutoShape 229"/>
              <p:cNvCxnSpPr/>
              <p:nvPr/>
            </p:nvCxnSpPr>
            <p:spPr>
              <a:xfrm>
                <a:off x="4865400" y="466452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1" name="AutoShape 228"/>
              <p:cNvCxnSpPr/>
              <p:nvPr/>
            </p:nvCxnSpPr>
            <p:spPr>
              <a:xfrm>
                <a:off x="4857840" y="5117400"/>
                <a:ext cx="1847520" cy="108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2" name="AutoShape 227"/>
              <p:cNvCxnSpPr/>
              <p:nvPr/>
            </p:nvCxnSpPr>
            <p:spPr>
              <a:xfrm>
                <a:off x="532080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3" name="AutoShape 226"/>
              <p:cNvCxnSpPr/>
              <p:nvPr/>
            </p:nvCxnSpPr>
            <p:spPr>
              <a:xfrm>
                <a:off x="623556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4" name="AutoShape 225"/>
              <p:cNvCxnSpPr/>
              <p:nvPr/>
            </p:nvCxnSpPr>
            <p:spPr>
              <a:xfrm>
                <a:off x="508212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5" name="AutoShape 224"/>
              <p:cNvCxnSpPr/>
              <p:nvPr/>
            </p:nvCxnSpPr>
            <p:spPr>
              <a:xfrm>
                <a:off x="554184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6" name="AutoShape 223"/>
              <p:cNvCxnSpPr/>
              <p:nvPr/>
            </p:nvCxnSpPr>
            <p:spPr>
              <a:xfrm>
                <a:off x="601956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  <p:cxnSp>
            <p:nvCxnSpPr>
              <p:cNvPr id="427" name="AutoShape 222"/>
              <p:cNvCxnSpPr/>
              <p:nvPr/>
            </p:nvCxnSpPr>
            <p:spPr>
              <a:xfrm>
                <a:off x="6468480" y="3487680"/>
                <a:ext cx="1080" cy="1891440"/>
              </a:xfrm>
              <a:prstGeom prst="straightConnector1">
                <a:avLst/>
              </a:prstGeom>
              <a:ln w="9360">
                <a:solidFill>
                  <a:srgbClr val="000000"/>
                </a:solidFill>
                <a:miter/>
              </a:ln>
            </p:spPr>
          </p:cxnSp>
        </p:grpSp>
        <p:grpSp>
          <p:nvGrpSpPr>
            <p:cNvPr id="428" name="Group 205"/>
            <p:cNvGrpSpPr/>
            <p:nvPr/>
          </p:nvGrpSpPr>
          <p:grpSpPr>
            <a:xfrm>
              <a:off x="4991760" y="3594960"/>
              <a:ext cx="1606320" cy="1676160"/>
              <a:chOff x="4991760" y="3594960"/>
              <a:chExt cx="1606320" cy="1676160"/>
            </a:xfrm>
          </p:grpSpPr>
          <p:cxnSp>
            <p:nvCxnSpPr>
              <p:cNvPr id="429" name="AutoShape 220"/>
              <p:cNvCxnSpPr/>
              <p:nvPr/>
            </p:nvCxnSpPr>
            <p:spPr>
              <a:xfrm>
                <a:off x="4991760" y="3594960"/>
                <a:ext cx="1080" cy="16765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0" name="AutoShape 219"/>
              <p:cNvCxnSpPr/>
              <p:nvPr/>
            </p:nvCxnSpPr>
            <p:spPr>
              <a:xfrm flipV="1">
                <a:off x="4992120" y="3601080"/>
                <a:ext cx="2260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1" name="AutoShape 218"/>
              <p:cNvCxnSpPr/>
              <p:nvPr/>
            </p:nvCxnSpPr>
            <p:spPr>
              <a:xfrm>
                <a:off x="5217120" y="3601440"/>
                <a:ext cx="10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2" name="AutoShape 217"/>
              <p:cNvCxnSpPr/>
              <p:nvPr/>
            </p:nvCxnSpPr>
            <p:spPr>
              <a:xfrm flipV="1">
                <a:off x="5217120" y="3601080"/>
                <a:ext cx="22716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3" name="AutoShape 216"/>
              <p:cNvCxnSpPr/>
              <p:nvPr/>
            </p:nvCxnSpPr>
            <p:spPr>
              <a:xfrm>
                <a:off x="5443560" y="3601440"/>
                <a:ext cx="10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4" name="AutoShape 215"/>
              <p:cNvCxnSpPr/>
              <p:nvPr/>
            </p:nvCxnSpPr>
            <p:spPr>
              <a:xfrm flipV="1">
                <a:off x="5443920" y="3601080"/>
                <a:ext cx="2404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5" name="AutoShape 214"/>
              <p:cNvCxnSpPr/>
              <p:nvPr/>
            </p:nvCxnSpPr>
            <p:spPr>
              <a:xfrm>
                <a:off x="5683680" y="3594960"/>
                <a:ext cx="1080" cy="16765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6" name="AutoShape 213"/>
              <p:cNvCxnSpPr/>
              <p:nvPr/>
            </p:nvCxnSpPr>
            <p:spPr>
              <a:xfrm flipV="1">
                <a:off x="5684040" y="3601080"/>
                <a:ext cx="2332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7" name="AutoShape 212"/>
              <p:cNvCxnSpPr/>
              <p:nvPr/>
            </p:nvCxnSpPr>
            <p:spPr>
              <a:xfrm>
                <a:off x="5916240" y="3601440"/>
                <a:ext cx="10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8" name="AutoShape 211"/>
              <p:cNvCxnSpPr/>
              <p:nvPr/>
            </p:nvCxnSpPr>
            <p:spPr>
              <a:xfrm flipV="1">
                <a:off x="5916600" y="3601080"/>
                <a:ext cx="23400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39" name="AutoShape 210"/>
              <p:cNvCxnSpPr/>
              <p:nvPr/>
            </p:nvCxnSpPr>
            <p:spPr>
              <a:xfrm>
                <a:off x="6149520" y="3601440"/>
                <a:ext cx="10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40" name="AutoShape 209"/>
              <p:cNvCxnSpPr/>
              <p:nvPr/>
            </p:nvCxnSpPr>
            <p:spPr>
              <a:xfrm flipV="1">
                <a:off x="6149880" y="3601080"/>
                <a:ext cx="2260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41" name="AutoShape 208"/>
              <p:cNvCxnSpPr/>
              <p:nvPr/>
            </p:nvCxnSpPr>
            <p:spPr>
              <a:xfrm>
                <a:off x="6375240" y="3601440"/>
                <a:ext cx="108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42" name="AutoShape 207"/>
              <p:cNvCxnSpPr/>
              <p:nvPr/>
            </p:nvCxnSpPr>
            <p:spPr>
              <a:xfrm flipV="1">
                <a:off x="6375600" y="3601080"/>
                <a:ext cx="220320" cy="167004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  <p:cxnSp>
            <p:nvCxnSpPr>
              <p:cNvPr id="443" name="AutoShape 206"/>
              <p:cNvCxnSpPr/>
              <p:nvPr/>
            </p:nvCxnSpPr>
            <p:spPr>
              <a:xfrm>
                <a:off x="6597000" y="3594960"/>
                <a:ext cx="1440" cy="1676520"/>
              </a:xfrm>
              <a:prstGeom prst="straightConnector1">
                <a:avLst/>
              </a:prstGeom>
              <a:ln w="9360">
                <a:solidFill>
                  <a:srgbClr val="7f7f7f"/>
                </a:solidFill>
                <a:prstDash val="dash"/>
                <a:miter/>
                <a:tailEnd len="med" type="triangle" w="sm"/>
              </a:ln>
            </p:spPr>
          </p:cxnSp>
        </p:grpSp>
      </p:grpSp>
      <p:sp>
        <p:nvSpPr>
          <p:cNvPr id="444" name="Rectangle 256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Group 305"/>
          <p:cNvGrpSpPr/>
          <p:nvPr/>
        </p:nvGrpSpPr>
        <p:grpSpPr>
          <a:xfrm>
            <a:off x="7057800" y="3459240"/>
            <a:ext cx="1857600" cy="1886040"/>
            <a:chOff x="7057800" y="3459240"/>
            <a:chExt cx="1857600" cy="1886040"/>
          </a:xfrm>
        </p:grpSpPr>
        <p:sp>
          <p:nvSpPr>
            <p:cNvPr id="446" name="Rectangle 304"/>
            <p:cNvSpPr/>
            <p:nvPr/>
          </p:nvSpPr>
          <p:spPr>
            <a:xfrm>
              <a:off x="7058160" y="3459600"/>
              <a:ext cx="1857240" cy="18856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47" name="Group 257"/>
            <p:cNvGrpSpPr/>
            <p:nvPr/>
          </p:nvGrpSpPr>
          <p:grpSpPr>
            <a:xfrm>
              <a:off x="7057800" y="3459240"/>
              <a:ext cx="1857600" cy="1886040"/>
              <a:chOff x="7057800" y="3459240"/>
              <a:chExt cx="1857600" cy="1886040"/>
            </a:xfrm>
          </p:grpSpPr>
          <p:grpSp>
            <p:nvGrpSpPr>
              <p:cNvPr id="448" name="Group 258"/>
              <p:cNvGrpSpPr/>
              <p:nvPr/>
            </p:nvGrpSpPr>
            <p:grpSpPr>
              <a:xfrm>
                <a:off x="7057800" y="3683880"/>
                <a:ext cx="1857600" cy="1396800"/>
                <a:chOff x="7057800" y="3683880"/>
                <a:chExt cx="1857600" cy="1396800"/>
              </a:xfrm>
            </p:grpSpPr>
            <p:cxnSp>
              <p:nvCxnSpPr>
                <p:cNvPr id="449" name="AutoShape 259"/>
                <p:cNvCxnSpPr/>
                <p:nvPr/>
              </p:nvCxnSpPr>
              <p:spPr>
                <a:xfrm>
                  <a:off x="7057800" y="4381560"/>
                  <a:ext cx="18579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0" name="AutoShape 260"/>
                <p:cNvCxnSpPr/>
                <p:nvPr/>
              </p:nvCxnSpPr>
              <p:spPr>
                <a:xfrm>
                  <a:off x="7057800" y="3904560"/>
                  <a:ext cx="18579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1" name="AutoShape 261"/>
                <p:cNvCxnSpPr/>
                <p:nvPr/>
              </p:nvCxnSpPr>
              <p:spPr>
                <a:xfrm>
                  <a:off x="7057800" y="3683880"/>
                  <a:ext cx="18579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2" name="AutoShape 262"/>
                <p:cNvCxnSpPr/>
                <p:nvPr/>
              </p:nvCxnSpPr>
              <p:spPr>
                <a:xfrm>
                  <a:off x="7057800" y="4137480"/>
                  <a:ext cx="18579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3" name="AutoShape 263"/>
                <p:cNvCxnSpPr/>
                <p:nvPr/>
              </p:nvCxnSpPr>
              <p:spPr>
                <a:xfrm>
                  <a:off x="7057800" y="4846680"/>
                  <a:ext cx="18579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4" name="AutoShape 264"/>
                <p:cNvCxnSpPr/>
                <p:nvPr/>
              </p:nvCxnSpPr>
              <p:spPr>
                <a:xfrm>
                  <a:off x="7057800" y="4625640"/>
                  <a:ext cx="18579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5" name="AutoShape 265"/>
                <p:cNvCxnSpPr/>
                <p:nvPr/>
              </p:nvCxnSpPr>
              <p:spPr>
                <a:xfrm>
                  <a:off x="7057800" y="5079960"/>
                  <a:ext cx="1857960" cy="108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  <p:grpSp>
            <p:nvGrpSpPr>
              <p:cNvPr id="456" name="Group 266"/>
              <p:cNvGrpSpPr/>
              <p:nvPr/>
            </p:nvGrpSpPr>
            <p:grpSpPr>
              <a:xfrm>
                <a:off x="7295400" y="3459240"/>
                <a:ext cx="1375560" cy="1886040"/>
                <a:chOff x="7295400" y="3459240"/>
                <a:chExt cx="1375560" cy="1886040"/>
              </a:xfrm>
            </p:grpSpPr>
            <p:cxnSp>
              <p:nvCxnSpPr>
                <p:cNvPr id="457" name="AutoShape 267"/>
                <p:cNvCxnSpPr/>
                <p:nvPr/>
              </p:nvCxnSpPr>
              <p:spPr>
                <a:xfrm flipH="1">
                  <a:off x="7983000" y="3459240"/>
                  <a:ext cx="1080" cy="1886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8" name="AutoShape 268"/>
                <p:cNvCxnSpPr/>
                <p:nvPr/>
              </p:nvCxnSpPr>
              <p:spPr>
                <a:xfrm flipH="1">
                  <a:off x="8453160" y="3459240"/>
                  <a:ext cx="1080" cy="1886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59" name="AutoShape 269"/>
                <p:cNvCxnSpPr/>
                <p:nvPr/>
              </p:nvCxnSpPr>
              <p:spPr>
                <a:xfrm flipH="1">
                  <a:off x="8670240" y="3459240"/>
                  <a:ext cx="1080" cy="1886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0" name="AutoShape 270"/>
                <p:cNvCxnSpPr/>
                <p:nvPr/>
              </p:nvCxnSpPr>
              <p:spPr>
                <a:xfrm flipH="1">
                  <a:off x="8223480" y="3459240"/>
                  <a:ext cx="1080" cy="1886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1" name="AutoShape 271"/>
                <p:cNvCxnSpPr/>
                <p:nvPr/>
              </p:nvCxnSpPr>
              <p:spPr>
                <a:xfrm flipH="1">
                  <a:off x="7525080" y="3459240"/>
                  <a:ext cx="1080" cy="1886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2" name="AutoShape 272"/>
                <p:cNvCxnSpPr/>
                <p:nvPr/>
              </p:nvCxnSpPr>
              <p:spPr>
                <a:xfrm flipH="1">
                  <a:off x="7742520" y="3459240"/>
                  <a:ext cx="1080" cy="1886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  <p:cxnSp>
              <p:nvCxnSpPr>
                <p:cNvPr id="463" name="AutoShape 273"/>
                <p:cNvCxnSpPr/>
                <p:nvPr/>
              </p:nvCxnSpPr>
              <p:spPr>
                <a:xfrm flipH="1">
                  <a:off x="7295400" y="3459240"/>
                  <a:ext cx="1080" cy="1886400"/>
                </a:xfrm>
                <a:prstGeom prst="straightConnector1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</p:cxnSp>
          </p:grpSp>
        </p:grpSp>
        <p:grpSp>
          <p:nvGrpSpPr>
            <p:cNvPr id="464" name="Group 274"/>
            <p:cNvGrpSpPr/>
            <p:nvPr/>
          </p:nvGrpSpPr>
          <p:grpSpPr>
            <a:xfrm>
              <a:off x="7169400" y="3552840"/>
              <a:ext cx="1626120" cy="1697040"/>
              <a:chOff x="7169400" y="3552840"/>
              <a:chExt cx="1626120" cy="1697040"/>
            </a:xfrm>
          </p:grpSpPr>
          <p:grpSp>
            <p:nvGrpSpPr>
              <p:cNvPr id="465" name="Group 275"/>
              <p:cNvGrpSpPr/>
              <p:nvPr/>
            </p:nvGrpSpPr>
            <p:grpSpPr>
              <a:xfrm>
                <a:off x="7187040" y="3552840"/>
                <a:ext cx="1608480" cy="1661400"/>
                <a:chOff x="7187040" y="3552840"/>
                <a:chExt cx="1608480" cy="1661400"/>
              </a:xfrm>
            </p:grpSpPr>
            <p:cxnSp>
              <p:nvCxnSpPr>
                <p:cNvPr id="466" name="AutoShape 276"/>
                <p:cNvCxnSpPr/>
                <p:nvPr/>
              </p:nvCxnSpPr>
              <p:spPr>
                <a:xfrm>
                  <a:off x="7187040" y="3580560"/>
                  <a:ext cx="1080" cy="2188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67" name="AutoShape 277"/>
                <p:cNvCxnSpPr/>
                <p:nvPr/>
              </p:nvCxnSpPr>
              <p:spPr>
                <a:xfrm flipV="1">
                  <a:off x="7187040" y="3580200"/>
                  <a:ext cx="204840" cy="2311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68" name="AutoShape 278"/>
                <p:cNvCxnSpPr/>
                <p:nvPr/>
              </p:nvCxnSpPr>
              <p:spPr>
                <a:xfrm flipV="1">
                  <a:off x="7187040" y="3579840"/>
                  <a:ext cx="421560" cy="45180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69" name="AutoShape 279"/>
                <p:cNvCxnSpPr/>
                <p:nvPr/>
              </p:nvCxnSpPr>
              <p:spPr>
                <a:xfrm flipV="1">
                  <a:off x="7187040" y="3579840"/>
                  <a:ext cx="665640" cy="6886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0" name="AutoShape 280"/>
                <p:cNvCxnSpPr/>
                <p:nvPr/>
              </p:nvCxnSpPr>
              <p:spPr>
                <a:xfrm flipV="1">
                  <a:off x="7187400" y="3562560"/>
                  <a:ext cx="909360" cy="95832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1" name="AutoShape 281"/>
                <p:cNvCxnSpPr/>
                <p:nvPr/>
              </p:nvCxnSpPr>
              <p:spPr>
                <a:xfrm flipV="1">
                  <a:off x="7187400" y="3562200"/>
                  <a:ext cx="1142640" cy="117900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2" name="AutoShape 282"/>
                <p:cNvCxnSpPr/>
                <p:nvPr/>
              </p:nvCxnSpPr>
              <p:spPr>
                <a:xfrm flipV="1">
                  <a:off x="7187040" y="3552840"/>
                  <a:ext cx="1397160" cy="14104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3" name="AutoShape 283"/>
                <p:cNvCxnSpPr/>
                <p:nvPr/>
              </p:nvCxnSpPr>
              <p:spPr>
                <a:xfrm flipV="1">
                  <a:off x="7187400" y="3579840"/>
                  <a:ext cx="1608480" cy="162324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4" name="AutoShape 284"/>
                <p:cNvCxnSpPr/>
                <p:nvPr/>
              </p:nvCxnSpPr>
              <p:spPr>
                <a:xfrm flipV="1">
                  <a:off x="7391520" y="3798000"/>
                  <a:ext cx="1404000" cy="1405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5" name="AutoShape 285"/>
                <p:cNvCxnSpPr/>
                <p:nvPr/>
              </p:nvCxnSpPr>
              <p:spPr>
                <a:xfrm flipV="1">
                  <a:off x="7608240" y="4031640"/>
                  <a:ext cx="1187280" cy="117216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6" name="AutoShape 286"/>
                <p:cNvCxnSpPr/>
                <p:nvPr/>
              </p:nvCxnSpPr>
              <p:spPr>
                <a:xfrm flipV="1">
                  <a:off x="7851960" y="4268520"/>
                  <a:ext cx="943560" cy="9352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7" name="AutoShape 287"/>
                <p:cNvCxnSpPr/>
                <p:nvPr/>
              </p:nvCxnSpPr>
              <p:spPr>
                <a:xfrm flipV="1">
                  <a:off x="8095680" y="4519800"/>
                  <a:ext cx="699480" cy="69444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8" name="AutoShape 288"/>
                <p:cNvCxnSpPr/>
                <p:nvPr/>
              </p:nvCxnSpPr>
              <p:spPr>
                <a:xfrm flipV="1">
                  <a:off x="8329320" y="4740840"/>
                  <a:ext cx="466560" cy="47376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79" name="AutoShape 289"/>
                <p:cNvCxnSpPr/>
                <p:nvPr/>
              </p:nvCxnSpPr>
              <p:spPr>
                <a:xfrm flipV="1">
                  <a:off x="8583840" y="4962600"/>
                  <a:ext cx="211680" cy="24120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0" name="AutoShape 290"/>
                <p:cNvCxnSpPr/>
                <p:nvPr/>
              </p:nvCxnSpPr>
              <p:spPr>
                <a:xfrm>
                  <a:off x="8794800" y="4951440"/>
                  <a:ext cx="1080" cy="26316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</p:grpSp>
          <p:grpSp>
            <p:nvGrpSpPr>
              <p:cNvPr id="481" name="Group 291"/>
              <p:cNvGrpSpPr/>
              <p:nvPr/>
            </p:nvGrpSpPr>
            <p:grpSpPr>
              <a:xfrm>
                <a:off x="7169400" y="3602520"/>
                <a:ext cx="1608840" cy="1647360"/>
                <a:chOff x="7169400" y="3602520"/>
                <a:chExt cx="1608840" cy="1647360"/>
              </a:xfrm>
            </p:grpSpPr>
            <p:cxnSp>
              <p:nvCxnSpPr>
                <p:cNvPr id="482" name="AutoShape 292"/>
                <p:cNvCxnSpPr/>
                <p:nvPr/>
              </p:nvCxnSpPr>
              <p:spPr>
                <a:xfrm flipH="1">
                  <a:off x="7169400" y="3602520"/>
                  <a:ext cx="204840" cy="45180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3" name="AutoShape 293"/>
                <p:cNvCxnSpPr/>
                <p:nvPr/>
              </p:nvCxnSpPr>
              <p:spPr>
                <a:xfrm flipH="1">
                  <a:off x="7169760" y="3602520"/>
                  <a:ext cx="421920" cy="6886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4" name="AutoShape 294"/>
                <p:cNvCxnSpPr/>
                <p:nvPr/>
              </p:nvCxnSpPr>
              <p:spPr>
                <a:xfrm flipH="1">
                  <a:off x="7169400" y="3602520"/>
                  <a:ext cx="665640" cy="92916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5" name="AutoShape 295"/>
                <p:cNvCxnSpPr/>
                <p:nvPr/>
              </p:nvCxnSpPr>
              <p:spPr>
                <a:xfrm flipH="1">
                  <a:off x="7169400" y="3602880"/>
                  <a:ext cx="909720" cy="117216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6" name="AutoShape 296"/>
                <p:cNvCxnSpPr/>
                <p:nvPr/>
              </p:nvCxnSpPr>
              <p:spPr>
                <a:xfrm flipH="1">
                  <a:off x="7169760" y="3602880"/>
                  <a:ext cx="1142640" cy="137160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7" name="AutoShape 297"/>
                <p:cNvCxnSpPr/>
                <p:nvPr/>
              </p:nvCxnSpPr>
              <p:spPr>
                <a:xfrm flipH="1">
                  <a:off x="7169760" y="3602520"/>
                  <a:ext cx="1397520" cy="162324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8" name="AutoShape 298"/>
                <p:cNvCxnSpPr/>
                <p:nvPr/>
              </p:nvCxnSpPr>
              <p:spPr>
                <a:xfrm flipH="1">
                  <a:off x="7373520" y="3602520"/>
                  <a:ext cx="1404360" cy="162324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89" name="AutoShape 299"/>
                <p:cNvCxnSpPr/>
                <p:nvPr/>
              </p:nvCxnSpPr>
              <p:spPr>
                <a:xfrm flipH="1">
                  <a:off x="7590960" y="3820680"/>
                  <a:ext cx="1187280" cy="1405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90" name="AutoShape 300"/>
                <p:cNvCxnSpPr/>
                <p:nvPr/>
              </p:nvCxnSpPr>
              <p:spPr>
                <a:xfrm flipH="1">
                  <a:off x="7834320" y="4064400"/>
                  <a:ext cx="943560" cy="116100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91" name="AutoShape 301"/>
                <p:cNvCxnSpPr/>
                <p:nvPr/>
              </p:nvCxnSpPr>
              <p:spPr>
                <a:xfrm flipH="1">
                  <a:off x="8078760" y="4290840"/>
                  <a:ext cx="699840" cy="94608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92" name="AutoShape 302"/>
                <p:cNvCxnSpPr/>
                <p:nvPr/>
              </p:nvCxnSpPr>
              <p:spPr>
                <a:xfrm flipH="1">
                  <a:off x="8312040" y="4542480"/>
                  <a:ext cx="466560" cy="70776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  <p:cxnSp>
              <p:nvCxnSpPr>
                <p:cNvPr id="493" name="AutoShape 303"/>
                <p:cNvCxnSpPr/>
                <p:nvPr/>
              </p:nvCxnSpPr>
              <p:spPr>
                <a:xfrm flipH="1">
                  <a:off x="8566560" y="4773960"/>
                  <a:ext cx="211680" cy="451800"/>
                </a:xfrm>
                <a:prstGeom prst="straightConnector1">
                  <a:avLst/>
                </a:prstGeom>
                <a:ln w="9360">
                  <a:solidFill>
                    <a:srgbClr val="808080"/>
                  </a:solidFill>
                  <a:prstDash val="dash"/>
                  <a:miter/>
                  <a:tailEnd len="med" type="triangle" w="sm"/>
                </a:ln>
              </p:spPr>
            </p:cxnSp>
          </p:grpSp>
        </p:grpSp>
      </p:grpSp>
      <p:sp>
        <p:nvSpPr>
          <p:cNvPr id="494" name="Rectangle 305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TextBox 117"/>
          <p:cNvSpPr/>
          <p:nvPr/>
        </p:nvSpPr>
        <p:spPr>
          <a:xfrm>
            <a:off x="7405560" y="5670720"/>
            <a:ext cx="117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agonal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DCS Selection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7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canning pattern is selected according to a look-up-t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E – 0: Diagonal, 1: Horizontal, 2: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C – 0: Zigzag, 1: Horizontal, 2: Vertic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For 16x16 and 32x32, zigzag is always u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BE111-2998-4129-B91D-5E07DFFF6030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9" name=""/>
          <p:cNvGraphicFramePr/>
          <p:nvPr/>
        </p:nvGraphicFramePr>
        <p:xfrm>
          <a:off x="500040" y="2428920"/>
          <a:ext cx="8058240" cy="2496960"/>
        </p:xfrm>
        <a:graphic>
          <a:graphicData uri="http://schemas.openxmlformats.org/drawingml/2006/table">
            <a:tbl>
              <a:tblPr/>
              <a:tblGrid>
                <a:gridCol w="1166760"/>
                <a:gridCol w="203400"/>
                <a:gridCol w="203040"/>
                <a:gridCol w="203400"/>
                <a:gridCol w="203040"/>
                <a:gridCol w="203040"/>
                <a:gridCol w="201600"/>
                <a:gridCol w="203400"/>
                <a:gridCol w="203040"/>
                <a:gridCol w="203400"/>
                <a:gridCol w="203040"/>
                <a:gridCol w="203400"/>
                <a:gridCol w="201600"/>
                <a:gridCol w="203040"/>
                <a:gridCol w="203400"/>
                <a:gridCol w="203040"/>
                <a:gridCol w="203400"/>
                <a:gridCol w="203040"/>
                <a:gridCol w="201600"/>
                <a:gridCol w="203040"/>
                <a:gridCol w="203400"/>
                <a:gridCol w="203040"/>
                <a:gridCol w="203400"/>
                <a:gridCol w="201600"/>
                <a:gridCol w="203040"/>
                <a:gridCol w="203400"/>
                <a:gridCol w="203040"/>
                <a:gridCol w="203400"/>
                <a:gridCol w="203040"/>
                <a:gridCol w="203040"/>
                <a:gridCol w="201600"/>
                <a:gridCol w="203400"/>
                <a:gridCol w="203040"/>
                <a:gridCol w="203400"/>
                <a:gridCol w="193680"/>
              </a:tblGrid>
              <a:tr h="82080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ode      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T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2x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x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x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904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x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Proposed metho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ulation resul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2D9F06-8AA0-4BF8-AB2D-889D28414EB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d MDCS to Larger TU Siz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modified MD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Zigzag, modified horizontal scanning order, modified vertical scann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w mapping table for TUs of 16x16 and 32x3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posed mapping ta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0: diagonal/zigzag, 1: modified horizontal, 2: modified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4290A-23CC-47C0-846B-0B3983298E0A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6" name=""/>
          <p:cNvGraphicFramePr/>
          <p:nvPr/>
        </p:nvGraphicFramePr>
        <p:xfrm>
          <a:off x="608040" y="3963960"/>
          <a:ext cx="8074080" cy="1784520"/>
        </p:xfrm>
        <a:graphic>
          <a:graphicData uri="http://schemas.openxmlformats.org/drawingml/2006/table">
            <a:tbl>
              <a:tblPr/>
              <a:tblGrid>
                <a:gridCol w="1168200"/>
                <a:gridCol w="204840"/>
                <a:gridCol w="203400"/>
                <a:gridCol w="203040"/>
                <a:gridCol w="203400"/>
                <a:gridCol w="203040"/>
                <a:gridCol w="203400"/>
                <a:gridCol w="204480"/>
                <a:gridCol w="203400"/>
                <a:gridCol w="203040"/>
                <a:gridCol w="203400"/>
                <a:gridCol w="203040"/>
                <a:gridCol w="201600"/>
                <a:gridCol w="204840"/>
                <a:gridCol w="203400"/>
                <a:gridCol w="203040"/>
                <a:gridCol w="203040"/>
                <a:gridCol w="203400"/>
                <a:gridCol w="203040"/>
                <a:gridCol w="204840"/>
                <a:gridCol w="203400"/>
                <a:gridCol w="203040"/>
                <a:gridCol w="203040"/>
                <a:gridCol w="201960"/>
                <a:gridCol w="203040"/>
                <a:gridCol w="204840"/>
                <a:gridCol w="203040"/>
                <a:gridCol w="203400"/>
                <a:gridCol w="203040"/>
                <a:gridCol w="203400"/>
                <a:gridCol w="203040"/>
                <a:gridCol w="204840"/>
                <a:gridCol w="203040"/>
                <a:gridCol w="203400"/>
                <a:gridCol w="193680"/>
              </a:tblGrid>
              <a:tr h="882720">
                <a:tc>
                  <a:txBody>
                    <a:bodyPr lIns="6480" rIns="6480" tIns="648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     </a:t>
                      </a: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Mode         </a:t>
                      </a:r>
                      <a:br>
                        <a:rPr sz="1400"/>
                      </a:b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    TU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3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</a:tr>
              <a:tr h="45072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6x16, 32x3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1080">
                <a:tc>
                  <a:txBody>
                    <a:bodyPr lIns="6480" rIns="6480" tIns="648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4x4, 8x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79646"/>
                    </a:solidFill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480" rIns="6480" tIns="6480" bIns="0" anchor="b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75"/>
                        </a:spcBef>
                        <a:tabLst>
                          <a:tab algn="l" pos="0"/>
                          <a:tab algn="l" pos="228600"/>
                          <a:tab algn="l" pos="45720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SimSun"/>
                        </a:rPr>
                        <a:t>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6480" marR="6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Modified Scanning Order M0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500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Offlin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derivation of modified horizontal and vertical scanning order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retrieve the scanning pattern analytically, coefficient variances are calculated based on image correlation mod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anning pattern is obtained by sorting the variance values in descending ord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投影片編號版面配置區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41282-AB8B-4081-9616-9E797C1F54E5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1" name="Object 2"/>
          <p:cNvGraphicFramePr/>
          <p:nvPr/>
        </p:nvGraphicFramePr>
        <p:xfrm>
          <a:off x="3083040" y="2786040"/>
          <a:ext cx="2917800" cy="455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2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083040" y="2786040"/>
                    <a:ext cx="2917800" cy="45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622440" y="384120"/>
            <a:ext cx="8059680" cy="65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oposed Scanning Orders for 16x16 TU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 txBox="1"/>
          <p:nvPr/>
        </p:nvSpPr>
        <p:spPr>
          <a:xfrm>
            <a:off x="626760" y="1123560"/>
            <a:ext cx="8055000" cy="495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125"/>
              </a:spcBef>
              <a:buClr>
                <a:srgbClr val="ed6d00"/>
              </a:buClr>
              <a:buFont typeface="Arial"/>
              <a:buChar char="▪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ertical scanning order is the transposition of horizontal scann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Slide Number Placeholder 4"/>
          <p:cNvSpPr/>
          <p:nvPr/>
        </p:nvSpPr>
        <p:spPr>
          <a:xfrm>
            <a:off x="4338720" y="6232680"/>
            <a:ext cx="463320" cy="4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07CD47-F046-4F54-9C4E-D64E2D475C39}" type="slidenum">
              <a:rPr b="0" lang="en-US" sz="10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Rectangle 2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7" name="Picture 8" descr="Scan16x16"/>
          <p:cNvPicPr/>
          <p:nvPr/>
        </p:nvPicPr>
        <p:blipFill>
          <a:blip r:embed="rId1"/>
          <a:stretch/>
        </p:blipFill>
        <p:spPr>
          <a:xfrm>
            <a:off x="2214720" y="2571840"/>
            <a:ext cx="4781520" cy="3162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0T09:40:59Z</dcterms:created>
  <dc:creator>Chia-Yang Tsai (MediaTek)</dc:creator>
  <dc:description>Confidential A</dc:description>
  <cp:keywords>Confidential A</cp:keywords>
  <dc:language>en-US</dc:language>
  <cp:lastModifiedBy>xun guo</cp:lastModifiedBy>
  <dcterms:modified xsi:type="dcterms:W3CDTF">2011-11-21T11:21:29Z</dcterms:modified>
  <cp:revision>1543</cp:revision>
  <dc:subject/>
  <dc:title>Title: Arial Bold 32pt</dc:title>
</cp:coreProperties>
</file>