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Hei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F7E89-3C13-4647-97AB-436EF8A684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A5D38-9467-4303-A71A-6903151E993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C85CC-4B2F-41B0-B88D-A69B2CB7533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A119F-4EF3-48F4-83E3-2F4858E560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BC8FA-BA11-4106-B854-A34FC00E39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1285C-CE2E-4FE7-8766-3A5C1EF36D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9F94A-2F1B-4898-A29F-9B160B9DD6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E9A70-2C41-4A28-B680-E389971F56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D8D3A-8103-47BF-85F2-2B78A9C17F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82378-909F-4048-83A5-E148C9A443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B95CB-F7CF-4A23-816F-78BAEDE9A2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6D879-3C84-4848-9954-93C1123534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84C8C-9F80-40C5-9F0A-8F65BDD2B9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F12BB-C682-4D7C-B21F-F64B86060D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BC814-87D2-45A0-8972-E61405F1EC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F751C-0D04-4A66-ABE4-A9209E02C1F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G28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1" descr="cover_back"/>
          <p:cNvPicPr/>
          <p:nvPr/>
        </p:nvPicPr>
        <p:blipFill>
          <a:blip r:embed="rId2"/>
          <a:stretch/>
        </p:blipFill>
        <p:spPr>
          <a:xfrm>
            <a:off x="0" y="1974960"/>
            <a:ext cx="9163080" cy="3352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6" descr="bar_white_bot"/>
          <p:cNvPicPr/>
          <p:nvPr/>
        </p:nvPicPr>
        <p:blipFill>
          <a:blip r:embed="rId3"/>
          <a:srcRect l="0" t="0" r="0" b="1708"/>
          <a:stretch/>
        </p:blipFill>
        <p:spPr>
          <a:xfrm>
            <a:off x="0" y="5303880"/>
            <a:ext cx="9144000" cy="1554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8" descr="bar_white_2"/>
          <p:cNvPicPr/>
          <p:nvPr/>
        </p:nvPicPr>
        <p:blipFill>
          <a:blip r:embed="rId4"/>
          <a:stretch/>
        </p:blipFill>
        <p:spPr>
          <a:xfrm>
            <a:off x="0" y="0"/>
            <a:ext cx="9144000" cy="2009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4" descr="bar_white_2"/>
          <p:cNvPicPr/>
          <p:nvPr/>
        </p:nvPicPr>
        <p:blipFill>
          <a:blip r:embed="rId5"/>
          <a:srcRect l="47468" t="0" r="4235" b="0"/>
          <a:stretch/>
        </p:blipFill>
        <p:spPr>
          <a:xfrm>
            <a:off x="4178160" y="0"/>
            <a:ext cx="4416480" cy="2009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9" descr="logo"/>
          <p:cNvPicPr/>
          <p:nvPr/>
        </p:nvPicPr>
        <p:blipFill>
          <a:blip r:embed="rId6"/>
          <a:stretch/>
        </p:blipFill>
        <p:spPr>
          <a:xfrm>
            <a:off x="1460520" y="817560"/>
            <a:ext cx="3782880" cy="4046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5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G28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7" descr="bar_white_bot"/>
          <p:cNvPicPr/>
          <p:nvPr/>
        </p:nvPicPr>
        <p:blipFill>
          <a:blip r:embed="rId7"/>
          <a:srcRect l="36562" t="0" r="27741" b="1708"/>
          <a:stretch/>
        </p:blipFill>
        <p:spPr>
          <a:xfrm>
            <a:off x="3151080" y="5303880"/>
            <a:ext cx="3264120" cy="15541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0"/>
          <p:cNvSpPr/>
          <p:nvPr/>
        </p:nvSpPr>
        <p:spPr>
          <a:xfrm>
            <a:off x="608040" y="6226200"/>
            <a:ext cx="28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77777"/>
                </a:solidFill>
                <a:latin typeface="Arial"/>
                <a:ea typeface="SimHei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8" descr="bar_white_bot"/>
          <p:cNvPicPr/>
          <p:nvPr/>
        </p:nvPicPr>
        <p:blipFill>
          <a:blip r:embed="rId8"/>
          <a:srcRect l="0" t="95606" r="0" b="0"/>
          <a:stretch/>
        </p:blipFill>
        <p:spPr>
          <a:xfrm>
            <a:off x="0" y="6770520"/>
            <a:ext cx="9144000" cy="698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13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over_back_8"/>
          <p:cNvPicPr/>
          <p:nvPr/>
        </p:nvPicPr>
        <p:blipFill>
          <a:blip r:embed="rId1"/>
          <a:stretch/>
        </p:blipFill>
        <p:spPr>
          <a:xfrm>
            <a:off x="-9360" y="1978200"/>
            <a:ext cx="9153360" cy="3352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7" descr="gray_bot"/>
          <p:cNvPicPr/>
          <p:nvPr/>
        </p:nvPicPr>
        <p:blipFill>
          <a:blip r:embed="rId2"/>
          <a:stretch/>
        </p:blipFill>
        <p:spPr>
          <a:xfrm>
            <a:off x="0" y="5303880"/>
            <a:ext cx="9163080" cy="15811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1640" y="2347920"/>
            <a:ext cx="722484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idue Quad Tree Depth for Chroma in Intra cod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09600" y="3933720"/>
            <a:ext cx="86630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Xin Zhao, Xun Guo, Xiang Li, Shawmin Lei, Siwei Ma and Wen Ga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ediaTek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logo"/>
          <p:cNvPicPr/>
          <p:nvPr/>
        </p:nvPicPr>
        <p:blipFill>
          <a:blip r:embed="rId3"/>
          <a:stretch/>
        </p:blipFill>
        <p:spPr>
          <a:xfrm>
            <a:off x="1460520" y="817560"/>
            <a:ext cx="3782880" cy="404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bar_white_bot"/>
          <p:cNvPicPr/>
          <p:nvPr/>
        </p:nvPicPr>
        <p:blipFill>
          <a:blip r:embed="rId4"/>
          <a:srcRect l="0" t="95606" r="0" b="0"/>
          <a:stretch/>
        </p:blipFill>
        <p:spPr>
          <a:xfrm>
            <a:off x="0" y="6781680"/>
            <a:ext cx="9144000" cy="698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3"/>
          <p:cNvSpPr/>
          <p:nvPr/>
        </p:nvSpPr>
        <p:spPr>
          <a:xfrm>
            <a:off x="5724360" y="5621400"/>
            <a:ext cx="311004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Hei"/>
              </a:rPr>
              <a:t>Presented by Xiang 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Hei"/>
              </a:rPr>
              <a:t>7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SimHei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Hei"/>
              </a:rPr>
              <a:t> JCT-VC Meeting in Gene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Hei"/>
              </a:rPr>
              <a:t>21-30 November,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3" descr="icon_1"/>
          <p:cNvPicPr/>
          <p:nvPr/>
        </p:nvPicPr>
        <p:blipFill>
          <a:blip r:embed="rId5"/>
          <a:stretch/>
        </p:blipFill>
        <p:spPr>
          <a:xfrm>
            <a:off x="863640" y="4572000"/>
            <a:ext cx="581040" cy="590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4" descr="icon_5"/>
          <p:cNvPicPr/>
          <p:nvPr/>
        </p:nvPicPr>
        <p:blipFill>
          <a:blip r:embed="rId6"/>
          <a:stretch/>
        </p:blipFill>
        <p:spPr>
          <a:xfrm>
            <a:off x="2533680" y="4572000"/>
            <a:ext cx="590400" cy="590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5" descr="icon_2"/>
          <p:cNvPicPr/>
          <p:nvPr/>
        </p:nvPicPr>
        <p:blipFill>
          <a:blip r:embed="rId7"/>
          <a:stretch/>
        </p:blipFill>
        <p:spPr>
          <a:xfrm>
            <a:off x="7567560" y="4572000"/>
            <a:ext cx="590760" cy="590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6" descr="icon_3"/>
          <p:cNvPicPr/>
          <p:nvPr/>
        </p:nvPicPr>
        <p:blipFill>
          <a:blip r:embed="rId8"/>
          <a:stretch/>
        </p:blipFill>
        <p:spPr>
          <a:xfrm>
            <a:off x="4219560" y="4572000"/>
            <a:ext cx="581040" cy="590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7" descr="icon_4"/>
          <p:cNvPicPr/>
          <p:nvPr/>
        </p:nvPicPr>
        <p:blipFill>
          <a:blip r:embed="rId9"/>
          <a:stretch/>
        </p:blipFill>
        <p:spPr>
          <a:xfrm>
            <a:off x="5891040" y="4572000"/>
            <a:ext cx="581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all 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RQT depth setting is proposed for chroma in intra cod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fault setting of RQT depth in intra coding i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al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HM4.0 and test conditions of JCTVC-F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BD-rate reductions o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-0.0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-1.7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-1.7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HE-A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-0.2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-2.4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-2.5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LC-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oding runtime is almost the same as that of HM4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oding runtime is slightly reduced (2%~4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F2D1E-5DBA-4763-B461-4BB83B9ED61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HM 4.0, the RQT depth of luma is reused for chro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use of luma RQT depth avoids additional cost for decidng and signaling of chroma RQT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in JCTVC-D060, it is reported that RQT introduces losses for Chro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E6CA1-BC88-4995-8E77-67323387440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25"/>
          <p:cNvGrpSpPr/>
          <p:nvPr/>
        </p:nvGrpSpPr>
        <p:grpSpPr>
          <a:xfrm>
            <a:off x="2320200" y="1571760"/>
            <a:ext cx="1786680" cy="1785960"/>
            <a:chOff x="2320200" y="1571760"/>
            <a:chExt cx="1786680" cy="1785960"/>
          </a:xfrm>
        </p:grpSpPr>
        <p:sp>
          <p:nvSpPr>
            <p:cNvPr id="115" name="Straight Connector 7"/>
            <p:cNvSpPr/>
            <p:nvPr/>
          </p:nvSpPr>
          <p:spPr>
            <a:xfrm>
              <a:off x="2320200" y="2465640"/>
              <a:ext cx="178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Straight Connector 11"/>
            <p:cNvSpPr/>
            <p:nvPr/>
          </p:nvSpPr>
          <p:spPr>
            <a:xfrm>
              <a:off x="3214800" y="1571760"/>
              <a:ext cx="0" cy="1785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18"/>
            <p:cNvGrpSpPr/>
            <p:nvPr/>
          </p:nvGrpSpPr>
          <p:grpSpPr>
            <a:xfrm>
              <a:off x="2320920" y="1571760"/>
              <a:ext cx="1785960" cy="1785960"/>
              <a:chOff x="2320920" y="1571760"/>
              <a:chExt cx="1785960" cy="1785960"/>
            </a:xfrm>
          </p:grpSpPr>
          <p:sp>
            <p:nvSpPr>
              <p:cNvPr id="118" name="Rectangle 5"/>
              <p:cNvSpPr/>
              <p:nvPr/>
            </p:nvSpPr>
            <p:spPr>
              <a:xfrm>
                <a:off x="2320920" y="1571760"/>
                <a:ext cx="1785960" cy="1785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Straight Connector 13"/>
              <p:cNvSpPr/>
              <p:nvPr/>
            </p:nvSpPr>
            <p:spPr>
              <a:xfrm>
                <a:off x="3214800" y="2929320"/>
                <a:ext cx="892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Straight Connector 14"/>
              <p:cNvSpPr/>
              <p:nvPr/>
            </p:nvSpPr>
            <p:spPr>
              <a:xfrm>
                <a:off x="3678480" y="2465640"/>
                <a:ext cx="0" cy="892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Straight Connector 16"/>
              <p:cNvSpPr/>
              <p:nvPr/>
            </p:nvSpPr>
            <p:spPr>
              <a:xfrm>
                <a:off x="2320920" y="2036880"/>
                <a:ext cx="893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Straight Connector 17"/>
              <p:cNvSpPr/>
              <p:nvPr/>
            </p:nvSpPr>
            <p:spPr>
              <a:xfrm>
                <a:off x="2786040" y="1571760"/>
                <a:ext cx="0" cy="893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" name="Group 26"/>
          <p:cNvGrpSpPr/>
          <p:nvPr/>
        </p:nvGrpSpPr>
        <p:grpSpPr>
          <a:xfrm>
            <a:off x="5159520" y="2035080"/>
            <a:ext cx="893520" cy="893880"/>
            <a:chOff x="5159520" y="2035080"/>
            <a:chExt cx="893520" cy="893880"/>
          </a:xfrm>
        </p:grpSpPr>
        <p:sp>
          <p:nvSpPr>
            <p:cNvPr id="124" name="Straight Connector 27"/>
            <p:cNvSpPr/>
            <p:nvPr/>
          </p:nvSpPr>
          <p:spPr>
            <a:xfrm>
              <a:off x="5159520" y="2482920"/>
              <a:ext cx="89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Straight Connector 28"/>
            <p:cNvSpPr/>
            <p:nvPr/>
          </p:nvSpPr>
          <p:spPr>
            <a:xfrm>
              <a:off x="5607000" y="2035080"/>
              <a:ext cx="0" cy="89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Group 18"/>
            <p:cNvGrpSpPr/>
            <p:nvPr/>
          </p:nvGrpSpPr>
          <p:grpSpPr>
            <a:xfrm>
              <a:off x="5159520" y="2035080"/>
              <a:ext cx="893520" cy="893880"/>
              <a:chOff x="5159520" y="2035080"/>
              <a:chExt cx="893520" cy="893880"/>
            </a:xfrm>
          </p:grpSpPr>
          <p:sp>
            <p:nvSpPr>
              <p:cNvPr id="127" name="Rectangle 30"/>
              <p:cNvSpPr/>
              <p:nvPr/>
            </p:nvSpPr>
            <p:spPr>
              <a:xfrm>
                <a:off x="5159520" y="2035080"/>
                <a:ext cx="893520" cy="8938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Straight Connector 31"/>
              <p:cNvSpPr/>
              <p:nvPr/>
            </p:nvSpPr>
            <p:spPr>
              <a:xfrm>
                <a:off x="5607000" y="2714760"/>
                <a:ext cx="446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Straight Connector 32"/>
              <p:cNvSpPr/>
              <p:nvPr/>
            </p:nvSpPr>
            <p:spPr>
              <a:xfrm>
                <a:off x="5838840" y="2482920"/>
                <a:ext cx="0" cy="446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Straight Connector 33"/>
              <p:cNvSpPr/>
              <p:nvPr/>
            </p:nvSpPr>
            <p:spPr>
              <a:xfrm>
                <a:off x="5159520" y="2266920"/>
                <a:ext cx="447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Straight Connector 34"/>
              <p:cNvSpPr/>
              <p:nvPr/>
            </p:nvSpPr>
            <p:spPr>
              <a:xfrm>
                <a:off x="5391000" y="2035080"/>
                <a:ext cx="0" cy="447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TextBox 35"/>
          <p:cNvSpPr/>
          <p:nvPr/>
        </p:nvSpPr>
        <p:spPr>
          <a:xfrm>
            <a:off x="2678040" y="33577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36"/>
          <p:cNvSpPr/>
          <p:nvPr/>
        </p:nvSpPr>
        <p:spPr>
          <a:xfrm>
            <a:off x="5106960" y="33577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r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urved Down Arrow 37"/>
          <p:cNvSpPr/>
          <p:nvPr/>
        </p:nvSpPr>
        <p:spPr>
          <a:xfrm>
            <a:off x="4210200" y="1803240"/>
            <a:ext cx="938160" cy="231840"/>
          </a:xfrm>
          <a:custGeom>
            <a:avLst/>
            <a:gdLst>
              <a:gd name="textAreaLeft" fmla="*/ 212760 w 938160"/>
              <a:gd name="textAreaRight" fmla="*/ 696600 w 938160"/>
              <a:gd name="textAreaTop" fmla="*/ 30960 h 231840"/>
              <a:gd name="textAreaBottom" fmla="*/ 200880 h 231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800" hR="21600" stAng="10800000" swAng="5400000"/>
                <a:lnTo>
                  <a:pt x="11134" y="0"/>
                </a:lnTo>
                <a:arcTo wR="9800" hR="21600" stAng="-5400000" swAng="3878389"/>
                <a:lnTo>
                  <a:pt x="21381" y="17059"/>
                </a:lnTo>
                <a:lnTo>
                  <a:pt x="20266" y="21600"/>
                </a:lnTo>
                <a:lnTo>
                  <a:pt x="18713" y="17059"/>
                </a:lnTo>
                <a:lnTo>
                  <a:pt x="19380" y="17059"/>
                </a:lnTo>
                <a:arcTo wR="9800" hR="21600" stAng="-1521611" swAng="-3772019"/>
                <a:lnTo>
                  <a:pt x="10467" y="50"/>
                </a:lnTo>
                <a:arcTo wR="9800" hR="21600" stAng="-5506369" swAng="-5293631"/>
                <a:close/>
              </a:path>
              <a:path fill="darkenLess" w="21600" h="21600">
                <a:moveTo>
                  <a:pt x="0" y="21600"/>
                </a:moveTo>
                <a:arcTo wR="9800" hR="21600" stAng="10800000" swAng="5400000"/>
                <a:lnTo>
                  <a:pt x="9800" y="0"/>
                </a:lnTo>
                <a:arcTo wR="9800" hR="21600" stAng="-5400000" swAng="106369"/>
                <a:lnTo>
                  <a:pt x="10467" y="50"/>
                </a:lnTo>
                <a:arcTo wR="9800" hR="21600" stAng="-5506369" swAng="-5293631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ed metho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e to the different statistics between chroma and luma, we propose independent signaling of max intra RQT depth for chroma in S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C6AAB-FE58-438D-B9A2-E791A88FC6A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143080" y="2286000"/>
          <a:ext cx="4799160" cy="2529000"/>
        </p:xfrm>
        <a:graphic>
          <a:graphicData uri="http://schemas.openxmlformats.org/drawingml/2006/table">
            <a:tbl>
              <a:tblPr/>
              <a:tblGrid>
                <a:gridCol w="3621240"/>
                <a:gridCol w="1177920"/>
              </a:tblGrid>
              <a:tr h="228600">
                <a:tc>
                  <a:txBody>
                    <a:bodyPr lIns="91080" rIns="91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eq_parameter_set_rbsp( ) {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escripto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91080" rIns="91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320">
                <a:tc>
                  <a:txBody>
                    <a:bodyPr lIns="91080" rIns="91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log2_diff_max_min_transform_block_siz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e(v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040">
                <a:tc>
                  <a:txBody>
                    <a:bodyPr lIns="91080" rIns="91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log2_min_pcm_coding_block_size_minus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e(v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400">
                <a:tc>
                  <a:txBody>
                    <a:bodyPr lIns="91080" rIns="91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ax_transform_hierarchy_depth_inte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e(v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040">
                <a:tc>
                  <a:txBody>
                    <a:bodyPr lIns="91080" rIns="91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ax_transform_hierarchy_depth_intr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e(v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400">
                <a:tc>
                  <a:txBody>
                    <a:bodyPr lIns="91080" rIns="91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en-GB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max_transform_ depth_intra_chrom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1080" rIns="91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Malgun Gothic"/>
                        </a:rPr>
                        <a:t>ue(v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203040">
                <a:tc>
                  <a:txBody>
                    <a:bodyPr lIns="91080" rIns="91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hroma_pred_from_luma_enabled_fla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040">
                <a:tc>
                  <a:txBody>
                    <a:bodyPr lIns="91080" rIns="91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loop_filter_across_slice_fla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1080" rIns="91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1080" rIns="91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ed metho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chroma presents smoother texture, and prefers larger transform, we propose default setting of max RQT depth as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void 32x32 transform for chroma, which is not in the current design of HEVC, we propose the default setting 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1741C-1A1F-4325-B486-1EF5706BA53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31"/>
          <p:cNvGrpSpPr/>
          <p:nvPr/>
        </p:nvGrpSpPr>
        <p:grpSpPr>
          <a:xfrm>
            <a:off x="1321560" y="2781360"/>
            <a:ext cx="2001240" cy="2000160"/>
            <a:chOff x="1321560" y="2781360"/>
            <a:chExt cx="2001240" cy="2000160"/>
          </a:xfrm>
        </p:grpSpPr>
        <p:sp>
          <p:nvSpPr>
            <p:cNvPr id="143" name="Straight Connector 121"/>
            <p:cNvSpPr/>
            <p:nvPr/>
          </p:nvSpPr>
          <p:spPr>
            <a:xfrm>
              <a:off x="1321560" y="3781440"/>
              <a:ext cx="2000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Straight Connector 122"/>
            <p:cNvSpPr/>
            <p:nvPr/>
          </p:nvSpPr>
          <p:spPr>
            <a:xfrm>
              <a:off x="2322360" y="2781360"/>
              <a:ext cx="0" cy="200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24"/>
            <p:cNvSpPr/>
            <p:nvPr/>
          </p:nvSpPr>
          <p:spPr>
            <a:xfrm>
              <a:off x="1322280" y="2781360"/>
              <a:ext cx="2000520" cy="200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Rectangle 28"/>
          <p:cNvSpPr/>
          <p:nvPr/>
        </p:nvSpPr>
        <p:spPr>
          <a:xfrm>
            <a:off x="4000680" y="2797200"/>
            <a:ext cx="1000080" cy="1000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2"/>
          <p:cNvSpPr/>
          <p:nvPr/>
        </p:nvSpPr>
        <p:spPr>
          <a:xfrm>
            <a:off x="5738760" y="2797200"/>
            <a:ext cx="523800" cy="500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3"/>
          <p:cNvSpPr/>
          <p:nvPr/>
        </p:nvSpPr>
        <p:spPr>
          <a:xfrm>
            <a:off x="7180200" y="2797200"/>
            <a:ext cx="214200" cy="214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34"/>
          <p:cNvSpPr/>
          <p:nvPr/>
        </p:nvSpPr>
        <p:spPr>
          <a:xfrm>
            <a:off x="1619280" y="4797360"/>
            <a:ext cx="182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4x64 C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35"/>
          <p:cNvSpPr/>
          <p:nvPr/>
        </p:nvSpPr>
        <p:spPr>
          <a:xfrm>
            <a:off x="3780000" y="3933720"/>
            <a:ext cx="147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2x32 C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36"/>
          <p:cNvSpPr/>
          <p:nvPr/>
        </p:nvSpPr>
        <p:spPr>
          <a:xfrm>
            <a:off x="5435640" y="342900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x16 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37"/>
          <p:cNvSpPr/>
          <p:nvPr/>
        </p:nvSpPr>
        <p:spPr>
          <a:xfrm>
            <a:off x="6877080" y="3068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x8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eft Brace 38"/>
          <p:cNvSpPr/>
          <p:nvPr/>
        </p:nvSpPr>
        <p:spPr>
          <a:xfrm rot="16200000">
            <a:off x="2246400" y="4503600"/>
            <a:ext cx="350640" cy="1801800"/>
          </a:xfrm>
          <a:custGeom>
            <a:avLst/>
            <a:gdLst>
              <a:gd name="textAreaLeft" fmla="*/ 223920 w 350640"/>
              <a:gd name="textAreaRight" fmla="*/ 351000 w 350640"/>
              <a:gd name="textAreaTop" fmla="*/ 9000 h 1801800"/>
              <a:gd name="textAreaBottom" fmla="*/ 1792800 h 180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5"/>
                  <a:pt x="10800" y="349"/>
                </a:cubicBezTo>
                <a:lnTo>
                  <a:pt x="10800" y="10451"/>
                </a:lnTo>
                <a:cubicBezTo>
                  <a:pt x="10800" y="10626"/>
                  <a:pt x="5400" y="10800"/>
                  <a:pt x="0" y="10800"/>
                </a:cubicBezTo>
                <a:cubicBezTo>
                  <a:pt x="5400" y="10800"/>
                  <a:pt x="10800" y="10975"/>
                  <a:pt x="10800" y="11149"/>
                </a:cubicBezTo>
                <a:lnTo>
                  <a:pt x="10800" y="21251"/>
                </a:lnTo>
                <a:cubicBezTo>
                  <a:pt x="10800" y="2142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eft Brace 39"/>
          <p:cNvSpPr/>
          <p:nvPr/>
        </p:nvSpPr>
        <p:spPr>
          <a:xfrm rot="16200000">
            <a:off x="5888880" y="3691440"/>
            <a:ext cx="351000" cy="3444840"/>
          </a:xfrm>
          <a:custGeom>
            <a:avLst/>
            <a:gdLst>
              <a:gd name="textAreaLeft" fmla="*/ 224280 w 351000"/>
              <a:gd name="textAreaRight" fmla="*/ 351000 w 351000"/>
              <a:gd name="textAreaTop" fmla="*/ 9000 h 3444840"/>
              <a:gd name="textAreaBottom" fmla="*/ 3435840 h 3444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2"/>
                  <a:pt x="10800" y="183"/>
                </a:cubicBezTo>
                <a:lnTo>
                  <a:pt x="10800" y="10617"/>
                </a:lnTo>
                <a:cubicBezTo>
                  <a:pt x="10800" y="10709"/>
                  <a:pt x="5400" y="10800"/>
                  <a:pt x="0" y="10800"/>
                </a:cubicBezTo>
                <a:cubicBezTo>
                  <a:pt x="5400" y="10800"/>
                  <a:pt x="10800" y="10892"/>
                  <a:pt x="10800" y="10983"/>
                </a:cubicBezTo>
                <a:lnTo>
                  <a:pt x="10800" y="21417"/>
                </a:lnTo>
                <a:cubicBezTo>
                  <a:pt x="10800" y="2150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40"/>
          <p:cNvSpPr/>
          <p:nvPr/>
        </p:nvSpPr>
        <p:spPr>
          <a:xfrm>
            <a:off x="1801800" y="5589720"/>
            <a:ext cx="13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th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41"/>
          <p:cNvSpPr/>
          <p:nvPr/>
        </p:nvSpPr>
        <p:spPr>
          <a:xfrm>
            <a:off x="5478480" y="5589720"/>
            <a:ext cx="13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th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ulation Resul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chor – HM4.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condition: AI-HE, AI-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 Intel for crosschecking (JCTVC-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9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投影片編號版面配置區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41AB9-A33C-487F-9BE1-FD2194CDFEA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ulation Resul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al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投影片編號版面配置區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A8F13-E3ED-4A1D-A416-2E215372CFD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608040" y="5000760"/>
          <a:ext cx="8055000" cy="795240"/>
        </p:xfrm>
        <a:graphic>
          <a:graphicData uri="http://schemas.openxmlformats.org/drawingml/2006/table">
            <a:tbl>
              <a:tblPr/>
              <a:tblGrid>
                <a:gridCol w="1398600"/>
                <a:gridCol w="3328920"/>
                <a:gridCol w="3327480"/>
              </a:tblGrid>
              <a:tr h="264960">
                <a:tc>
                  <a:txBody>
                    <a:bodyPr lIns="110520" rIns="110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Crossche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0520" rIns="110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HE-A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0520" rIns="110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LC-A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110520" rIns="110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Enc Time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110520" rIns="110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0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110520" rIns="110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99"/>
                          </a:solidFill>
                          <a:latin typeface="Times New Roman"/>
                          <a:ea typeface="宋体"/>
                        </a:rPr>
                        <a:t>98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265320">
                <a:tc>
                  <a:txBody>
                    <a:bodyPr lIns="110520" rIns="110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Dec Time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110520" rIns="110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7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110520" rIns="110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99"/>
                          </a:solidFill>
                          <a:latin typeface="Times New Roman"/>
                          <a:ea typeface="宋体"/>
                        </a:rPr>
                        <a:t>98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608040" y="1905120"/>
          <a:ext cx="8113680" cy="2590560"/>
        </p:xfrm>
        <a:graphic>
          <a:graphicData uri="http://schemas.openxmlformats.org/drawingml/2006/table">
            <a:tbl>
              <a:tblPr/>
              <a:tblGrid>
                <a:gridCol w="1409760"/>
                <a:gridCol w="1116000"/>
                <a:gridCol w="1117440"/>
                <a:gridCol w="1117800"/>
                <a:gridCol w="1116000"/>
                <a:gridCol w="1117440"/>
                <a:gridCol w="1119240"/>
              </a:tblGrid>
              <a:tr h="259560">
                <a:tc rowSpan="2">
                  <a:txBody>
                    <a:bodyPr lIns="113760" rIns="113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3760" marR="11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113760" rIns="113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AI-H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3760" marR="11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13760" rIns="113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AI-LC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3760" marR="11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13760" rIns="113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3760" marR="11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3760" rIns="113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U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3760" marR="11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3760" rIns="113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V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3760" marR="11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3760" rIns="113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3760" marR="11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3760" rIns="113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U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3760" marR="11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3760" rIns="113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V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3760" marR="11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560">
                <a:tc>
                  <a:txBody>
                    <a:bodyPr lIns="113760" rIns="113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Class 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3760" marR="11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3760" rIns="113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0.0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3760" marR="11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3760" rIns="113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-1.5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3760" marR="11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3760" rIns="113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-1.4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3760" marR="11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3760" rIns="113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-0.1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3760" marR="11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3760" rIns="113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-2.0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3760" marR="11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3760" rIns="113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-2.3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3760" marR="11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560">
                <a:tc>
                  <a:txBody>
                    <a:bodyPr lIns="113760" rIns="113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Class B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3760" marR="11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3760" rIns="113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-0.1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3760" marR="11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3760" rIns="113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-1.8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3760" marR="11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3760" rIns="113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-1.8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3760" marR="11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3760" rIns="113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-0.3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3760" marR="11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3760" rIns="113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-2.4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3760" marR="11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3760" rIns="113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-3.0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3760" marR="11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560">
                <a:tc>
                  <a:txBody>
                    <a:bodyPr lIns="113760" rIns="113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Class C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3760" marR="11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3760" rIns="113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0.0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3760" marR="11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3760" rIns="113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-1.3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3760" marR="11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3760" rIns="113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-1.5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3760" marR="11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3760" rIns="113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-0.2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3760" marR="11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3760" rIns="113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-1.5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3760" marR="11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3760" rIns="113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-1.9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3760" marR="11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560">
                <a:tc>
                  <a:txBody>
                    <a:bodyPr lIns="113760" rIns="113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Class 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3760" marR="11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3760" rIns="113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0.0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3760" marR="11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3760" rIns="113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-1.5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3760" marR="11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3760" rIns="113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-1.7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3760" marR="11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3760" rIns="113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-0.1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3760" marR="11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3760" rIns="113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-1.1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3760" marR="11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3760" rIns="113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-1.2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3760" marR="11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560">
                <a:tc>
                  <a:txBody>
                    <a:bodyPr lIns="113760" rIns="113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Class 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3760" marR="11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3760" rIns="113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-0.1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3760" marR="11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3760" rIns="113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-2.3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3760" marR="11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3760" rIns="113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-2.2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3760" marR="11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3760" rIns="113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-0.2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3760" marR="11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3760" rIns="113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-5.9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3760" marR="11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3760" rIns="113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-4.7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3760" marR="11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560">
                <a:tc>
                  <a:txBody>
                    <a:bodyPr lIns="113760" rIns="113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All Av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3760" marR="11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113760" rIns="113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-0.04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3760" marR="11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113760" rIns="113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-1.67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3760" marR="11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113760" rIns="113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-1.70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3760" marR="11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113760" rIns="113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-0.20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3760" marR="11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113760" rIns="113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-2.43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3760" marR="11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113760" rIns="113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-2.53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3760" marR="11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259560">
                <a:tc>
                  <a:txBody>
                    <a:bodyPr lIns="113760" rIns="113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Enc Time (%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3760" marR="11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gridSpan="3">
                  <a:txBody>
                    <a:bodyPr lIns="113760" rIns="113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9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3760" marR="11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13760" rIns="113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99"/>
                          </a:solidFill>
                          <a:latin typeface="Calibri"/>
                          <a:ea typeface="宋体"/>
                        </a:rPr>
                        <a:t>98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3760" marR="11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9560">
                <a:tc>
                  <a:txBody>
                    <a:bodyPr lIns="113760" rIns="113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Dec Time (%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3760" marR="11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gridSpan="3">
                  <a:txBody>
                    <a:bodyPr lIns="113760" rIns="113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6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3760" marR="11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13760" rIns="113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99"/>
                          </a:solidFill>
                          <a:latin typeface="Calibri"/>
                          <a:ea typeface="宋体"/>
                        </a:rPr>
                        <a:t>96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3760" marR="11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27120" y="1123560"/>
            <a:ext cx="819288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due Quad Tree Depth for Chroma in Intra coding is prop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aling of max intra chroma RQT depth in S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ault setting of max intra chroma RQT depth as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Chroma BD-rate reduction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-0.0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-1.7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-1.7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HE-A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-0.2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-2.4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-2.5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LC-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d to HM4.0, the encoding runtime is almost the same, decoding runtime is slightly reduced (2%~4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6A298-76B5-43AA-8484-B5217170B8C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cover_back_8"/>
          <p:cNvPicPr/>
          <p:nvPr/>
        </p:nvPicPr>
        <p:blipFill>
          <a:blip r:embed="rId1"/>
          <a:stretch/>
        </p:blipFill>
        <p:spPr>
          <a:xfrm>
            <a:off x="-9360" y="1978200"/>
            <a:ext cx="9153360" cy="33526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1" descr="gray_bot"/>
          <p:cNvPicPr/>
          <p:nvPr/>
        </p:nvPicPr>
        <p:blipFill>
          <a:blip r:embed="rId2"/>
          <a:stretch/>
        </p:blipFill>
        <p:spPr>
          <a:xfrm>
            <a:off x="0" y="5303880"/>
            <a:ext cx="9163080" cy="15811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gray_top"/>
          <p:cNvPicPr/>
          <p:nvPr/>
        </p:nvPicPr>
        <p:blipFill>
          <a:blip r:embed="rId3"/>
          <a:stretch/>
        </p:blipFill>
        <p:spPr>
          <a:xfrm>
            <a:off x="-9360" y="0"/>
            <a:ext cx="9162720" cy="20098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logo"/>
          <p:cNvPicPr/>
          <p:nvPr/>
        </p:nvPicPr>
        <p:blipFill>
          <a:blip r:embed="rId4"/>
          <a:stretch/>
        </p:blipFill>
        <p:spPr>
          <a:xfrm>
            <a:off x="1460520" y="817560"/>
            <a:ext cx="3782880" cy="404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bar_white_bot"/>
          <p:cNvPicPr/>
          <p:nvPr/>
        </p:nvPicPr>
        <p:blipFill>
          <a:blip r:embed="rId5"/>
          <a:srcRect l="0" t="95606" r="0" b="0"/>
          <a:stretch/>
        </p:blipFill>
        <p:spPr>
          <a:xfrm>
            <a:off x="0" y="6781680"/>
            <a:ext cx="9144000" cy="6984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15"/>
          <p:cNvSpPr/>
          <p:nvPr/>
        </p:nvSpPr>
        <p:spPr>
          <a:xfrm>
            <a:off x="3226320" y="3282840"/>
            <a:ext cx="271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SimHe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2" descr="icon_1"/>
          <p:cNvPicPr/>
          <p:nvPr/>
        </p:nvPicPr>
        <p:blipFill>
          <a:blip r:embed="rId6"/>
          <a:stretch/>
        </p:blipFill>
        <p:spPr>
          <a:xfrm>
            <a:off x="863640" y="4572000"/>
            <a:ext cx="581040" cy="5904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3" descr="icon_5"/>
          <p:cNvPicPr/>
          <p:nvPr/>
        </p:nvPicPr>
        <p:blipFill>
          <a:blip r:embed="rId7"/>
          <a:stretch/>
        </p:blipFill>
        <p:spPr>
          <a:xfrm>
            <a:off x="2533680" y="4572000"/>
            <a:ext cx="590400" cy="5904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4" descr="icon_2"/>
          <p:cNvPicPr/>
          <p:nvPr/>
        </p:nvPicPr>
        <p:blipFill>
          <a:blip r:embed="rId8"/>
          <a:stretch/>
        </p:blipFill>
        <p:spPr>
          <a:xfrm>
            <a:off x="7567560" y="4572000"/>
            <a:ext cx="590760" cy="5904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5" descr="icon_3"/>
          <p:cNvPicPr/>
          <p:nvPr/>
        </p:nvPicPr>
        <p:blipFill>
          <a:blip r:embed="rId9"/>
          <a:stretch/>
        </p:blipFill>
        <p:spPr>
          <a:xfrm>
            <a:off x="4219560" y="4572000"/>
            <a:ext cx="581040" cy="5904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6" descr="icon_4"/>
          <p:cNvPicPr/>
          <p:nvPr/>
        </p:nvPicPr>
        <p:blipFill>
          <a:blip r:embed="rId10"/>
          <a:stretch/>
        </p:blipFill>
        <p:spPr>
          <a:xfrm>
            <a:off x="5891040" y="4572000"/>
            <a:ext cx="581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09:40:59Z</dcterms:created>
  <dc:creator>Chia-Yang Tsai (MediaTek)</dc:creator>
  <dc:description>Confidential A</dc:description>
  <cp:keywords>Confidential A</cp:keywords>
  <dc:language>en-US</dc:language>
  <cp:lastModifiedBy>xun guo</cp:lastModifiedBy>
  <dcterms:modified xsi:type="dcterms:W3CDTF">2011-11-24T13:38:03Z</dcterms:modified>
  <cp:revision>1525</cp:revision>
  <dc:subject/>
  <dc:title>Title: Arial Bold 32pt</dc:title>
</cp:coreProperties>
</file>