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3E7A-4249-4FD1-8557-96CB68E9BD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CACE-5EFA-459E-B26A-64F2BDA41C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7478-FF67-4D6A-B195-7847DD5DDE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5BD6-8B80-42FA-835D-C0FE0E6DCF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CD96-9B29-4478-A8FE-109ABA6FBF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35BD-1EAC-4C24-A1BD-37474A8B17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06CC-6A8B-461D-ACC7-CA54047E9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EBD8-0C5A-4E89-8624-6B7BD815A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32E6-E5D6-4D8C-A370-3B115FF93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5F63-FD79-487C-9D1D-7964D4FF4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BE4C-D6A7-4B43-B790-9A5A0E2C8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7094-1E2B-4931-BAB7-BDAC65C08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F071-BB4B-4B66-83AE-64C1DA733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E64F-3E5D-4885-8A65-35493498C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6204-34EE-45E8-8C2E-8E1348F48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28DB-95C3-4621-A61F-70129EA5A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1546-0EE2-4EF9-913D-4AEFF1338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B77C-3F7B-4803-AE2C-8FC9CFAE5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9967-E812-44D1-B833-B29410E59B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1640" y="2347920"/>
            <a:ext cx="7224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Non-CE7: Mode-Dependent DCT/DST for Chro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in Zhao, Xun Guo, Mei Guo, Shawmin Lei, Siwei Ma and Wen G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bar_white_bot"/>
          <p:cNvPicPr/>
          <p:nvPr/>
        </p:nvPicPr>
        <p:blipFill>
          <a:blip r:embed="rId4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21-30 November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icon_1"/>
          <p:cNvPicPr/>
          <p:nvPr/>
        </p:nvPicPr>
        <p:blipFill>
          <a:blip r:embed="rId5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icon_5"/>
          <p:cNvPicPr/>
          <p:nvPr/>
        </p:nvPicPr>
        <p:blipFill>
          <a:blip r:embed="rId6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icon_2"/>
          <p:cNvPicPr/>
          <p:nvPr/>
        </p:nvPicPr>
        <p:blipFill>
          <a:blip r:embed="rId7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con_3"/>
          <p:cNvPicPr/>
          <p:nvPr/>
        </p:nvPicPr>
        <p:blipFill>
          <a:blip r:embed="rId8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icon_4"/>
          <p:cNvPicPr/>
          <p:nvPr/>
        </p:nvPicPr>
        <p:blipFill>
          <a:blip r:embed="rId9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3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FEED-F3D9-4138-8BCC-288FF2BA4A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442880" y="1393920"/>
          <a:ext cx="6369120" cy="4343400"/>
        </p:xfrm>
        <a:graphic>
          <a:graphicData uri="http://schemas.openxmlformats.org/drawingml/2006/table">
            <a:tbl>
              <a:tblPr/>
              <a:tblGrid>
                <a:gridCol w="3273480"/>
                <a:gridCol w="1511280"/>
                <a:gridCol w="158436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hroma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izontal Trans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ertical Trans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M= 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M≠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izo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er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right-down diagonal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4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9472-ED72-442E-8D32-0AFFC07BD7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42880" y="1393920"/>
          <a:ext cx="6369120" cy="4343400"/>
        </p:xfrm>
        <a:graphic>
          <a:graphicData uri="http://schemas.openxmlformats.org/drawingml/2006/table">
            <a:tbl>
              <a:tblPr/>
              <a:tblGrid>
                <a:gridCol w="3273480"/>
                <a:gridCol w="1511280"/>
                <a:gridCol w="158436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hroma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izontal Trans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ertical Trans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M= 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M≠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Horizo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Ver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Malgun Gothic"/>
                        </a:rPr>
                        <a:t>right-down diagonal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7BA7-1289-4F1F-BE67-04285A72E7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– HM4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1, 2,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ondition: HE-AI and LC-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Samsung for crosschecking (JCTVC-G8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B25E-578D-4A22-ABE3-BEC5031432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693F-17DC-443E-8A85-AE2E660AC3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87280" y="1700280"/>
          <a:ext cx="6985080" cy="2238480"/>
        </p:xfrm>
        <a:graphic>
          <a:graphicData uri="http://schemas.openxmlformats.org/drawingml/2006/table">
            <a:tbl>
              <a:tblPr/>
              <a:tblGrid>
                <a:gridCol w="1213200"/>
                <a:gridCol w="961920"/>
                <a:gridCol w="961920"/>
                <a:gridCol w="961920"/>
                <a:gridCol w="962280"/>
                <a:gridCol w="961920"/>
                <a:gridCol w="961920"/>
              </a:tblGrid>
              <a:tr h="27972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ntra,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ntra, L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48E0-A3ED-47A7-84BC-131C100B77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1700280"/>
          <a:ext cx="6953040" cy="2238480"/>
        </p:xfrm>
        <a:graphic>
          <a:graphicData uri="http://schemas.openxmlformats.org/drawingml/2006/table">
            <a:tbl>
              <a:tblPr/>
              <a:tblGrid>
                <a:gridCol w="1207800"/>
                <a:gridCol w="957600"/>
                <a:gridCol w="958680"/>
                <a:gridCol w="955800"/>
                <a:gridCol w="958680"/>
                <a:gridCol w="955800"/>
                <a:gridCol w="958680"/>
              </a:tblGrid>
              <a:tr h="27972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ntra,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ntra, L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1C0F-AF24-499A-AAF6-1D0BAA1D3D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039680" y="1700280"/>
          <a:ext cx="7277400" cy="2238480"/>
        </p:xfrm>
        <a:graphic>
          <a:graphicData uri="http://schemas.openxmlformats.org/drawingml/2006/table">
            <a:tbl>
              <a:tblPr/>
              <a:tblGrid>
                <a:gridCol w="1263960"/>
                <a:gridCol w="1001520"/>
                <a:gridCol w="1003320"/>
                <a:gridCol w="1001880"/>
                <a:gridCol w="1001520"/>
                <a:gridCol w="1003320"/>
                <a:gridCol w="1001880"/>
              </a:tblGrid>
              <a:tr h="27972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ntra,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ntra, L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819C-939A-4DA3-A9A2-5B2FD441E0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111320" y="1643040"/>
          <a:ext cx="7348320" cy="2798640"/>
        </p:xfrm>
        <a:graphic>
          <a:graphicData uri="http://schemas.openxmlformats.org/drawingml/2006/table">
            <a:tbl>
              <a:tblPr/>
              <a:tblGrid>
                <a:gridCol w="1278000"/>
                <a:gridCol w="1009440"/>
                <a:gridCol w="1014480"/>
                <a:gridCol w="1009800"/>
                <a:gridCol w="1012680"/>
                <a:gridCol w="1012680"/>
                <a:gridCol w="1011240"/>
              </a:tblGrid>
              <a:tr h="27972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ntra,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ntra, L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205A-5AFF-4DCD-ABDF-A6375DD8E6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11320" y="1643040"/>
          <a:ext cx="7348320" cy="2798640"/>
        </p:xfrm>
        <a:graphic>
          <a:graphicData uri="http://schemas.openxmlformats.org/drawingml/2006/table">
            <a:tbl>
              <a:tblPr/>
              <a:tblGrid>
                <a:gridCol w="1278000"/>
                <a:gridCol w="1009440"/>
                <a:gridCol w="1014480"/>
                <a:gridCol w="1009800"/>
                <a:gridCol w="1012680"/>
                <a:gridCol w="1012680"/>
                <a:gridCol w="1011240"/>
              </a:tblGrid>
              <a:tr h="27972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RA,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RA, L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-dependent DCT/DST is extended to 4x4 ch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BD-rate reduction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0.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0.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HE-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.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.2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C-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.0%, -0.9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-1.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HE-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.0%, -1.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-1.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LC-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n time is almost the same as that of HM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AAF6-E5CD-4F2D-B376-5AF846B954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-dependent DCT/DST method is proposed to be extended to 4x4 chroma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M4.0 and test conditions of JCTVC-F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BD-rate reductions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0.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0.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HE-A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BD-rate reductions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.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.2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C-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the same as that of HM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046-0122-4346-84DD-C42D25B8FA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A443-E762-4DA7-AE81-95B8E5D30C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-dependent DCT/D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HM4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4x4 Luma block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ection of column and row transform matrices is determined by it’s intra predict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9B28-BAAC-4DD0-B795-2E2B6E51E8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7"/>
          <p:cNvSpPr/>
          <p:nvPr/>
        </p:nvSpPr>
        <p:spPr>
          <a:xfrm>
            <a:off x="2324160" y="486900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T Matrix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8"/>
          <p:cNvSpPr/>
          <p:nvPr/>
        </p:nvSpPr>
        <p:spPr>
          <a:xfrm>
            <a:off x="5148360" y="486900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T Matrix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23"/>
          <p:cNvGraphicFramePr/>
          <p:nvPr/>
        </p:nvGraphicFramePr>
        <p:xfrm>
          <a:off x="1984320" y="3041640"/>
          <a:ext cx="235440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4320" y="3041640"/>
                    <a:ext cx="235440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24"/>
          <p:cNvGraphicFramePr/>
          <p:nvPr/>
        </p:nvGraphicFramePr>
        <p:xfrm>
          <a:off x="4802040" y="3041640"/>
          <a:ext cx="235440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2040" y="3041640"/>
                    <a:ext cx="235440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T/DST Se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nd horizontal transform is selected according to a look-up-tab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T: 1     DCT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M4.0, DCT/DST is applied only for 4x4 lum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193A-BFA2-4886-AC4C-0EC3A5A300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4360" y="2349360"/>
          <a:ext cx="7818120" cy="828720"/>
        </p:xfrm>
        <a:graphic>
          <a:graphicData uri="http://schemas.openxmlformats.org/drawingml/2006/table">
            <a:tbl>
              <a:tblPr/>
              <a:tblGrid>
                <a:gridCol w="502920"/>
                <a:gridCol w="216000"/>
                <a:gridCol w="155520"/>
                <a:gridCol w="203400"/>
                <a:gridCol w="203040"/>
                <a:gridCol w="204840"/>
                <a:gridCol w="206280"/>
                <a:gridCol w="203400"/>
                <a:gridCol w="203040"/>
                <a:gridCol w="204840"/>
                <a:gridCol w="203400"/>
                <a:gridCol w="204480"/>
                <a:gridCol w="204840"/>
                <a:gridCol w="203400"/>
                <a:gridCol w="204840"/>
                <a:gridCol w="204480"/>
                <a:gridCol w="204840"/>
                <a:gridCol w="203400"/>
                <a:gridCol w="204840"/>
                <a:gridCol w="203040"/>
                <a:gridCol w="206280"/>
                <a:gridCol w="203400"/>
                <a:gridCol w="204840"/>
                <a:gridCol w="203040"/>
                <a:gridCol w="204840"/>
                <a:gridCol w="203040"/>
                <a:gridCol w="206640"/>
                <a:gridCol w="203040"/>
                <a:gridCol w="203040"/>
                <a:gridCol w="204840"/>
                <a:gridCol w="206640"/>
                <a:gridCol w="203040"/>
                <a:gridCol w="203040"/>
                <a:gridCol w="204840"/>
                <a:gridCol w="204840"/>
                <a:gridCol w="204840"/>
                <a:gridCol w="203040"/>
              </a:tblGrid>
              <a:tr h="2764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</a:tr>
              <a:tr h="2764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d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a Inta m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7120" y="1123560"/>
            <a:ext cx="7905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M4.0, 6 chroma intra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, Vertical, Planar, DC, DM, 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of Horizontal, Vertical, Planar, DC is equal to DM, it is replaced by Right-down diag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all chroma modes, only DCT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1A4B-B92D-48D6-9A3B-8B400562F3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6EED-2F45-4BAD-AE56-E298391291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1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2A3B-467D-4DDE-9901-5F7B03644F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442880" y="1393920"/>
          <a:ext cx="6369120" cy="4343400"/>
        </p:xfrm>
        <a:graphic>
          <a:graphicData uri="http://schemas.openxmlformats.org/drawingml/2006/table">
            <a:tbl>
              <a:tblPr/>
              <a:tblGrid>
                <a:gridCol w="3273480"/>
                <a:gridCol w="1511280"/>
                <a:gridCol w="158436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hroma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izontal Trans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ertical Trans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M= 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M≠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Horizo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Ver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right-down diagonal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F53E-1B6E-4EF8-AAD3-EA822909EF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42880" y="1393920"/>
          <a:ext cx="6369120" cy="4343400"/>
        </p:xfrm>
        <a:graphic>
          <a:graphicData uri="http://schemas.openxmlformats.org/drawingml/2006/table">
            <a:tbl>
              <a:tblPr/>
              <a:tblGrid>
                <a:gridCol w="3273480"/>
                <a:gridCol w="1511280"/>
                <a:gridCol w="158436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hroma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izontal Trans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ertical Trans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M= 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M≠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Pla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SimSun"/>
                        </a:rPr>
                        <a:t>D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izo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er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right-down diagonal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1-11-22T05:28:24Z</dcterms:modified>
  <cp:revision>1519</cp:revision>
  <dc:subject/>
  <dc:title>Title: Arial Bold 32pt</dc:title>
</cp:coreProperties>
</file>