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3B4C-17FE-4AD7-89AD-9F405AD88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EAE-27E0-4DDA-9CD7-FA2E8345C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5B79-F0D2-4A9C-83D8-7850D4DBF8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E394-9CCA-42F4-836E-86E4DD63F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81BD-6E15-4C62-92B5-6FF621CB6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9E94-A4E3-465C-AB2D-F78EEE99B0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35659B-8553-49E9-98C6-A6010460EA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711745-D47C-435B-B106-7D7834297A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875BA-129A-4E96-9971-D266E71ABB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D7FC9-F236-4C80-AD8F-A35AF097D4F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75141D-DB3C-4E3C-82C7-407810AB93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72B5CB-58A4-4CFA-A22F-C956AC061D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62F26-BF44-4AE4-9A73-68E477DD2F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57206-AE9A-41B8-B0E1-B90FBF418A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7B4A34-E5E6-47EB-B08E-DBAA442D9C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A4778-1B5C-4913-9EF4-0D5CFB69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B576-CB1E-4A57-A7F0-4FC9365E629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E4DD8-6FF9-4AB6-9D5B-822780D68E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C3AF-B231-453E-8A4E-90E9A75F520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23251-2D9C-4A0B-BE84-1399EA53C6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8DA2C-6683-45CF-8FB2-CC0A04A04F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F0515-C470-4184-8A23-0C87FBECEF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B88B-A0AC-488A-A06E-4FD68F07B9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4751B-A15F-474E-B5CC-B9F40808ED6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35E4-39FA-43CB-BD71-ED1044817B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6AEA-0A77-4EE1-833A-081A97CAE0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B62D8-238B-433D-B5EB-B8BA70B40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0893-1BF4-43F7-A9BA-561EF1F9EB7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FA7A-1741-466F-A04C-AF591EFF4B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F97CCC-74B6-47C6-A2C4-3CAA67067D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54486-C977-450B-A4FD-BA3CB6DC76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F23F68-7385-437B-91EA-5B8E3A9CF4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41543-A435-46A4-98E0-F47324DAFC8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1D225-D67A-4F36-AB9B-2C3FCC4DC8E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20C03-D7EA-40BB-AC80-EBCAA35175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8CC0C-39B4-4992-95C9-0A23DF42B09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E9C84-F1B2-4597-8654-E4D5D1FA632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BC529-FC7A-4AB1-9213-D88649C7E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57C26-8230-4F5F-9B88-9A581CFEAE0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F8C35-B88B-4679-9731-AED5CAE022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718BC-197A-44AF-BCAC-48E44E3476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91F0BB-BA80-481D-8B5A-82A22662FF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7DF5B8-B65A-4115-B67D-53D017E146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B9259C-8C33-4EEC-BF98-6DEC44170E8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099A3-506A-4F1F-A789-C838C5F6226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9084D5-BA4E-42C3-AD58-C595581EEC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25C87-49D1-4DD4-9D4B-B4EE244A4D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BBB60B-CFA8-427B-BBD8-621B3192AE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C0DA5-C821-419C-A033-C410FE86C8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61CE8-0FB9-46CB-8BBF-4690885472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65B3F-7EE7-40EB-A084-B3462A7938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1D1F14-B4A5-41CC-9308-1A9FE58F7A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540682-EB18-4A9B-A8C8-F4F9CEB2A91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85C7-04BE-4C72-A9CE-84FA03AB34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3C99-9871-43FB-AFCE-59CEE34085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F990-8688-4B2F-8CC3-2F8EAF30B13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67BEF-51E8-46CC-BA10-8A0DB777E15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825B-D03C-493C-8941-8533CE042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70695-EBC2-4DF8-B63C-D6AD89E04E5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AA83-D3E5-41F2-8204-0F5C027BFC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D931-3177-40E2-9AA7-C1EBD2F206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72ADC-521B-48F7-A069-C37CCF762E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E6F4-1BC3-4C93-8FE0-74084B9A5A6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4D5BB-2214-42CF-8A48-1C5B2AF137B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9643-D73B-4635-AF82-AE87B209B0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896E-2E35-4595-9024-18754B1F7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6FBC-D7BC-4B0E-8DDF-4EA492EFFA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0E7FC-E267-4436-A438-90DD05B0AD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1CABE-E948-48A3-AA6E-F45CE1FD0E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C73D7-A5CF-4C42-8D4F-971A873752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15938-1282-4CD0-B5E3-F24A25696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5264-D8C3-45B5-B57F-BF4AD888D0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8343E-B5FA-4A75-82C7-9BA248A8C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EBDD1-BA42-4ADB-9889-17AADFBF3E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70F4-1288-4EA6-96FB-F15AEBD65D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0EAA-44E8-4A2F-9364-532E62DC73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7FF6-0EFF-46F4-B231-C895E6BA5E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BA4A3-E5C8-4F5B-9033-F24BCDE11C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220C-6552-438B-9000-441DA882C1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CC5A-72B3-4816-82E1-B967FF857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577C-426C-4A7E-AC57-BB2EDE9239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BF5B-ACFE-407D-81E3-C31E12500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1F58-E922-4294-B624-3AC2D9AC8B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2628-E0A8-4E96-A3A6-2EEC2F6825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50C9-CCE4-4206-B09A-12ADC9E265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0F43-816B-4D32-890F-3FE10B2AC4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ED56-D183-41D9-A43D-7E5C6412FE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83D2-5BC5-4F90-9C05-519C6AB84B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305-038F-486A-A151-D6AA4B9CD7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FBD4-B04D-4E00-AEED-AC91DC6620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967-F4E7-40C0-AF94-09093A20D1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F189-12F7-4F10-BF96-6860A6591D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63862-74C9-4BD6-8793-D4E7E0251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03C4-FB3A-4079-B67D-02F815EA41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0F30F-EE96-49CE-83C5-CCD02AEE0F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3FA98-F9CE-4130-B77A-B03083D5AA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F43D7-CF85-4D67-A944-501F268640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DF57B-54DC-4C6D-AC37-5188186423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EDD18-CB93-4E30-899F-D5A7F58C59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F35CA-FB1A-40F8-92D8-6C0C7F470A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53182-8835-49C1-A674-AB7DCDF208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B3F62-E556-4A74-AC78-854135574B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25639-BBC0-40F6-9372-80AD2E84994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A2D3F-EA79-4B15-9A45-30BA73197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4EFC-6C65-41A8-95E8-607BFA6FDB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10560-4A60-469C-8204-9A92AABD363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CA383-11EF-49DB-9360-6672BB727F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5A846-35F6-45D9-89AA-6C382F87BF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D507DE-9C05-4C1D-89E1-8355C8CEF5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6D108-26EB-495C-BC54-943F1485E2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FDB5D-210B-4C8C-B418-B86AF48B566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1149C-DA69-4F31-9160-0525495F25D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B6DEE-6CB3-43A3-8F94-CED4E3BE165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A285F-BA8C-4D0D-9471-B669F00A70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94895-72B0-4AB2-B6A6-EC22B2DDB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9064-55C0-46AD-877B-F990820E00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B78F3-29B9-4E70-8C70-017823266B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3DE24-52F9-4B5C-9B70-3E7983B4FC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85E75-AB32-4046-A854-5ECC128D902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A211-A7FE-4FAB-B605-F2468F03DF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30C6-598F-404E-B521-64F4BE3DD1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A70F-AF2E-44F5-81B3-A83F1758BF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095FA-EBA9-458F-B7B1-144F24B196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8040-D03E-4755-ACC3-3C5CCFD873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AEA9B-B59F-4C5E-A88F-577ED25B84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CCF7F-A845-4B7A-B4D9-1074E6FA4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DE95-82F3-4BC5-998E-67EDE73C7F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5B32-630E-46BE-BDF6-140A59D0D0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2030-E683-4183-8B23-329AC44065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E6FA8-64FE-448A-993D-25B661CE1D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46B2-DAC7-4231-B4E1-85A8BE07D6F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1523-A7DD-499E-8009-5105E68E26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ABC52-30C4-4708-A90B-80D64CFA7F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73C6B-E849-4E8F-85D4-D2CA8F7B80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C6487-7C64-4DED-8391-B7FAA47312A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58F1B-AD32-4464-AFC8-238989AD595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A5087-92E3-4DC4-99CC-BFF904D5F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7C90-CCFE-46BB-A834-0728E4B610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010D0-6108-4BF7-A1B7-8CE22291D8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A2919-9DC3-4EDB-9F9B-80739AE86F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288A4-A897-46AD-8049-3C8BB68270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3ECEF-DF7C-4C4A-8DD4-C5FC5778D70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5C885-3E58-44FE-9539-9B7D0596BE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029BD-22D4-4EF2-9361-0A5E3E9DEC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0665D-6514-4FD3-9C77-77D5E3C525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08EA5-F02F-4155-ABCD-E713AA5DE3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778EF-D794-4F6F-9DC8-81BD50100C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45A81-3152-4CCB-AF3D-14BD7B1A8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9854-5EE1-4E32-AB1D-8996117888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1B86-2B99-49E6-AA63-8A8AE0918E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2ACC-04AF-4A7C-81EB-CEA9888AB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F828-5B2D-4837-8550-5D44F6ECE0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631-0311-4406-8D4F-CF1237EBD6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27EE-BAC9-46AA-87C3-54A618532B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E031-E808-413B-9413-4EFBEA2C5E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6CD-E19D-4A1E-B65B-969F4641B3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B382-3230-4EB5-8F60-4EFB9D6928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F2E-00B4-4EDA-AABF-3C5FD9A36B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BAA5-0441-4960-A462-DC3FB494C3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6C13-8F1C-4B0D-B07A-23E4EB13A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-Dependent Transform for Inter-Predicted Resid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icheng A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n Zha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Xun Guo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G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iang 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21-30,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between DCT-II and DCT-I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ouping the terms f[n] and f[N-1-n] of a DCT-II y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 index coefficients of the DCT-II are thus equal to the DCT-II of N/2-pt signal f[n]+f[N-1-n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dd index coefficients of the DCT-II are equal to the DCT-IV of N/2-pt signal f[n]-f[N-1-n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7EAB-AC73-4419-B494-AB477E4773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Object 1"/>
          <p:cNvGraphicFramePr/>
          <p:nvPr/>
        </p:nvGraphicFramePr>
        <p:xfrm>
          <a:off x="1143000" y="2071800"/>
          <a:ext cx="72151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71800"/>
                    <a:ext cx="72151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3"/>
          <p:cNvGraphicFramePr/>
          <p:nvPr/>
        </p:nvGraphicFramePr>
        <p:xfrm>
          <a:off x="1143000" y="2946240"/>
          <a:ext cx="707220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946240"/>
                    <a:ext cx="70722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2440" y="28584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between DCT-II and DCT-I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26760" y="928440"/>
            <a:ext cx="83739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fly structure for N-point DCT-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8-point and 16-point DCT-IV reuse the implementation of existing 32-point DCT-II and hence new transforms need not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E10, DCT-IV can be realized by full-factorized fast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E0B8-2FDD-4D97-AD4B-D53D802B6F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1"/>
          <p:cNvGraphicFramePr/>
          <p:nvPr/>
        </p:nvGraphicFramePr>
        <p:xfrm>
          <a:off x="2357280" y="1428840"/>
          <a:ext cx="430848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430848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2440" y="21420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26760" y="85680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when a 8x8 PU is split into four 4x4 TUs, the transform should be taken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16x16 PU is split into four 8x8 TUs, the transform should be tak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4FF-B5ED-4434-B714-C064566BED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Object 153"/>
          <p:cNvGraphicFramePr/>
          <p:nvPr/>
        </p:nvGraphicFramePr>
        <p:xfrm>
          <a:off x="6072120" y="1357200"/>
          <a:ext cx="200196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1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2120" y="1357200"/>
                    <a:ext cx="2001960" cy="2001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647" name="Straight Arrow Connector 9"/>
          <p:cNvCxnSpPr/>
          <p:nvPr/>
        </p:nvCxnSpPr>
        <p:spPr>
          <a:xfrm flipV="1">
            <a:off x="4071600" y="2142360"/>
            <a:ext cx="185796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648" name=""/>
          <p:cNvGraphicFramePr/>
          <p:nvPr/>
        </p:nvGraphicFramePr>
        <p:xfrm>
          <a:off x="1214280" y="1785960"/>
          <a:ext cx="2714760" cy="1573200"/>
        </p:xfrm>
        <a:graphic>
          <a:graphicData uri="http://schemas.openxmlformats.org/drawingml/2006/table">
            <a:tbl>
              <a:tblPr/>
              <a:tblGrid>
                <a:gridCol w="471600"/>
                <a:gridCol w="1162080"/>
                <a:gridCol w="1081080"/>
              </a:tblGrid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tic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1285920" y="4429080"/>
          <a:ext cx="2714760" cy="1573200"/>
        </p:xfrm>
        <a:graphic>
          <a:graphicData uri="http://schemas.openxmlformats.org/drawingml/2006/table">
            <a:tbl>
              <a:tblPr/>
              <a:tblGrid>
                <a:gridCol w="471600"/>
                <a:gridCol w="1161720"/>
                <a:gridCol w="1081440"/>
              </a:tblGrid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tic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650" name="Straight Arrow Connector 12"/>
          <p:cNvCxnSpPr/>
          <p:nvPr/>
        </p:nvCxnSpPr>
        <p:spPr>
          <a:xfrm flipV="1">
            <a:off x="4070880" y="2642400"/>
            <a:ext cx="1857960" cy="207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5840" y="384120"/>
            <a:ext cx="88581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able 1 (DST-VII) for 4,8,16-pt Trans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13840" y="1123560"/>
            <a:ext cx="30877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%~0.3% gain for 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% gain for 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ransforms for 8-pt and 16-pt DST-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4EF7-B901-4340-A31C-EFE0C8E08B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86080" y="1357200"/>
          <a:ext cx="5778720" cy="3591000"/>
        </p:xfrm>
        <a:graphic>
          <a:graphicData uri="http://schemas.openxmlformats.org/drawingml/2006/table">
            <a:tbl>
              <a:tblPr/>
              <a:tblGrid>
                <a:gridCol w="825480"/>
                <a:gridCol w="825480"/>
                <a:gridCol w="825480"/>
                <a:gridCol w="825480"/>
                <a:gridCol w="825480"/>
                <a:gridCol w="825480"/>
                <a:gridCol w="82584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distribution in a inter 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DCT-IV and DCT-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-dependent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D8C-0B40-4B20-9BE5-03ADD16A41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 prediction error in a 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distribution of inter predic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distribution in a 4x4 inter 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errors are larger near the PU boundaries than in the middle of the 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son of this effect may be the different MVs between two neighboring 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18F-F708-4B02-A49F-A312C0C4A6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1"/>
          <p:cNvGraphicFramePr/>
          <p:nvPr/>
        </p:nvGraphicFramePr>
        <p:xfrm>
          <a:off x="3038400" y="2023920"/>
          <a:ext cx="289080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2023920"/>
                    <a:ext cx="28908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 prediction error in a split 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U is split into multiple 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are larger near PU boundaries than near interior TU (non-PU)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distribution in TU at the top left corner. (basically decrease from left to right and from top to 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error is input of transform, as a result of the uneven error distribution, there is a potential for transform improv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T-VII and DCT-IV can adapt this distribution better than DCT-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4232-6D53-45A3-A853-C11012AB09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1"/>
          <p:cNvGraphicFramePr/>
          <p:nvPr/>
        </p:nvGraphicFramePr>
        <p:xfrm>
          <a:off x="2968560" y="2971800"/>
          <a:ext cx="366732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8560" y="2971800"/>
                    <a:ext cx="36673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-Dependent Trans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26760" y="1123560"/>
            <a:ext cx="83026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. 4-point transform mapping (using DST-VII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2. 8-point and 16-point transform mapping (using DCT-IV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DST-VII): Flip the DST-VII matrix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DCT-IV): Flip the DCT-IV matrix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12B-5A01-4B8E-A0E1-C7E536F8F2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168560" y="2100240"/>
          <a:ext cx="5410080" cy="1257480"/>
        </p:xfrm>
        <a:graphic>
          <a:graphicData uri="http://schemas.openxmlformats.org/drawingml/2006/table">
            <a:tbl>
              <a:tblPr/>
              <a:tblGrid>
                <a:gridCol w="901440"/>
                <a:gridCol w="901800"/>
                <a:gridCol w="901800"/>
                <a:gridCol w="901440"/>
                <a:gridCol w="901800"/>
                <a:gridCol w="901800"/>
              </a:tblGrid>
              <a:tr h="182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ST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(DST-V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1168560" y="3929040"/>
          <a:ext cx="5410080" cy="1257480"/>
        </p:xfrm>
        <a:graphic>
          <a:graphicData uri="http://schemas.openxmlformats.org/drawingml/2006/table">
            <a:tbl>
              <a:tblPr/>
              <a:tblGrid>
                <a:gridCol w="901440"/>
                <a:gridCol w="901800"/>
                <a:gridCol w="901800"/>
                <a:gridCol w="901440"/>
                <a:gridCol w="901800"/>
                <a:gridCol w="901800"/>
              </a:tblGrid>
              <a:tr h="182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 Bou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Tra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F(DCT-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DCT-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ary-dependent trans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26760" y="4143240"/>
            <a:ext cx="80550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% gain for RAHE and RA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% gain for LDHE and LD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w transform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F60-53D9-48AC-BB34-59B080D260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857160" y="1071720"/>
          <a:ext cx="4864320" cy="14000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57160" y="2643120"/>
          <a:ext cx="4864320" cy="140040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to adopt this boundary-dependent transform into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point DST-VII, 8-point and 16-point DCT-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 BD-rate gain for RA, 0.5% gain for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u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transform imple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4DB-A035-4250-9965-5904B7EE60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T-VII and DCT-I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-point DST-VII has been in current HEVC (for intra co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-point and 16-point DCT-IV are actually part of 32-point DCT-II which has been in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point DCT-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point DCT-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A91-66E2-4690-98A2-8D397BCA80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Object 1"/>
          <p:cNvGraphicFramePr/>
          <p:nvPr/>
        </p:nvGraphicFramePr>
        <p:xfrm>
          <a:off x="1089000" y="3357720"/>
          <a:ext cx="742644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3357720"/>
                    <a:ext cx="7426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3"/>
          <p:cNvGraphicFramePr/>
          <p:nvPr/>
        </p:nvGraphicFramePr>
        <p:xfrm>
          <a:off x="1089000" y="5000760"/>
          <a:ext cx="691200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9000" y="5000760"/>
                    <a:ext cx="6912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iang Li</cp:lastModifiedBy>
  <dcterms:modified xsi:type="dcterms:W3CDTF">2011-11-18T06:41:44Z</dcterms:modified>
  <cp:revision>1460</cp:revision>
  <dc:subject/>
  <dc:title>Title: Arial Bold 32pt</dc:title>
</cp:coreProperties>
</file>