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15.wmf" ContentType="image/x-wmf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793F-66D9-41CE-AF33-D25E2649D3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FF1F-1971-49DB-A3B7-7251056585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2262-D170-4E14-9953-C4AFDCE72C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7119-A47D-4A7F-8954-1E2B446B00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84D6-7140-4E15-A2C8-EE59E51BA9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B42D-C923-4710-B0EE-857AAD45E6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8EA1-A333-42E6-95B9-01AE242AF6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81DD-4504-4CC5-91FB-B11720FE2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F93B-A8E1-42CE-896A-AD7C37A2360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9B3078-8C67-4900-8B9C-296D6D78A0B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E52823-0E58-4FDA-8B72-24ED40987AC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88F7CE-C85C-423C-BCBA-7BE27460793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EB5A4A-2B83-4E3A-A362-18116DF0CB7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7FA053-16C4-4853-BAAB-418FA287491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A9E809-F8C4-4E8A-B421-3E11D0DC0A2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280E64-6292-4F22-9F75-B08BCDF50A8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D7074C-278D-4577-9E36-52314C894C7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15A741-BDD2-4271-A0A9-1CC9BA84844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B49B6-E10A-4346-A281-4A0E1A2BA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6862-91C7-449B-87D3-E6E1458A709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FDE14-1239-4AE5-850B-5F7B5685B1D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419D4-2821-4525-AF01-AF49531A42E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92A20-CB23-4BB2-A78B-6A5BD9C90BA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0F560-C1F5-42EE-9153-AA80D73C94A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9FBC5-3E25-4293-8F49-B955B7B1507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C4331-2F1F-4830-B911-E50BC9EDD96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58CA9-9B3D-4C03-B38D-C1AAE9CC5FE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FB7AF-C96E-4DF3-AF24-590914F1FA0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A89A5-D4C7-4B2A-A81A-0466FBD7B1C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349AB-8375-4EBC-8303-ABFC9E8EB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B3F2-B4C2-4AD9-A3F4-3A89E507724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280C7-D6E7-4505-BA70-31F1E140F16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A539AF-3119-4E9E-B507-DD0AD6F4409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237AF-2266-4DDD-A68B-08D1C06B500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1A7EA3-5E76-4F53-8B86-43A567C5CBF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687C59-DACF-42E5-96C9-756E69B0701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2DDB06-5B0E-4458-8560-B1DBFD921B1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959102-BE79-4228-9EFE-AD7AA4F8789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5F345-1B51-4512-B025-986D78E8F4E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4262B-D1F0-4EF4-B4FA-D5FAF193A55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666D69-4F0F-489C-8BE0-F9F07457C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9BAEA6-9705-46DB-8037-4C3EEDB9474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890C48-2519-4BBF-AD2B-EC6C78CE0E5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0F2C9C-FD23-4DC8-A09D-9B97FED3E97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16E359-9E2A-4CD0-9909-131DDD410C7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E8C6BE-6191-4B9B-95E1-6B6877BD48A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DBFEFC-D16C-488B-8441-20C05CC3382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3703E6-C3C4-430D-912E-0BA7B8BFA40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E67350-C5AA-45E5-82C1-1B0C81C3923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91202F-1A1F-402D-8CA6-79D0949A73F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DF07B3-CB9B-4667-9806-488463B372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7C0325-92FF-4AA5-8020-8414B263854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29FCDF-B047-4112-84D4-7EAFE1DE8F7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3DC738-EF66-4226-BA8F-3F18E6E8BA6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4B5B00-8B34-4718-ACAD-584933A7596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854E0B-AF4F-4ECC-A1DB-F876BCB3776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10D35-CFF6-4312-86CD-56EFA724566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83AE7-1E2C-43A2-BBEB-F7B730E2ABB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8A0AF-103F-41DD-9B6D-E63E79EFB5A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AC0B7-FF99-49C8-9F55-37F6E1E18EA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96E1F-43EF-4A88-AE3A-A97BC9A644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990F3-F0C2-44F9-97CC-C3CB76CD1F1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2AF4F-7756-4F47-BD4A-627C459EE2A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7C86F-3B55-43E9-85BF-554FFC969B8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A9126-7DF8-4650-85BD-098E7FDE769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24CB4-BB34-4F57-969A-66B4658BEBA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1EF63-B22B-4455-8615-87E4876D35D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C351A-A2AA-414B-97CB-B78658E34C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A9676-F692-4D79-9AC4-15A082A39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93AE9-1C36-4F34-8A63-0B73F05F20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333FE-E4EA-42BF-8993-4E027C740E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62841-871E-45BF-9AA4-C89A44C602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F1525-7707-4EB6-AB83-658415983E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490E7-AD01-4D78-9A01-6C076B8243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7182-AE63-45EC-956D-4BB8451B4E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2EAC4-CB5E-476C-96B9-014B6C4E90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9A1D7-1C92-4231-90E6-495D1C28E6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1A00B-77B7-4BAA-80AD-08FEB707D1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5E906-3771-408B-8F6E-AFD6E6A08A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07AEA-DAA5-4989-977D-C2205AB24A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A3F16-8D3E-446D-B430-9FE50A5749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8B654-5559-4A3D-8370-5701E56CDB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B3E7-EDAB-4953-B52B-6291510F35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646F-EB64-4C0E-A647-B6FDBDFBAE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0260-D30B-4D29-82D1-1A021867A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2472B-43FE-4836-BE51-F3E00B6363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2B99-4A51-4A08-B09E-45219F6B26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EB2E-BEED-4CD5-8A31-DDF4A0C201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90C8-3B38-4867-BE09-DC98172183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D682-02AD-4E0C-ADAA-829E042DB8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3D9B-F5F9-4A43-9801-40FAF1D9EB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873A-E965-40D1-BE48-0A35A01316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4913-4A58-4662-BBBD-ECDC1FDB0D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70B3-13E0-4890-AEA6-FBA7A1DB0C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1353-8206-4AAB-8607-A33E620C8E0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DD482-B69C-4EAF-9F1B-7F39ABABB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38235-B493-438A-A028-85993C1BECB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FDAE7-CC19-4C50-AFBA-F94B446007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D860D-01E0-4CEE-A328-8ED0D670BFB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A5240-BD53-49F6-A134-F6C4993DD29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B16E5-4BBE-424D-AC08-358A433AB1E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D758F-2B28-4493-829F-150F0C754B4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0616B-C6C4-445C-8A48-38879FA6633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83E57-1D71-4DAF-9A1B-DB66640588C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0F02C-88FC-4E5E-A15C-DB0776D01C7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38F8D-E3EA-4DFD-A0B8-1586D64FC02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E0950-262B-411E-8F76-CFC665365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AA8C-A863-49A4-BF98-88C7B80E88E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A2A1A-FF74-4748-AEF7-74B03220AAE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96B48B-16BC-4BE1-A27C-6A86E53644C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480DDC-6822-4FAF-8946-455D3623A76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D23F25-D64A-49D7-BDD5-4249B5EDF7F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3DDB8A-CEC6-47E6-AF1D-64197DEE488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C9D976-1E91-4B6B-806B-0380347278F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E1BCCE-A814-4762-BBA4-E434E520B38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942ABA-54C8-49C7-BAD4-EFDB3CF2547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B1BB32-BA77-4B5F-B198-9A33EFE8712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1A38DB-0D02-416E-A51E-DF9F5ED7B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0E022-CC56-4E6A-B314-52E2ADCE895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35ADF8-B89F-4051-911B-DB35EE5B108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0C2C69-B130-442E-BDE9-798F04BB27A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CAB4C-5BA5-4102-874C-F5112342A48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FF4E1-D242-4830-9D6C-B18A70C1E7C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35F10-9CF9-4EA5-BB09-1E36313D9B1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B2206-014A-4C7F-AFFE-6E1A50322EC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3CBAB-AFEB-4667-AC3B-EC1922C117D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146AA-DBA1-4BD6-AA19-5D702EBFAE3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FB349-DE14-404D-96AB-3F5D11B3846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A1A6D-664F-4358-93CF-88B022CC8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E282F-9C84-4506-BDBC-A03DAB28FAD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3A837-0638-4562-93B5-75076672CF3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46907-04BF-4815-9BDF-A47F9D36AF8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FED5C-E91D-4B86-9A5A-C30B383745A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01C62-6628-4F59-AB4B-9D409B0A407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312BC-F883-46F5-A484-72AC15B4D04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CD28D-22F4-4CF7-8E00-19691D17C30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6EFF16-93CC-4EA6-86C4-00305B0635E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B1934-929A-44FC-8CF2-4CDCDFD412C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F82DC-9759-4AD5-BFD1-51823277D14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A38B1-76EA-4474-9B05-BB585B2C4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088DA-EF87-4CDA-B84E-166F9BCADE3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194D4-F415-4FEF-9336-6801EE2ABBC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ED135-646A-4BB2-9E59-CAFEB773067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86246-8ABB-4A82-93BC-37EB116A246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BF896-9591-43B6-BB1D-B650CC2850D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F415E-D100-4633-893F-CD8C959395C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9330A-BE9B-4F2C-8662-EEDCCE4075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2541D-4BAA-4F5F-9E25-AE81E2B1917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6C17ED-0A78-4B2E-B9C1-2196FF4FF88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5D9A75-608C-41FF-AA0C-0C6C5FC0243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4ED697-471B-463C-9918-879DC8C7D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606D-D4D6-4592-B9FE-B675EC0484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17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18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350A-CCC7-4F23-A20A-C09D0049E9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B5C0-6A18-4FB0-B4B9-2098014BC4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ftr" idx="2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ED76-00ED-4AC9-812F-A5A81F6F6D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ftr" idx="2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sldNum" idx="2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6350-4EB0-45EB-82BB-C93975255C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8120-6BFC-4453-9EB4-48E6A8337C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5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6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3FEC-87AB-4EC9-9C73-EC1571093B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7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8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863A-9B03-4B90-97F2-B469E19537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9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0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FBDB-0E57-46DC-97F1-F6968A816A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F6CB-2AE6-4280-B2BF-F27CE0327F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ftr" idx="1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13B4-EF6A-4FB8-A147-37DAE8E8A1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15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16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9908-B9FD-4667-B36D-3585199CE6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6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9360" y="2347920"/>
            <a:ext cx="9153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ive Motion Vector Resolu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MVR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663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icheng An, Xiang Li, Xun Guo and Shawmin 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7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8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1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X.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21-30, Nov.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23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4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5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6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7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1/4-pixel MV positions (1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26760" y="1123560"/>
            <a:ext cx="473076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1/4-pixel MV positions (the red square around CT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_x ∈ [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x-TH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x+T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_y ∈ [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y-TH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y+T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T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riv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x = MVP_x&gt;&gt;1&lt;&lt;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y = MVP_y&gt;&gt;1&lt;&lt;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VP is in half or integer pixel position, MVP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T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incide as shown in this fig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0296-7DCD-4EF9-84F8-26D91FF7A1C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Object 10"/>
          <p:cNvGraphicFramePr/>
          <p:nvPr/>
        </p:nvGraphicFramePr>
        <p:xfrm>
          <a:off x="5545080" y="987480"/>
          <a:ext cx="359892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5080" y="987480"/>
                    <a:ext cx="359892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1/4-pixel MV positions (2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71320" y="1123560"/>
            <a:ext cx="491796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d Motion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4-pixel MV positions out of range don’t need to be sear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interpolation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interpolation counts (Mult and Ad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memor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MVD coding bits-&gt;BD-rate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not all the 1/4 pixel MV positions are neede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re efficient MVD deri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1B6E-0005-48A5-9F8C-F1CDE33F9B9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Object 10"/>
          <p:cNvGraphicFramePr/>
          <p:nvPr/>
        </p:nvGraphicFramePr>
        <p:xfrm>
          <a:off x="5500800" y="1042920"/>
          <a:ext cx="359892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0800" y="1042920"/>
                    <a:ext cx="359892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D deri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28400" y="1123560"/>
            <a:ext cx="837396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MVP and MV, the MVD is derived as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|MV_x-CTR_x| &gt;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D_x = (MV_x + CTR_x + sign(MV_x-CTR_x)*TH) /2 – MVP_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D_y = (MV_y – CTR_y)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if |MV_y-CTR_y| &gt;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D_x = (MV_x – CTR_x)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D_y = (MV_y + CTR_y + sign(MV_y-CTR_y)*TH) /2 – MVP_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// same as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D_x = MV_x – MVP_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D_y = MV_y – MVP_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1926-9068-4A5B-8868-CC22A8269BE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2440" y="4129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MVD deri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26760" y="1142640"/>
            <a:ext cx="4802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VD values of position A, B, and C are shown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M4.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(2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(4, -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(4,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MV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(2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(3,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(3, 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MVR, the MVD coding bits are re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3113-1182-454D-888C-0EED495581D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Object 8"/>
          <p:cNvGraphicFramePr/>
          <p:nvPr/>
        </p:nvGraphicFramePr>
        <p:xfrm>
          <a:off x="5473800" y="1214280"/>
          <a:ext cx="359892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3800" y="1214280"/>
                    <a:ext cx="3598920" cy="3370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2440" y="28584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 and LB Performance when TH=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38EA-512D-42B0-805C-FBDC719A132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4802040" y="1000080"/>
          <a:ext cx="4199040" cy="5145120"/>
        </p:xfrm>
        <a:graphic>
          <a:graphicData uri="http://schemas.openxmlformats.org/drawingml/2006/table">
            <a:tbl>
              <a:tblPr/>
              <a:tblGrid>
                <a:gridCol w="1143000"/>
                <a:gridCol w="509760"/>
                <a:gridCol w="509400"/>
                <a:gridCol w="508320"/>
                <a:gridCol w="509400"/>
                <a:gridCol w="509760"/>
                <a:gridCol w="509400"/>
              </a:tblGrid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s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2D) Ave.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2D) Max.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1D) Ave.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1D) Max.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s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2D) Ave.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2D) Max.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1D) Ave.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1D) Max.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5" name=""/>
          <p:cNvSpPr txBox="1"/>
          <p:nvPr/>
        </p:nvSpPr>
        <p:spPr>
          <a:xfrm>
            <a:off x="428760" y="1123560"/>
            <a:ext cx="43732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rat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% BD-rate 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% encoding time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%~8% interpolation counts re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%~4% memory access re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% memory bandwidth re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 Performance when TH=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8B37-FB29-4666-ACD7-306211B3615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26760" y="1123560"/>
            <a:ext cx="41590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rat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% BD-rate 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% encoding time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% interpolation counts re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% memory access re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% memory bandwidth re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4786200" y="1042920"/>
          <a:ext cx="4286520" cy="3171960"/>
        </p:xfrm>
        <a:graphic>
          <a:graphicData uri="http://schemas.openxmlformats.org/drawingml/2006/table">
            <a:tbl>
              <a:tblPr/>
              <a:tblGrid>
                <a:gridCol w="1254240"/>
                <a:gridCol w="504720"/>
                <a:gridCol w="505080"/>
                <a:gridCol w="506160"/>
                <a:gridCol w="505080"/>
                <a:gridCol w="506160"/>
                <a:gridCol w="505080"/>
              </a:tblGrid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2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2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1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1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PMVR without 1/8-pixel MV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Limited 1/4-pixel MV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Modification of MVD der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Threshold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MVR with 1/8-pixel MV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/8-pixel interpolation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mited 1/4-pixel and 1/8-pixel MV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ification of MVD der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shold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2341-EBCA-4A1B-BCAD-A03ADE2FDE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polation for 1/8-pixel re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tap 6-bit DCT-IF for 1/8-pixel luma inter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tap 6-bit DCT-IF for 1/16-pixel chroma inter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9F8A-5AD7-4A2B-9BB1-F33DA73D7FA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071720" y="1900080"/>
          <a:ext cx="6833880" cy="1171800"/>
        </p:xfrm>
        <a:graphic>
          <a:graphicData uri="http://schemas.openxmlformats.org/drawingml/2006/table">
            <a:tbl>
              <a:tblPr/>
              <a:tblGrid>
                <a:gridCol w="1143000"/>
                <a:gridCol w="607680"/>
                <a:gridCol w="727200"/>
                <a:gridCol w="725400"/>
                <a:gridCol w="725760"/>
                <a:gridCol w="726840"/>
                <a:gridCol w="725760"/>
                <a:gridCol w="725400"/>
                <a:gridCol w="726840"/>
              </a:tblGrid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si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Filte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effici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{-1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3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-6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62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9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-4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2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-1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/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{-2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2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0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0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1071720" y="3905280"/>
          <a:ext cx="6833880" cy="1676520"/>
        </p:xfrm>
        <a:graphic>
          <a:graphicData uri="http://schemas.openxmlformats.org/drawingml/2006/table">
            <a:tbl>
              <a:tblPr/>
              <a:tblGrid>
                <a:gridCol w="1143000"/>
                <a:gridCol w="1334880"/>
                <a:gridCol w="1451160"/>
                <a:gridCol w="1452600"/>
                <a:gridCol w="1452240"/>
              </a:tblGrid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si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Filte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effici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/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{-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/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{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9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3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/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{-6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/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{-7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6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57120" y="384120"/>
            <a:ext cx="77868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1/4- and 1/8-pixel MV pos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70920" y="1123560"/>
            <a:ext cx="4929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1/4-pixel MV pos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_x/y ∈ [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TR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x/y - THq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TR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x/y + THq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1/8-pixel MV pos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_x/y ∈ [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T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x/y - THe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T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x/y + TH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riv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T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x/y = MVP_x/y&gt;&gt;1&lt;&lt;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TR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riv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TR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x/y = (MVP_x/y+1)&gt;&gt;2&lt;&lt;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FA7F-C45F-4790-B42A-649EF5BD824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5" name="Object 4"/>
          <p:cNvGraphicFramePr/>
          <p:nvPr/>
        </p:nvGraphicFramePr>
        <p:xfrm>
          <a:off x="4829040" y="1260360"/>
          <a:ext cx="4243680" cy="42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9040" y="1260360"/>
                    <a:ext cx="4243680" cy="4297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D deri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26760" y="1123560"/>
            <a:ext cx="805500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MVP and MV, the MVD is derived as fo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|MV_x-CTRq_x| &gt;T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sign(MV_x-CTRq_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D_x = (MV_x + 2(CTRe_x+S*THe) + CTRq_x + S*THq)/4 - MVP_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D_y = (MV_y – CTRq_y)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if |MV_y-CTRq_y| &gt;T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sign(MV_y-CTRq_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D_x = (MV_x – CTRq_x)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D_y = (MV_y + 2(CTRe_y+S*THe) + CTRq_y + S*THq)/4 – MVP_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if |MV_x-CTRe_x| &gt;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D_x = (MV_x + CTRe_x + sign(MV_x-CTRe_x)*THe)/2 – MVP_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D_y = (MV_y – CTRe_y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if |MV_y-CTRe_y| &gt;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D_x = (MV_x – CTRe_x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D_y = (MV_y + CTRe_y + sign(MV_y-CTRe_y)*THe)/2 – MVP_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D_x = MV_x – MVP_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D_y = MV_y – MVP_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2C9E-FF8F-4307-997F-8A93F0714AC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27120" y="1123560"/>
            <a:ext cx="465912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higher MV resolution when MV is close to MVP and lower MV resolution when MV is far away from MV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t A: PMVR w/o 1/8-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MV resolution is 1/4-pixel, lowest is 1/2-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t B: PMVR with 1/8-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MV resolution is 1/8-pixel, lowest is 1/2-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B61E-F8CD-4661-A2D1-9813F48120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Object 8"/>
          <p:cNvGraphicFramePr/>
          <p:nvPr/>
        </p:nvGraphicFramePr>
        <p:xfrm>
          <a:off x="5473800" y="1785960"/>
          <a:ext cx="359892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3800" y="1785960"/>
                    <a:ext cx="3598920" cy="3370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MVD deri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213840" y="1123560"/>
            <a:ext cx="473076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VD values of position A, B, and C are shown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niform 1/8-pixel re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(1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(3, -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(7, 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MV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(1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(2,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(3, 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MVR, the MVD coding bits are re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08C2-FB8E-4AB3-88D8-9B2372FF501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Object 2"/>
          <p:cNvGraphicFramePr/>
          <p:nvPr/>
        </p:nvGraphicFramePr>
        <p:xfrm>
          <a:off x="4929120" y="1357200"/>
          <a:ext cx="4143600" cy="41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9120" y="1357200"/>
                    <a:ext cx="4143600" cy="4143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 and LB performance, THq=4, THe=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27120" y="1071720"/>
            <a:ext cx="3711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-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5% gain for 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35% gain for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.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%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olation cou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% increase for 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% reduction for 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% increase for 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% reduction for 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% increase for 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73B4-6FB7-4D25-9D07-A91F15D11ED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4624560" y="1071720"/>
          <a:ext cx="4090680" cy="5094000"/>
        </p:xfrm>
        <a:graphic>
          <a:graphicData uri="http://schemas.openxmlformats.org/drawingml/2006/table">
            <a:tbl>
              <a:tblPr/>
              <a:tblGrid>
                <a:gridCol w="1139760"/>
                <a:gridCol w="492120"/>
                <a:gridCol w="492120"/>
                <a:gridCol w="490320"/>
                <a:gridCol w="492120"/>
                <a:gridCol w="492120"/>
                <a:gridCol w="492120"/>
              </a:tblGrid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s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2D) Ave.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2D) Max.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1D) Ave.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1D) Max.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s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2D) Ave.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2D) Max.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1D) Ave.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1D) Max.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 performance, THq=4, THe=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26760" y="1123560"/>
            <a:ext cx="351612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-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% BD-rate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~7% encoding tim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~10% interpolation counts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% memory access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~1% memory bandwidth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DE5D-ABC0-44C7-A394-654B5FD3692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4373640" y="1123920"/>
          <a:ext cx="4699080" cy="3090960"/>
        </p:xfrm>
        <a:graphic>
          <a:graphicData uri="http://schemas.openxmlformats.org/drawingml/2006/table">
            <a:tbl>
              <a:tblPr/>
              <a:tblGrid>
                <a:gridCol w="1357200"/>
                <a:gridCol w="557280"/>
                <a:gridCol w="557280"/>
                <a:gridCol w="555480"/>
                <a:gridCol w="557280"/>
                <a:gridCol w="557280"/>
                <a:gridCol w="557280"/>
              </a:tblGrid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77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77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2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2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3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2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2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1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nd(1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PMVR without 1/8-pixel MV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Limited 1/4-pixel MV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Modification of MVD der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Threshold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PMVR with 1/8-pixel MV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1/8-pixel interpolation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Limited 1/4-pixel and 1/8-pixel MV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Modification of MVD der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Threshold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AF77-7324-4A78-AB21-AFDA0C9DD3D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MVR without 1/8-pix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cation for HM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BD-rate gain and complexity reduction can be achie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=2 for B slice and TH=4 for P slice in 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to be adopted by HEV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C616-F0FA-4872-8EDF-93FB78708B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571760" y="2614680"/>
          <a:ext cx="5857920" cy="1457280"/>
        </p:xfrm>
        <a:graphic>
          <a:graphicData uri="http://schemas.openxmlformats.org/drawingml/2006/table">
            <a:tbl>
              <a:tblPr/>
              <a:tblGrid>
                <a:gridCol w="3317760"/>
                <a:gridCol w="1482840"/>
                <a:gridCol w="1057320"/>
              </a:tblGrid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 and LB confi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P confi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-rate g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. time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. Interpolation counts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~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. Memory access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~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. Memory bandwidth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MVR with 1/8-pix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26760" y="1123560"/>
            <a:ext cx="805500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1/8-pixel interpolation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gain for LP configurations. (2.6% BD-rate gai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reduction or increase for different configu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q=4, THe=0 for B slice and THq=4, THe=2 for P slice in S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to be tested in 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4AC2-2A72-4FB7-8FB6-DD7257DFD58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563840" y="3214800"/>
          <a:ext cx="5937120" cy="1428480"/>
        </p:xfrm>
        <a:graphic>
          <a:graphicData uri="http://schemas.openxmlformats.org/drawingml/2006/table">
            <a:tbl>
              <a:tblPr/>
              <a:tblGrid>
                <a:gridCol w="2298600"/>
                <a:gridCol w="1339920"/>
                <a:gridCol w="1247760"/>
                <a:gridCol w="1050840"/>
              </a:tblGrid>
              <a:tr h="23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 confi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B confi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P confi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-rate g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. ti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~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. Interpolation cou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~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. Memory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. Memory bandwidt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~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8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15"/>
          <p:cNvSpPr/>
          <p:nvPr/>
        </p:nvSpPr>
        <p:spPr>
          <a:xfrm>
            <a:off x="3226320" y="32828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He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shold transmi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28760" y="1123560"/>
            <a:ext cx="857232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=2 for B slice and TH=4 for P slice as defa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enable more flexibility, send the TH index for B and P slice respectively in SPS from the four candidates shown in this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=+∞: uniform 1/4-pixel resolution same as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=0: 1/4-pixel resolution for merge/skip modes and 1/2-pixel resolution for other inter m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60E4-1967-49BA-A910-253D07D8044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714840" y="2892600"/>
          <a:ext cx="1614240" cy="1357200"/>
        </p:xfrm>
        <a:graphic>
          <a:graphicData uri="http://schemas.openxmlformats.org/drawingml/2006/table">
            <a:tbl>
              <a:tblPr/>
              <a:tblGrid>
                <a:gridCol w="807840"/>
                <a:gridCol w="806400"/>
              </a:tblGrid>
              <a:tr h="271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H in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+∞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shold transmi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26760" y="1123560"/>
            <a:ext cx="80550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(T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(4, 0) for B slices and (4, 2) for P slices as defa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enable more flexibility, send the TH pair (T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ndex for B and P slice respectively in SPS from the four candidates shown in this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(+∞, +∞): 1/8-pixel MV resolution is alway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(0, 0): 1/8-pixel resolution is used for skip/merge and 1/2-pixel resolution is used for other inter m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4921-8AE2-4C88-B9F5-FB48B1CE21A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235320" y="3286080"/>
          <a:ext cx="2206800" cy="1500120"/>
        </p:xfrm>
        <a:graphic>
          <a:graphicData uri="http://schemas.openxmlformats.org/drawingml/2006/table">
            <a:tbl>
              <a:tblPr/>
              <a:tblGrid>
                <a:gridCol w="1177920"/>
                <a:gridCol w="1028880"/>
              </a:tblGrid>
              <a:tr h="30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H pair 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TH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 TH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0, 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4, 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4, 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+∞, +∞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VR without 1/8-pixel MV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1/4-pixel MV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 of MVD der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VR with 1/8-pixel MV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8-pixel interpolation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1/4-pixel and 1/8-pixel MV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 of MVD der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E7EB-EA6F-4E3C-B854-326CBC7AB32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MVR without 1/8-pixel MV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mited 1/4-pixel MV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ification of MVD der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shold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PMVR with 1/8-pixel MV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1/8-pixel interpolation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Limited 1/4-pixel and 1/8-pixel MV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Modification of MVD der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Threshold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9038-4373-4A31-8FB9-16F2796EDF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iang Li</cp:lastModifiedBy>
  <dcterms:modified xsi:type="dcterms:W3CDTF">2011-11-18T06:53:21Z</dcterms:modified>
  <cp:revision>1457</cp:revision>
  <dc:subject/>
  <dc:title>Title: Arial Bold 32pt</dc:title>
</cp:coreProperties>
</file>